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media/image6.jpeg" ContentType="image/jpeg"/>
  <Override PartName="/ppt/media/image7.png" ContentType="image/png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_rels/slideLayout130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92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</p:sldMasterIdLst>
  <p:notesMasterIdLst>
    <p:notesMasterId r:id="rId35"/>
  </p:notesMasterIdLst>
  <p:sldIdLst>
    <p:sldId id="256" r:id="rId36"/>
  </p:sldIdLst>
  <p:sldSz cx="9144000" cy="6858000"/>
  <p:notesSz cx="68119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notesMaster" Target="notesMasters/notesMaster1.xml"/><Relationship Id="rId36" Type="http://schemas.openxmlformats.org/officeDocument/2006/relationships/slide" Target="slides/slide1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"/>
          <p:cNvSpPr/>
          <p:nvPr/>
        </p:nvSpPr>
        <p:spPr>
          <a:xfrm>
            <a:off x="0" y="0"/>
            <a:ext cx="68112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52720" cy="495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PlaceHolder 2"/>
          <p:cNvSpPr>
            <a:spLocks noGrp="1"/>
          </p:cNvSpPr>
          <p:nvPr>
            <p:ph type="dt" idx="44"/>
          </p:nvPr>
        </p:nvSpPr>
        <p:spPr>
          <a:xfrm>
            <a:off x="3855600" y="0"/>
            <a:ext cx="2954520" cy="495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Autofit/>
          </a:bodyPr>
          <a:lstStyle>
            <a:lvl1pPr marL="216000" indent="0" algn="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PlaceHolder 3"/>
          <p:cNvSpPr>
            <a:spLocks noGrp="1"/>
          </p:cNvSpPr>
          <p:nvPr>
            <p:ph type="sldImg"/>
          </p:nvPr>
        </p:nvSpPr>
        <p:spPr>
          <a:xfrm>
            <a:off x="923760" y="747360"/>
            <a:ext cx="4964400" cy="372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143f"/>
                </a:solidFill>
                <a:latin typeface="Arial Black"/>
              </a:rPr>
              <a:t>Click to move the slide</a:t>
            </a:r>
            <a:endParaRPr b="0" lang="en-US" sz="2000" spc="-1" strike="noStrike">
              <a:solidFill>
                <a:srgbClr val="00143f"/>
              </a:solidFill>
              <a:latin typeface="Arial Black"/>
            </a:endParaRPr>
          </a:p>
        </p:txBody>
      </p:sp>
      <p:sp>
        <p:nvSpPr>
          <p:cNvPr id="1416" name="PlaceHolder 4"/>
          <p:cNvSpPr>
            <a:spLocks noGrp="1"/>
          </p:cNvSpPr>
          <p:nvPr>
            <p:ph type="body"/>
          </p:nvPr>
        </p:nvSpPr>
        <p:spPr>
          <a:xfrm>
            <a:off x="684000" y="4726080"/>
            <a:ext cx="5443560" cy="4473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PlaceHolder 5"/>
          <p:cNvSpPr>
            <a:spLocks noGrp="1"/>
          </p:cNvSpPr>
          <p:nvPr>
            <p:ph type="ftr" idx="45"/>
          </p:nvPr>
        </p:nvSpPr>
        <p:spPr>
          <a:xfrm>
            <a:off x="0" y="9443520"/>
            <a:ext cx="2952720" cy="497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PlaceHolder 6"/>
          <p:cNvSpPr>
            <a:spLocks noGrp="1"/>
          </p:cNvSpPr>
          <p:nvPr>
            <p:ph type="sldNum" idx="46"/>
          </p:nvPr>
        </p:nvSpPr>
        <p:spPr>
          <a:xfrm>
            <a:off x="3855600" y="9443520"/>
            <a:ext cx="2954520" cy="497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  <a:defRPr b="0" lang="en-A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8643A2C0-0F73-4D0D-97E3-3F11EE8C8AAF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PlaceHolder 1"/>
          <p:cNvSpPr>
            <a:spLocks noGrp="1"/>
          </p:cNvSpPr>
          <p:nvPr>
            <p:ph type="sldImg"/>
          </p:nvPr>
        </p:nvSpPr>
        <p:spPr>
          <a:xfrm>
            <a:off x="923760" y="747720"/>
            <a:ext cx="4964400" cy="3724200"/>
          </a:xfrm>
          <a:prstGeom prst="rect">
            <a:avLst/>
          </a:prstGeom>
          <a:ln w="0">
            <a:noFill/>
          </a:ln>
        </p:spPr>
      </p:sp>
      <p:sp>
        <p:nvSpPr>
          <p:cNvPr id="1423" name="PlaceHolder 2"/>
          <p:cNvSpPr>
            <a:spLocks noGrp="1"/>
          </p:cNvSpPr>
          <p:nvPr>
            <p:ph type="body"/>
          </p:nvPr>
        </p:nvSpPr>
        <p:spPr>
          <a:xfrm>
            <a:off x="684000" y="4726080"/>
            <a:ext cx="5443560" cy="447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Slide Number Placeholder 3"/>
          <p:cNvSpPr/>
          <p:nvPr/>
        </p:nvSpPr>
        <p:spPr>
          <a:xfrm>
            <a:off x="3855960" y="9443880"/>
            <a:ext cx="29545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CDE50479-31E2-4EC0-82BF-024B88C68ACA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0B5C82-FC54-4FAC-9876-28D611EB19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0010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143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240" y="1100160"/>
            <a:ext cx="800100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228240" y="3908880"/>
            <a:ext cx="800100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45636E-1F81-4A92-9065-1AE268437FBF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0010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143f"/>
              </a:solidFill>
              <a:latin typeface="Arial Black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228240" y="1100160"/>
            <a:ext cx="3904200" cy="537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327920" y="1100160"/>
            <a:ext cx="3904200" cy="537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0010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143f"/>
              </a:solidFill>
              <a:latin typeface="Arial Black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ubTitle"/>
          </p:nvPr>
        </p:nvSpPr>
        <p:spPr>
          <a:xfrm>
            <a:off x="228240" y="380880"/>
            <a:ext cx="8001000" cy="33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0010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143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228240" y="1100160"/>
            <a:ext cx="390420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327920" y="1100160"/>
            <a:ext cx="3904200" cy="537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228240" y="3908880"/>
            <a:ext cx="390420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0010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143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228240" y="1100160"/>
            <a:ext cx="3904200" cy="537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327920" y="1100160"/>
            <a:ext cx="390420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327920" y="3908880"/>
            <a:ext cx="390420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0010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143f"/>
              </a:solidFill>
              <a:latin typeface="Arial Blac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228240" y="1100160"/>
            <a:ext cx="390420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327920" y="1100160"/>
            <a:ext cx="390420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228240" y="3908880"/>
            <a:ext cx="800100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0010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143f"/>
              </a:solidFill>
              <a:latin typeface="Arial Blac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228240" y="1100160"/>
            <a:ext cx="800100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228240" y="3908880"/>
            <a:ext cx="800100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0010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143f"/>
              </a:solidFill>
              <a:latin typeface="Arial Black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28240" y="1100160"/>
            <a:ext cx="390420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327920" y="1100160"/>
            <a:ext cx="390420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228240" y="3908880"/>
            <a:ext cx="390420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4327920" y="3908880"/>
            <a:ext cx="390420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0010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143f"/>
              </a:solidFill>
              <a:latin typeface="Arial Black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228240" y="1100160"/>
            <a:ext cx="257616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2933640" y="1100160"/>
            <a:ext cx="257616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5639040" y="1100160"/>
            <a:ext cx="257616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228240" y="3908880"/>
            <a:ext cx="257616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379" name="PlaceHolder 6"/>
          <p:cNvSpPr>
            <a:spLocks noGrp="1"/>
          </p:cNvSpPr>
          <p:nvPr>
            <p:ph/>
          </p:nvPr>
        </p:nvSpPr>
        <p:spPr>
          <a:xfrm>
            <a:off x="2933640" y="3908880"/>
            <a:ext cx="257616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380" name="PlaceHolder 7"/>
          <p:cNvSpPr>
            <a:spLocks noGrp="1"/>
          </p:cNvSpPr>
          <p:nvPr>
            <p:ph/>
          </p:nvPr>
        </p:nvSpPr>
        <p:spPr>
          <a:xfrm>
            <a:off x="5639040" y="3908880"/>
            <a:ext cx="257616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0010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143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28240" y="1100160"/>
            <a:ext cx="390420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27920" y="1100160"/>
            <a:ext cx="390420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28240" y="3908880"/>
            <a:ext cx="390420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27920" y="3908880"/>
            <a:ext cx="390420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C0A742-6FDF-4635-9523-6AB8DF6A88DC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0010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143f"/>
              </a:solidFill>
              <a:latin typeface="Arial Black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228240" y="1100160"/>
            <a:ext cx="8001000" cy="53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0010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143f"/>
              </a:solidFill>
              <a:latin typeface="Arial Black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228240" y="1100160"/>
            <a:ext cx="8001000" cy="537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0010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143f"/>
              </a:solidFill>
              <a:latin typeface="Arial Black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28240" y="1100160"/>
            <a:ext cx="3904200" cy="537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327920" y="1100160"/>
            <a:ext cx="3904200" cy="537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0010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143f"/>
              </a:solidFill>
              <a:latin typeface="Arial Black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228240" y="380880"/>
            <a:ext cx="8001000" cy="33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0010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143f"/>
              </a:solidFill>
              <a:latin typeface="Arial Black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228240" y="1100160"/>
            <a:ext cx="390420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327920" y="1100160"/>
            <a:ext cx="3904200" cy="537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228240" y="3908880"/>
            <a:ext cx="390420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0010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143f"/>
              </a:solidFill>
              <a:latin typeface="Arial Black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228240" y="1100160"/>
            <a:ext cx="3904200" cy="537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327920" y="1100160"/>
            <a:ext cx="390420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327920" y="3908880"/>
            <a:ext cx="390420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0010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143f"/>
              </a:solidFill>
              <a:latin typeface="Arial Black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228240" y="1100160"/>
            <a:ext cx="390420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327920" y="1100160"/>
            <a:ext cx="390420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228240" y="3908880"/>
            <a:ext cx="800100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0010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143f"/>
              </a:solidFill>
              <a:latin typeface="Arial Black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228240" y="1100160"/>
            <a:ext cx="800100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228240" y="3908880"/>
            <a:ext cx="800100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0010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143f"/>
              </a:solidFill>
              <a:latin typeface="Arial Black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228240" y="1100160"/>
            <a:ext cx="390420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327920" y="1100160"/>
            <a:ext cx="390420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228240" y="3908880"/>
            <a:ext cx="390420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327920" y="3908880"/>
            <a:ext cx="390420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0010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143f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28240" y="1100160"/>
            <a:ext cx="257616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33640" y="1100160"/>
            <a:ext cx="257616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39040" y="1100160"/>
            <a:ext cx="257616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228240" y="3908880"/>
            <a:ext cx="257616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33640" y="3908880"/>
            <a:ext cx="257616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39040" y="3908880"/>
            <a:ext cx="257616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C0809A-0C98-46D3-88AC-B4009BF46921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0010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143f"/>
              </a:solidFill>
              <a:latin typeface="Arial Black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228240" y="1100160"/>
            <a:ext cx="257616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2933640" y="1100160"/>
            <a:ext cx="257616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5639040" y="1100160"/>
            <a:ext cx="257616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228240" y="3908880"/>
            <a:ext cx="257616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2933640" y="3908880"/>
            <a:ext cx="257616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5639040" y="3908880"/>
            <a:ext cx="257616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0010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143f"/>
              </a:solidFill>
              <a:latin typeface="Arial Black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subTitle"/>
          </p:nvPr>
        </p:nvSpPr>
        <p:spPr>
          <a:xfrm>
            <a:off x="228240" y="1100160"/>
            <a:ext cx="8001000" cy="53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0010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143f"/>
              </a:solidFill>
              <a:latin typeface="Arial Black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228240" y="1100160"/>
            <a:ext cx="8001000" cy="537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0010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143f"/>
              </a:solidFill>
              <a:latin typeface="Arial Black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228240" y="1100160"/>
            <a:ext cx="3904200" cy="537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327920" y="1100160"/>
            <a:ext cx="3904200" cy="537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0010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143f"/>
              </a:solidFill>
              <a:latin typeface="Arial Black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ubTitle"/>
          </p:nvPr>
        </p:nvSpPr>
        <p:spPr>
          <a:xfrm>
            <a:off x="228240" y="380880"/>
            <a:ext cx="8001000" cy="33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0010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143f"/>
              </a:solidFill>
              <a:latin typeface="Arial Black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28240" y="1100160"/>
            <a:ext cx="390420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327920" y="1100160"/>
            <a:ext cx="3904200" cy="537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228240" y="3908880"/>
            <a:ext cx="390420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0010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143f"/>
              </a:solidFill>
              <a:latin typeface="Arial Black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228240" y="1100160"/>
            <a:ext cx="3904200" cy="537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327920" y="1100160"/>
            <a:ext cx="390420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327920" y="3908880"/>
            <a:ext cx="390420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0010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143f"/>
              </a:solidFill>
              <a:latin typeface="Arial Black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228240" y="1100160"/>
            <a:ext cx="390420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327920" y="1100160"/>
            <a:ext cx="390420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228240" y="3908880"/>
            <a:ext cx="800100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0010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143f"/>
              </a:solidFill>
              <a:latin typeface="Arial Black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228240" y="1100160"/>
            <a:ext cx="800100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228240" y="3908880"/>
            <a:ext cx="800100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0010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143f"/>
              </a:solidFill>
              <a:latin typeface="Arial Black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228240" y="1100160"/>
            <a:ext cx="390420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327920" y="1100160"/>
            <a:ext cx="390420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228240" y="3908880"/>
            <a:ext cx="390420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4327920" y="3908880"/>
            <a:ext cx="390420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0010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143f"/>
              </a:solidFill>
              <a:latin typeface="Arial Black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228240" y="1100160"/>
            <a:ext cx="257616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2933640" y="1100160"/>
            <a:ext cx="257616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5639040" y="1100160"/>
            <a:ext cx="257616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/>
          </p:nvPr>
        </p:nvSpPr>
        <p:spPr>
          <a:xfrm>
            <a:off x="228240" y="3908880"/>
            <a:ext cx="257616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473" name="PlaceHolder 6"/>
          <p:cNvSpPr>
            <a:spLocks noGrp="1"/>
          </p:cNvSpPr>
          <p:nvPr>
            <p:ph/>
          </p:nvPr>
        </p:nvSpPr>
        <p:spPr>
          <a:xfrm>
            <a:off x="2933640" y="3908880"/>
            <a:ext cx="257616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474" name="PlaceHolder 7"/>
          <p:cNvSpPr>
            <a:spLocks noGrp="1"/>
          </p:cNvSpPr>
          <p:nvPr>
            <p:ph/>
          </p:nvPr>
        </p:nvSpPr>
        <p:spPr>
          <a:xfrm>
            <a:off x="5639040" y="3908880"/>
            <a:ext cx="257616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A9A57-7FA8-4FBE-80CE-EB1CC8E93C95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0010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143f"/>
              </a:solidFill>
              <a:latin typeface="Arial Black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228240" y="1100160"/>
            <a:ext cx="8001000" cy="53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A5AE2-D557-46D7-9FC5-63DEA3A5052C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0010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143f"/>
              </a:solidFill>
              <a:latin typeface="Arial Black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240" y="1100160"/>
            <a:ext cx="8001000" cy="537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A87BB-9493-401D-9301-1DE3E5873D12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0010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143f"/>
              </a:solidFill>
              <a:latin typeface="Arial Black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228240" y="1100160"/>
            <a:ext cx="3904200" cy="537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327920" y="1100160"/>
            <a:ext cx="3904200" cy="537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CCB81-A69C-4C1F-A9EE-B3A1B1A08E72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0010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143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3C80C-2226-44D8-AB6A-6121E5A6F8BF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ubTitle"/>
          </p:nvPr>
        </p:nvSpPr>
        <p:spPr>
          <a:xfrm>
            <a:off x="228240" y="380880"/>
            <a:ext cx="8001000" cy="33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41D66-6199-49E4-9434-60BF87816A5B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0010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143f"/>
              </a:solidFill>
              <a:latin typeface="Arial Black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228240" y="1100160"/>
            <a:ext cx="390420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327920" y="1100160"/>
            <a:ext cx="3904200" cy="537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228240" y="3908880"/>
            <a:ext cx="390420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403D1-51FE-472D-9EFB-96E9D973B26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0010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143f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228240" y="1100160"/>
            <a:ext cx="8001000" cy="53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0010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143f"/>
              </a:solidFill>
              <a:latin typeface="Arial Black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228240" y="1100160"/>
            <a:ext cx="3904200" cy="537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327920" y="1100160"/>
            <a:ext cx="390420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327920" y="3908880"/>
            <a:ext cx="390420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10625-BE89-40B4-848A-0FF4D28C0CB1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0010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143f"/>
              </a:solidFill>
              <a:latin typeface="Arial Black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228240" y="1100160"/>
            <a:ext cx="390420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327920" y="1100160"/>
            <a:ext cx="390420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228240" y="3908880"/>
            <a:ext cx="800100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F60F0-79BE-48A3-B172-83F120852E18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0010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143f"/>
              </a:solidFill>
              <a:latin typeface="Arial Black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228240" y="1100160"/>
            <a:ext cx="800100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228240" y="3908880"/>
            <a:ext cx="800100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CB27C-693F-431E-99E7-B9C6E5EB99D5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0010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143f"/>
              </a:solidFill>
              <a:latin typeface="Arial Black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228240" y="1100160"/>
            <a:ext cx="390420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327920" y="1100160"/>
            <a:ext cx="390420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228240" y="3908880"/>
            <a:ext cx="390420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327920" y="3908880"/>
            <a:ext cx="390420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76266-DA94-4B56-869F-95968DF1B114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0010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143f"/>
              </a:solidFill>
              <a:latin typeface="Arial Black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228240" y="1100160"/>
            <a:ext cx="257616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2933640" y="1100160"/>
            <a:ext cx="257616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5639040" y="1100160"/>
            <a:ext cx="257616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228240" y="3908880"/>
            <a:ext cx="257616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516" name="PlaceHolder 6"/>
          <p:cNvSpPr>
            <a:spLocks noGrp="1"/>
          </p:cNvSpPr>
          <p:nvPr>
            <p:ph/>
          </p:nvPr>
        </p:nvSpPr>
        <p:spPr>
          <a:xfrm>
            <a:off x="2933640" y="3908880"/>
            <a:ext cx="257616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517" name="PlaceHolder 7"/>
          <p:cNvSpPr>
            <a:spLocks noGrp="1"/>
          </p:cNvSpPr>
          <p:nvPr>
            <p:ph/>
          </p:nvPr>
        </p:nvSpPr>
        <p:spPr>
          <a:xfrm>
            <a:off x="5639040" y="3908880"/>
            <a:ext cx="257616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2DCBE-116C-4576-9ED6-322E2B79B32B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F934C49-449A-4598-A0ED-2509510E3923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0010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143f"/>
              </a:solidFill>
              <a:latin typeface="Arial Black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subTitle"/>
          </p:nvPr>
        </p:nvSpPr>
        <p:spPr>
          <a:xfrm>
            <a:off x="228240" y="1100160"/>
            <a:ext cx="8001000" cy="53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6059165-99C8-4C41-8E71-6D96E415A7AB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0010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143f"/>
              </a:solidFill>
              <a:latin typeface="Arial Black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228240" y="1100160"/>
            <a:ext cx="8001000" cy="537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CA773AE-B4EA-4615-B800-C9CAE2ADBAED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0010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143f"/>
              </a:solidFill>
              <a:latin typeface="Arial Black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228240" y="1100160"/>
            <a:ext cx="3904200" cy="537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327920" y="1100160"/>
            <a:ext cx="3904200" cy="537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0636717-6B4A-4967-BE26-4070EA44C579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0010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143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FE8FBA3-0017-4444-8E37-20073A25744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0010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143f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240" y="1100160"/>
            <a:ext cx="8001000" cy="537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ubTitle"/>
          </p:nvPr>
        </p:nvSpPr>
        <p:spPr>
          <a:xfrm>
            <a:off x="228240" y="380880"/>
            <a:ext cx="8001000" cy="33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1AD88B8-31EE-4826-BDF5-609F74DC750A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0010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143f"/>
              </a:solidFill>
              <a:latin typeface="Arial Black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228240" y="1100160"/>
            <a:ext cx="390420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327920" y="1100160"/>
            <a:ext cx="3904200" cy="537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228240" y="3908880"/>
            <a:ext cx="390420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FCD98F0-D0B1-41ED-9B00-CB1BAEC99EB0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0010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143f"/>
              </a:solidFill>
              <a:latin typeface="Arial Black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228240" y="1100160"/>
            <a:ext cx="3904200" cy="537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327920" y="1100160"/>
            <a:ext cx="390420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327920" y="3908880"/>
            <a:ext cx="390420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F41CA41-BB28-4C14-BC74-8EE554E58DE4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0010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143f"/>
              </a:solidFill>
              <a:latin typeface="Arial Black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228240" y="1100160"/>
            <a:ext cx="390420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327920" y="1100160"/>
            <a:ext cx="390420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228240" y="3908880"/>
            <a:ext cx="800100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5D798C4-3DE3-44DC-823B-CC1BD5539473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0010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143f"/>
              </a:solidFill>
              <a:latin typeface="Arial Black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228240" y="1100160"/>
            <a:ext cx="800100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228240" y="3908880"/>
            <a:ext cx="800100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E726969-F4F1-47CA-80D5-E73054BC3CD8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0010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143f"/>
              </a:solidFill>
              <a:latin typeface="Arial Black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228240" y="1100160"/>
            <a:ext cx="390420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327920" y="1100160"/>
            <a:ext cx="390420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228240" y="3908880"/>
            <a:ext cx="390420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4327920" y="3908880"/>
            <a:ext cx="390420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0DC2F13-A989-448D-AA6D-D3D3DE9CA5EF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0010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143f"/>
              </a:solidFill>
              <a:latin typeface="Arial Black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228240" y="1100160"/>
            <a:ext cx="257616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2933640" y="1100160"/>
            <a:ext cx="257616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5639040" y="1100160"/>
            <a:ext cx="257616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/>
          </p:nvPr>
        </p:nvSpPr>
        <p:spPr>
          <a:xfrm>
            <a:off x="228240" y="3908880"/>
            <a:ext cx="257616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559" name="PlaceHolder 6"/>
          <p:cNvSpPr>
            <a:spLocks noGrp="1"/>
          </p:cNvSpPr>
          <p:nvPr>
            <p:ph/>
          </p:nvPr>
        </p:nvSpPr>
        <p:spPr>
          <a:xfrm>
            <a:off x="2933640" y="3908880"/>
            <a:ext cx="257616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560" name="PlaceHolder 7"/>
          <p:cNvSpPr>
            <a:spLocks noGrp="1"/>
          </p:cNvSpPr>
          <p:nvPr>
            <p:ph/>
          </p:nvPr>
        </p:nvSpPr>
        <p:spPr>
          <a:xfrm>
            <a:off x="5639040" y="3908880"/>
            <a:ext cx="257616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FCC173E-F4A0-4F34-B0FB-A23CDE295104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92A8638-126F-45E3-9871-963170731BB0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0010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143f"/>
              </a:solidFill>
              <a:latin typeface="Arial Black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subTitle"/>
          </p:nvPr>
        </p:nvSpPr>
        <p:spPr>
          <a:xfrm>
            <a:off x="228240" y="1100160"/>
            <a:ext cx="8001000" cy="53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523EBE2-BD12-46F8-881A-927D53B87E50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0010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143f"/>
              </a:solidFill>
              <a:latin typeface="Arial Black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228240" y="1100160"/>
            <a:ext cx="8001000" cy="537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57DA0C5-871D-4475-B3FB-7A56378AA64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0010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143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240" y="1100160"/>
            <a:ext cx="3904200" cy="537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327920" y="1100160"/>
            <a:ext cx="3904200" cy="537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0010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143f"/>
              </a:solidFill>
              <a:latin typeface="Arial Black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228240" y="1100160"/>
            <a:ext cx="3904200" cy="537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327920" y="1100160"/>
            <a:ext cx="3904200" cy="537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1617E13-29E9-4AD3-9FA4-696F9883EB39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0010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143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8AF9C71-0D61-4686-BD03-CD55E068A05A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ubTitle"/>
          </p:nvPr>
        </p:nvSpPr>
        <p:spPr>
          <a:xfrm>
            <a:off x="228240" y="380880"/>
            <a:ext cx="8001000" cy="33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0DA4ECD-5132-4C83-8F56-7097C315329C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0010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143f"/>
              </a:solidFill>
              <a:latin typeface="Arial Black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228240" y="1100160"/>
            <a:ext cx="390420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327920" y="1100160"/>
            <a:ext cx="3904200" cy="537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228240" y="3908880"/>
            <a:ext cx="390420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3A40E5B-4559-4311-96B3-CE6FC0EC6BF9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0010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143f"/>
              </a:solidFill>
              <a:latin typeface="Arial Black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228240" y="1100160"/>
            <a:ext cx="3904200" cy="537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327920" y="1100160"/>
            <a:ext cx="390420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327920" y="3908880"/>
            <a:ext cx="390420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ACEB6F9-0BCF-495E-8D85-37164361E2A6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0010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143f"/>
              </a:solidFill>
              <a:latin typeface="Arial Black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228240" y="1100160"/>
            <a:ext cx="390420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327920" y="1100160"/>
            <a:ext cx="390420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228240" y="3908880"/>
            <a:ext cx="800100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F49B1A6-6B6D-4C39-A671-83192541FB29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0010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143f"/>
              </a:solidFill>
              <a:latin typeface="Arial Black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228240" y="1100160"/>
            <a:ext cx="800100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228240" y="3908880"/>
            <a:ext cx="800100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74F4DC8-22B8-494C-86CE-B453E09B2D2F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0010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143f"/>
              </a:solidFill>
              <a:latin typeface="Arial Black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228240" y="1100160"/>
            <a:ext cx="390420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327920" y="1100160"/>
            <a:ext cx="390420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228240" y="3908880"/>
            <a:ext cx="390420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596" name="PlaceHolder 5"/>
          <p:cNvSpPr>
            <a:spLocks noGrp="1"/>
          </p:cNvSpPr>
          <p:nvPr>
            <p:ph/>
          </p:nvPr>
        </p:nvSpPr>
        <p:spPr>
          <a:xfrm>
            <a:off x="4327920" y="3908880"/>
            <a:ext cx="390420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8585311-9ECB-47A6-8B8B-15BEC289B3A0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0010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143f"/>
              </a:solidFill>
              <a:latin typeface="Arial Black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228240" y="1100160"/>
            <a:ext cx="257616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2933640" y="1100160"/>
            <a:ext cx="257616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5639040" y="1100160"/>
            <a:ext cx="257616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228240" y="3908880"/>
            <a:ext cx="257616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602" name="PlaceHolder 6"/>
          <p:cNvSpPr>
            <a:spLocks noGrp="1"/>
          </p:cNvSpPr>
          <p:nvPr>
            <p:ph/>
          </p:nvPr>
        </p:nvSpPr>
        <p:spPr>
          <a:xfrm>
            <a:off x="2933640" y="3908880"/>
            <a:ext cx="257616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603" name="PlaceHolder 7"/>
          <p:cNvSpPr>
            <a:spLocks noGrp="1"/>
          </p:cNvSpPr>
          <p:nvPr>
            <p:ph/>
          </p:nvPr>
        </p:nvSpPr>
        <p:spPr>
          <a:xfrm>
            <a:off x="5639040" y="3908880"/>
            <a:ext cx="257616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2ADDE06-F07F-4BC3-9545-D7B4E32CC3E8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AC75CF-AFC1-4287-B40D-F27BBEC13AD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0010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143f"/>
              </a:solidFill>
              <a:latin typeface="Arial Black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0010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143f"/>
              </a:solidFill>
              <a:latin typeface="Arial Black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subTitle"/>
          </p:nvPr>
        </p:nvSpPr>
        <p:spPr>
          <a:xfrm>
            <a:off x="228240" y="1100160"/>
            <a:ext cx="8001000" cy="53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DF8611-4379-4314-8285-5AC0A6AE56F1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0010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143f"/>
              </a:solidFill>
              <a:latin typeface="Arial Black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228240" y="1100160"/>
            <a:ext cx="8001000" cy="537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A64902-F3A1-4D6B-8388-F3B0FFFD165B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0010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143f"/>
              </a:solidFill>
              <a:latin typeface="Arial Black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228240" y="1100160"/>
            <a:ext cx="3904200" cy="537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327920" y="1100160"/>
            <a:ext cx="3904200" cy="537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AD9168-661F-496A-9F72-07AA9C650792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0010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143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D7425E-DBE5-4823-8888-392AEE57A11C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subTitle"/>
          </p:nvPr>
        </p:nvSpPr>
        <p:spPr>
          <a:xfrm>
            <a:off x="228240" y="380880"/>
            <a:ext cx="8001000" cy="33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8188FE-449A-46A0-A716-DB525B08BED0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0010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143f"/>
              </a:solidFill>
              <a:latin typeface="Arial Black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228240" y="1100160"/>
            <a:ext cx="390420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327920" y="1100160"/>
            <a:ext cx="3904200" cy="537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228240" y="3908880"/>
            <a:ext cx="390420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D1E39C-2269-41E5-8AA8-6932FA10A8A7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0010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143f"/>
              </a:solidFill>
              <a:latin typeface="Arial Black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228240" y="1100160"/>
            <a:ext cx="3904200" cy="537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327920" y="1100160"/>
            <a:ext cx="390420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4327920" y="3908880"/>
            <a:ext cx="390420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B7C7BD-186D-4AF3-8E82-984A7780CDEB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0010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143f"/>
              </a:solidFill>
              <a:latin typeface="Arial Black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228240" y="1100160"/>
            <a:ext cx="390420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327920" y="1100160"/>
            <a:ext cx="390420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228240" y="3908880"/>
            <a:ext cx="800100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973A24-DCC4-4937-A1DB-D4D12FEE0CA1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0010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143f"/>
              </a:solidFill>
              <a:latin typeface="Arial Black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228240" y="1100160"/>
            <a:ext cx="800100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228240" y="3908880"/>
            <a:ext cx="800100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361C92-CCF1-4ACA-B8A5-E2CEE60BD517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0010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143f"/>
              </a:solidFill>
              <a:latin typeface="Arial Black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228240" y="1100160"/>
            <a:ext cx="390420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327920" y="1100160"/>
            <a:ext cx="390420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228240" y="3908880"/>
            <a:ext cx="390420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327920" y="3908880"/>
            <a:ext cx="390420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206AA4-2CDB-4A41-9974-EA4DE252CF5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228240" y="380880"/>
            <a:ext cx="8001000" cy="33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0010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143f"/>
              </a:solidFill>
              <a:latin typeface="Arial Black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228240" y="1100160"/>
            <a:ext cx="257616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2933640" y="1100160"/>
            <a:ext cx="257616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639040" y="1100160"/>
            <a:ext cx="257616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228240" y="3908880"/>
            <a:ext cx="257616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645" name="PlaceHolder 6"/>
          <p:cNvSpPr>
            <a:spLocks noGrp="1"/>
          </p:cNvSpPr>
          <p:nvPr>
            <p:ph/>
          </p:nvPr>
        </p:nvSpPr>
        <p:spPr>
          <a:xfrm>
            <a:off x="2933640" y="3908880"/>
            <a:ext cx="257616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646" name="PlaceHolder 7"/>
          <p:cNvSpPr>
            <a:spLocks noGrp="1"/>
          </p:cNvSpPr>
          <p:nvPr>
            <p:ph/>
          </p:nvPr>
        </p:nvSpPr>
        <p:spPr>
          <a:xfrm>
            <a:off x="5639040" y="3908880"/>
            <a:ext cx="257616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0741D6-41D8-40BC-AE64-32E7890BBFCA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5C88156-16E9-47E2-BA8D-C2192B7FC633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0010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143f"/>
              </a:solidFill>
              <a:latin typeface="Arial Black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 type="subTitle"/>
          </p:nvPr>
        </p:nvSpPr>
        <p:spPr>
          <a:xfrm>
            <a:off x="228240" y="1100160"/>
            <a:ext cx="8001000" cy="53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AEC1D1C-5262-4B8A-B6A2-E616C9D1EA12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0010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143f"/>
              </a:solidFill>
              <a:latin typeface="Arial Black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228240" y="1100160"/>
            <a:ext cx="8001000" cy="537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E0216D2-F3BA-48B1-B38B-B33474D94500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0010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143f"/>
              </a:solidFill>
              <a:latin typeface="Arial Black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228240" y="1100160"/>
            <a:ext cx="3904200" cy="537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327920" y="1100160"/>
            <a:ext cx="3904200" cy="537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5063881-1F58-460E-98B6-AAE60A8627D6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0010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143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6F13457-1D2C-4B5F-A04C-DB851B25999C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subTitle"/>
          </p:nvPr>
        </p:nvSpPr>
        <p:spPr>
          <a:xfrm>
            <a:off x="228240" y="380880"/>
            <a:ext cx="8001000" cy="33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80568AA-E3EA-4BB0-A623-F1DC5BE91616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0010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143f"/>
              </a:solidFill>
              <a:latin typeface="Arial Black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228240" y="1100160"/>
            <a:ext cx="390420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327920" y="1100160"/>
            <a:ext cx="3904200" cy="537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228240" y="3908880"/>
            <a:ext cx="390420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9450552-6171-43E0-BE7D-CD7C52A9B1A3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0010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143f"/>
              </a:solidFill>
              <a:latin typeface="Arial Black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228240" y="1100160"/>
            <a:ext cx="3904200" cy="537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327920" y="1100160"/>
            <a:ext cx="390420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4327920" y="3908880"/>
            <a:ext cx="390420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7C49FC6-1409-4CD2-84A4-2308E9F33F25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0010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143f"/>
              </a:solidFill>
              <a:latin typeface="Arial Black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228240" y="1100160"/>
            <a:ext cx="390420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327920" y="1100160"/>
            <a:ext cx="390420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228240" y="3908880"/>
            <a:ext cx="800100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F2D265E-CB16-42D8-8FA6-87B482B9C9E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0010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143f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240" y="1100160"/>
            <a:ext cx="390420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327920" y="1100160"/>
            <a:ext cx="3904200" cy="537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228240" y="3908880"/>
            <a:ext cx="390420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0010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143f"/>
              </a:solidFill>
              <a:latin typeface="Arial Black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228240" y="1100160"/>
            <a:ext cx="800100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228240" y="3908880"/>
            <a:ext cx="800100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FD5309E-35B3-451A-8B51-7168A2412245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0010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143f"/>
              </a:solidFill>
              <a:latin typeface="Arial Black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228240" y="1100160"/>
            <a:ext cx="390420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327920" y="1100160"/>
            <a:ext cx="390420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228240" y="3908880"/>
            <a:ext cx="390420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682" name="PlaceHolder 5"/>
          <p:cNvSpPr>
            <a:spLocks noGrp="1"/>
          </p:cNvSpPr>
          <p:nvPr>
            <p:ph/>
          </p:nvPr>
        </p:nvSpPr>
        <p:spPr>
          <a:xfrm>
            <a:off x="4327920" y="3908880"/>
            <a:ext cx="390420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D6D131C-9C9B-40A8-AF24-9A61ADC0C725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0010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143f"/>
              </a:solidFill>
              <a:latin typeface="Arial Black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228240" y="1100160"/>
            <a:ext cx="257616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2933640" y="1100160"/>
            <a:ext cx="257616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5639040" y="1100160"/>
            <a:ext cx="257616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687" name="PlaceHolder 5"/>
          <p:cNvSpPr>
            <a:spLocks noGrp="1"/>
          </p:cNvSpPr>
          <p:nvPr>
            <p:ph/>
          </p:nvPr>
        </p:nvSpPr>
        <p:spPr>
          <a:xfrm>
            <a:off x="228240" y="3908880"/>
            <a:ext cx="257616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688" name="PlaceHolder 6"/>
          <p:cNvSpPr>
            <a:spLocks noGrp="1"/>
          </p:cNvSpPr>
          <p:nvPr>
            <p:ph/>
          </p:nvPr>
        </p:nvSpPr>
        <p:spPr>
          <a:xfrm>
            <a:off x="2933640" y="3908880"/>
            <a:ext cx="257616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689" name="PlaceHolder 7"/>
          <p:cNvSpPr>
            <a:spLocks noGrp="1"/>
          </p:cNvSpPr>
          <p:nvPr>
            <p:ph/>
          </p:nvPr>
        </p:nvSpPr>
        <p:spPr>
          <a:xfrm>
            <a:off x="5639040" y="3908880"/>
            <a:ext cx="257616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67B5002-4DCE-4A6D-9BBA-F0AE914FEA2D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5814979-CBCD-48B0-8DDE-2F9CB88F43C5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0010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143f"/>
              </a:solidFill>
              <a:latin typeface="Arial Black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subTitle"/>
          </p:nvPr>
        </p:nvSpPr>
        <p:spPr>
          <a:xfrm>
            <a:off x="228240" y="1100160"/>
            <a:ext cx="8001000" cy="53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63FF61F-1257-4471-935A-36804053B1DB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0010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143f"/>
              </a:solidFill>
              <a:latin typeface="Arial Black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228240" y="1100160"/>
            <a:ext cx="8001000" cy="537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9D83260-37ED-484E-993D-C1622653012F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0010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143f"/>
              </a:solidFill>
              <a:latin typeface="Arial Black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228240" y="1100160"/>
            <a:ext cx="3904200" cy="537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4327920" y="1100160"/>
            <a:ext cx="3904200" cy="537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83EC404-9135-4639-84B8-677536A709BA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0010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143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9F81C80-8A81-4EDA-847F-0CE0BF0600FA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subTitle"/>
          </p:nvPr>
        </p:nvSpPr>
        <p:spPr>
          <a:xfrm>
            <a:off x="228240" y="380880"/>
            <a:ext cx="8001000" cy="33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7B425F8-0E6C-4533-980C-01DF458775CC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0010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143f"/>
              </a:solidFill>
              <a:latin typeface="Arial Black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228240" y="1100160"/>
            <a:ext cx="390420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327920" y="1100160"/>
            <a:ext cx="3904200" cy="537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228240" y="3908880"/>
            <a:ext cx="390420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20C65FF-7286-46EF-B6BF-62A01870B0B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0010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143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228240" y="1100160"/>
            <a:ext cx="8001000" cy="53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472528-0493-444C-8DE0-0C236C4FCB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0010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143f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240" y="1100160"/>
            <a:ext cx="3904200" cy="537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327920" y="1100160"/>
            <a:ext cx="390420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327920" y="3908880"/>
            <a:ext cx="390420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0010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143f"/>
              </a:solidFill>
              <a:latin typeface="Arial Black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228240" y="1100160"/>
            <a:ext cx="3904200" cy="537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4327920" y="1100160"/>
            <a:ext cx="390420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/>
          </p:nvPr>
        </p:nvSpPr>
        <p:spPr>
          <a:xfrm>
            <a:off x="4327920" y="3908880"/>
            <a:ext cx="390420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E57F9C3-2D8B-4353-A6DD-9ED694BA383E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0010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143f"/>
              </a:solidFill>
              <a:latin typeface="Arial Black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228240" y="1100160"/>
            <a:ext cx="390420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327920" y="1100160"/>
            <a:ext cx="390420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228240" y="3908880"/>
            <a:ext cx="800100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2C966BD-8C1D-452C-962C-9A6EE0BEB8DB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0010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143f"/>
              </a:solidFill>
              <a:latin typeface="Arial Black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228240" y="1100160"/>
            <a:ext cx="800100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228240" y="3908880"/>
            <a:ext cx="800100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700ACB0-DBF3-435E-ADCB-FAE9496CCF29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0010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143f"/>
              </a:solidFill>
              <a:latin typeface="Arial Black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228240" y="1100160"/>
            <a:ext cx="390420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327920" y="1100160"/>
            <a:ext cx="390420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228240" y="3908880"/>
            <a:ext cx="390420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725" name="PlaceHolder 5"/>
          <p:cNvSpPr>
            <a:spLocks noGrp="1"/>
          </p:cNvSpPr>
          <p:nvPr>
            <p:ph/>
          </p:nvPr>
        </p:nvSpPr>
        <p:spPr>
          <a:xfrm>
            <a:off x="4327920" y="3908880"/>
            <a:ext cx="390420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73EF5CD-81E9-4E35-ABF7-0EB52776E048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0010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143f"/>
              </a:solidFill>
              <a:latin typeface="Arial Black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228240" y="1100160"/>
            <a:ext cx="257616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2933640" y="1100160"/>
            <a:ext cx="257616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5639040" y="1100160"/>
            <a:ext cx="257616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228240" y="3908880"/>
            <a:ext cx="257616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731" name="PlaceHolder 6"/>
          <p:cNvSpPr>
            <a:spLocks noGrp="1"/>
          </p:cNvSpPr>
          <p:nvPr>
            <p:ph/>
          </p:nvPr>
        </p:nvSpPr>
        <p:spPr>
          <a:xfrm>
            <a:off x="2933640" y="3908880"/>
            <a:ext cx="257616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732" name="PlaceHolder 7"/>
          <p:cNvSpPr>
            <a:spLocks noGrp="1"/>
          </p:cNvSpPr>
          <p:nvPr>
            <p:ph/>
          </p:nvPr>
        </p:nvSpPr>
        <p:spPr>
          <a:xfrm>
            <a:off x="5639040" y="3908880"/>
            <a:ext cx="257616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32247BD-00AC-481C-9505-1306E5BE8068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AD0A4C-9051-4DAD-9AE5-8196EC9F77F2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0010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143f"/>
              </a:solidFill>
              <a:latin typeface="Arial Black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subTitle"/>
          </p:nvPr>
        </p:nvSpPr>
        <p:spPr>
          <a:xfrm>
            <a:off x="228240" y="1100160"/>
            <a:ext cx="8001000" cy="53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84A611-E5CC-4A52-8F37-1E571C86279E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0010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143f"/>
              </a:solidFill>
              <a:latin typeface="Arial Black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228240" y="1100160"/>
            <a:ext cx="8001000" cy="537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12112B-4999-4676-90DF-EBCFDC5293D3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0010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143f"/>
              </a:solidFill>
              <a:latin typeface="Arial Black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228240" y="1100160"/>
            <a:ext cx="3904200" cy="537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327920" y="1100160"/>
            <a:ext cx="3904200" cy="537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5787DC-F625-4572-97CB-CEC77F425D54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0010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143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BB1C30-5128-403A-B7CC-4534219DC50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0010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143f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240" y="1100160"/>
            <a:ext cx="390420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27920" y="1100160"/>
            <a:ext cx="390420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28240" y="3908880"/>
            <a:ext cx="800100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subTitle"/>
          </p:nvPr>
        </p:nvSpPr>
        <p:spPr>
          <a:xfrm>
            <a:off x="228240" y="380880"/>
            <a:ext cx="8001000" cy="33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CD9307-6CD9-43AF-A232-C790575FE698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0010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143f"/>
              </a:solidFill>
              <a:latin typeface="Arial Black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228240" y="1100160"/>
            <a:ext cx="390420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327920" y="1100160"/>
            <a:ext cx="3904200" cy="537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228240" y="3908880"/>
            <a:ext cx="390420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DA04BA-B651-4AF6-9A7E-1EA53C24E335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0010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143f"/>
              </a:solidFill>
              <a:latin typeface="Arial Black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228240" y="1100160"/>
            <a:ext cx="3904200" cy="537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327920" y="1100160"/>
            <a:ext cx="390420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327920" y="3908880"/>
            <a:ext cx="390420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D47780-C548-4D96-B235-D01325C78DFB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0010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143f"/>
              </a:solidFill>
              <a:latin typeface="Arial Black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228240" y="1100160"/>
            <a:ext cx="390420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4327920" y="1100160"/>
            <a:ext cx="390420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760" name="PlaceHolder 4"/>
          <p:cNvSpPr>
            <a:spLocks noGrp="1"/>
          </p:cNvSpPr>
          <p:nvPr>
            <p:ph/>
          </p:nvPr>
        </p:nvSpPr>
        <p:spPr>
          <a:xfrm>
            <a:off x="228240" y="3908880"/>
            <a:ext cx="800100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AF5AB6-F4E8-4B1D-A61B-BF6D5E5AD2D3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0010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143f"/>
              </a:solidFill>
              <a:latin typeface="Arial Black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228240" y="1100160"/>
            <a:ext cx="800100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228240" y="3908880"/>
            <a:ext cx="800100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3ECA69-7387-4C9E-992F-23D535573BB3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0010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143f"/>
              </a:solidFill>
              <a:latin typeface="Arial Black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228240" y="1100160"/>
            <a:ext cx="390420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327920" y="1100160"/>
            <a:ext cx="390420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/>
          </p:nvPr>
        </p:nvSpPr>
        <p:spPr>
          <a:xfrm>
            <a:off x="228240" y="3908880"/>
            <a:ext cx="390420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768" name="PlaceHolder 5"/>
          <p:cNvSpPr>
            <a:spLocks noGrp="1"/>
          </p:cNvSpPr>
          <p:nvPr>
            <p:ph/>
          </p:nvPr>
        </p:nvSpPr>
        <p:spPr>
          <a:xfrm>
            <a:off x="4327920" y="3908880"/>
            <a:ext cx="390420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C3420F-A7C1-4E64-A6FA-893140D1E9E0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0010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143f"/>
              </a:solidFill>
              <a:latin typeface="Arial Black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228240" y="1100160"/>
            <a:ext cx="257616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2933640" y="1100160"/>
            <a:ext cx="257616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5639040" y="1100160"/>
            <a:ext cx="257616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228240" y="3908880"/>
            <a:ext cx="257616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774" name="PlaceHolder 6"/>
          <p:cNvSpPr>
            <a:spLocks noGrp="1"/>
          </p:cNvSpPr>
          <p:nvPr>
            <p:ph/>
          </p:nvPr>
        </p:nvSpPr>
        <p:spPr>
          <a:xfrm>
            <a:off x="2933640" y="3908880"/>
            <a:ext cx="257616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775" name="PlaceHolder 7"/>
          <p:cNvSpPr>
            <a:spLocks noGrp="1"/>
          </p:cNvSpPr>
          <p:nvPr>
            <p:ph/>
          </p:nvPr>
        </p:nvSpPr>
        <p:spPr>
          <a:xfrm>
            <a:off x="5639040" y="3908880"/>
            <a:ext cx="257616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6255CD-FF10-4BFD-8FE5-F121A88685CC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AA23C71-5BB5-4B50-B9C4-823B67202182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0010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143f"/>
              </a:solidFill>
              <a:latin typeface="Arial Black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228240" y="1100160"/>
            <a:ext cx="8001000" cy="53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C609C3E-6A79-4B42-B768-B6093C37A40F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0010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143f"/>
              </a:solidFill>
              <a:latin typeface="Arial Black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228240" y="1100160"/>
            <a:ext cx="8001000" cy="537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5F74335-33A1-4003-BE98-18B25B95DD6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0010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143f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240" y="1100160"/>
            <a:ext cx="800100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228240" y="3908880"/>
            <a:ext cx="800100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0010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143f"/>
              </a:solidFill>
              <a:latin typeface="Arial Black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228240" y="1100160"/>
            <a:ext cx="3904200" cy="537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327920" y="1100160"/>
            <a:ext cx="3904200" cy="537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DFDA2CE-62F6-4056-BE06-8F3265B1E48A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0010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143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F57B8F6-BDB0-48E7-A2B5-A48ED8940961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228240" y="380880"/>
            <a:ext cx="8001000" cy="33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4D83E6B-8FFB-4C60-9E29-4E0FDB699351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0010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143f"/>
              </a:solidFill>
              <a:latin typeface="Arial Black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228240" y="1100160"/>
            <a:ext cx="390420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327920" y="1100160"/>
            <a:ext cx="3904200" cy="537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228240" y="3908880"/>
            <a:ext cx="390420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8D0F190-03D0-4BB2-8646-82D5C8DF09B6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0010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143f"/>
              </a:solidFill>
              <a:latin typeface="Arial Black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228240" y="1100160"/>
            <a:ext cx="3904200" cy="537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327920" y="1100160"/>
            <a:ext cx="390420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327920" y="3908880"/>
            <a:ext cx="390420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B9EB279-9D66-4F15-B7DB-767D1E066821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0010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143f"/>
              </a:solidFill>
              <a:latin typeface="Arial Black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228240" y="1100160"/>
            <a:ext cx="390420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327920" y="1100160"/>
            <a:ext cx="390420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228240" y="3908880"/>
            <a:ext cx="800100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506EEA8-3FD6-46E4-95A2-82389B5A703F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0010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143f"/>
              </a:solidFill>
              <a:latin typeface="Arial Black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228240" y="1100160"/>
            <a:ext cx="800100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228240" y="3908880"/>
            <a:ext cx="800100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66506FB-57B4-472F-B6BF-37A771002A8B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0010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143f"/>
              </a:solidFill>
              <a:latin typeface="Arial Black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228240" y="1100160"/>
            <a:ext cx="390420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327920" y="1100160"/>
            <a:ext cx="390420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228240" y="3908880"/>
            <a:ext cx="390420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327920" y="3908880"/>
            <a:ext cx="390420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68EB7C2-4995-4331-BB9B-7A852BB95DAC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0010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143f"/>
              </a:solidFill>
              <a:latin typeface="Arial Black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240" y="1100160"/>
            <a:ext cx="257616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2933640" y="1100160"/>
            <a:ext cx="257616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639040" y="1100160"/>
            <a:ext cx="257616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228240" y="3908880"/>
            <a:ext cx="257616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2933640" y="3908880"/>
            <a:ext cx="257616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5639040" y="3908880"/>
            <a:ext cx="257616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33771D8-26D9-4935-9020-69ED169C2A6C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0C630EA-3838-410E-A2C9-4219AE69CBF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0010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143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240" y="1100160"/>
            <a:ext cx="390420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27920" y="1100160"/>
            <a:ext cx="390420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228240" y="3908880"/>
            <a:ext cx="390420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327920" y="3908880"/>
            <a:ext cx="390420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0010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143f"/>
              </a:solidFill>
              <a:latin typeface="Arial Black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 type="subTitle"/>
          </p:nvPr>
        </p:nvSpPr>
        <p:spPr>
          <a:xfrm>
            <a:off x="228240" y="1100160"/>
            <a:ext cx="8001000" cy="53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4BE8834-6AA1-47A3-AF65-CE592E200215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0010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143f"/>
              </a:solidFill>
              <a:latin typeface="Arial Black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228240" y="1100160"/>
            <a:ext cx="8001000" cy="537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2858A1D-E3BC-42C6-8B17-D3D4E829160B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0010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143f"/>
              </a:solidFill>
              <a:latin typeface="Arial Black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228240" y="1100160"/>
            <a:ext cx="3904200" cy="537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327920" y="1100160"/>
            <a:ext cx="3904200" cy="537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4CEA18D-7A1B-4C02-9D4C-42ED9777DE69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0010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143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6DC4F3F-FEC8-4682-B7D4-F48D11512472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subTitle"/>
          </p:nvPr>
        </p:nvSpPr>
        <p:spPr>
          <a:xfrm>
            <a:off x="228240" y="380880"/>
            <a:ext cx="8001000" cy="33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00EE7CD-58D4-4F19-AF1A-70C89D747EE6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0010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143f"/>
              </a:solidFill>
              <a:latin typeface="Arial Black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228240" y="1100160"/>
            <a:ext cx="390420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4327920" y="1100160"/>
            <a:ext cx="3904200" cy="537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/>
          </p:nvPr>
        </p:nvSpPr>
        <p:spPr>
          <a:xfrm>
            <a:off x="228240" y="3908880"/>
            <a:ext cx="390420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79F9871-D681-482A-A6D8-01EF172FD77E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0010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143f"/>
              </a:solidFill>
              <a:latin typeface="Arial Black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228240" y="1100160"/>
            <a:ext cx="3904200" cy="537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/>
          </p:nvPr>
        </p:nvSpPr>
        <p:spPr>
          <a:xfrm>
            <a:off x="4327920" y="1100160"/>
            <a:ext cx="390420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842" name="PlaceHolder 4"/>
          <p:cNvSpPr>
            <a:spLocks noGrp="1"/>
          </p:cNvSpPr>
          <p:nvPr>
            <p:ph/>
          </p:nvPr>
        </p:nvSpPr>
        <p:spPr>
          <a:xfrm>
            <a:off x="4327920" y="3908880"/>
            <a:ext cx="390420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D77C5A7-6D1B-4A0C-AB7E-4995E89EA938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0010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143f"/>
              </a:solidFill>
              <a:latin typeface="Arial Black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228240" y="1100160"/>
            <a:ext cx="390420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327920" y="1100160"/>
            <a:ext cx="390420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228240" y="3908880"/>
            <a:ext cx="800100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AB41DEE-BA9B-4C17-8EE7-52EBA2A5072D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0010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143f"/>
              </a:solidFill>
              <a:latin typeface="Arial Black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228240" y="1100160"/>
            <a:ext cx="800100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228240" y="3908880"/>
            <a:ext cx="800100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8CBDD60-109B-4CAC-982F-7C63700B7590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0010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143f"/>
              </a:solidFill>
              <a:latin typeface="Arial Black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228240" y="1100160"/>
            <a:ext cx="390420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4327920" y="1100160"/>
            <a:ext cx="390420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/>
          </p:nvPr>
        </p:nvSpPr>
        <p:spPr>
          <a:xfrm>
            <a:off x="228240" y="3908880"/>
            <a:ext cx="390420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854" name="PlaceHolder 5"/>
          <p:cNvSpPr>
            <a:spLocks noGrp="1"/>
          </p:cNvSpPr>
          <p:nvPr>
            <p:ph/>
          </p:nvPr>
        </p:nvSpPr>
        <p:spPr>
          <a:xfrm>
            <a:off x="4327920" y="3908880"/>
            <a:ext cx="390420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9015A0C-D69A-4DA5-8E32-0EC6ABFD910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0010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143f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28240" y="1100160"/>
            <a:ext cx="257616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2933640" y="1100160"/>
            <a:ext cx="257616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639040" y="1100160"/>
            <a:ext cx="257616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228240" y="3908880"/>
            <a:ext cx="257616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2933640" y="3908880"/>
            <a:ext cx="257616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639040" y="3908880"/>
            <a:ext cx="257616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0010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143f"/>
              </a:solidFill>
              <a:latin typeface="Arial Black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228240" y="1100160"/>
            <a:ext cx="257616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2933640" y="1100160"/>
            <a:ext cx="257616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858" name="PlaceHolder 4"/>
          <p:cNvSpPr>
            <a:spLocks noGrp="1"/>
          </p:cNvSpPr>
          <p:nvPr>
            <p:ph/>
          </p:nvPr>
        </p:nvSpPr>
        <p:spPr>
          <a:xfrm>
            <a:off x="5639040" y="1100160"/>
            <a:ext cx="257616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859" name="PlaceHolder 5"/>
          <p:cNvSpPr>
            <a:spLocks noGrp="1"/>
          </p:cNvSpPr>
          <p:nvPr>
            <p:ph/>
          </p:nvPr>
        </p:nvSpPr>
        <p:spPr>
          <a:xfrm>
            <a:off x="228240" y="3908880"/>
            <a:ext cx="257616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860" name="PlaceHolder 6"/>
          <p:cNvSpPr>
            <a:spLocks noGrp="1"/>
          </p:cNvSpPr>
          <p:nvPr>
            <p:ph/>
          </p:nvPr>
        </p:nvSpPr>
        <p:spPr>
          <a:xfrm>
            <a:off x="2933640" y="3908880"/>
            <a:ext cx="257616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861" name="PlaceHolder 7"/>
          <p:cNvSpPr>
            <a:spLocks noGrp="1"/>
          </p:cNvSpPr>
          <p:nvPr>
            <p:ph/>
          </p:nvPr>
        </p:nvSpPr>
        <p:spPr>
          <a:xfrm>
            <a:off x="5639040" y="3908880"/>
            <a:ext cx="257616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57D514F-A3E5-4292-BE68-0E517F504A34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D3A58B-A44E-4518-A2AC-69E747708378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0010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143f"/>
              </a:solidFill>
              <a:latin typeface="Arial Black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 type="subTitle"/>
          </p:nvPr>
        </p:nvSpPr>
        <p:spPr>
          <a:xfrm>
            <a:off x="228240" y="1100160"/>
            <a:ext cx="8001000" cy="53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693E96-7DC1-420E-BC67-02472452CD51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0010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143f"/>
              </a:solidFill>
              <a:latin typeface="Arial Black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228240" y="1100160"/>
            <a:ext cx="8001000" cy="537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68CE4E-543F-40D0-8EB6-8B45E55DE00D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0010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143f"/>
              </a:solidFill>
              <a:latin typeface="Arial Black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228240" y="1100160"/>
            <a:ext cx="3904200" cy="537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/>
          </p:nvPr>
        </p:nvSpPr>
        <p:spPr>
          <a:xfrm>
            <a:off x="4327920" y="1100160"/>
            <a:ext cx="3904200" cy="537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EF87F7-1055-4856-953A-D2F6309F334E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0010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143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EDD70A-0B8A-4987-92F2-8E742423A1E2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subTitle"/>
          </p:nvPr>
        </p:nvSpPr>
        <p:spPr>
          <a:xfrm>
            <a:off x="228240" y="380880"/>
            <a:ext cx="8001000" cy="33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2683B0-65AA-40AC-BB2F-45122E94C268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0010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143f"/>
              </a:solidFill>
              <a:latin typeface="Arial Black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228240" y="1100160"/>
            <a:ext cx="390420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327920" y="1100160"/>
            <a:ext cx="3904200" cy="537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228240" y="3908880"/>
            <a:ext cx="390420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26FA38-45D1-4F9F-A818-A646EF8D5538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0010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143f"/>
              </a:solidFill>
              <a:latin typeface="Arial Black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228240" y="1100160"/>
            <a:ext cx="3904200" cy="537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4327920" y="1100160"/>
            <a:ext cx="390420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885" name="PlaceHolder 4"/>
          <p:cNvSpPr>
            <a:spLocks noGrp="1"/>
          </p:cNvSpPr>
          <p:nvPr>
            <p:ph/>
          </p:nvPr>
        </p:nvSpPr>
        <p:spPr>
          <a:xfrm>
            <a:off x="4327920" y="3908880"/>
            <a:ext cx="390420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1C2F77-CDD7-4C27-80C5-15AD2C8551E9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0010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143f"/>
              </a:solidFill>
              <a:latin typeface="Arial Black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228240" y="1100160"/>
            <a:ext cx="390420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4327920" y="1100160"/>
            <a:ext cx="390420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228240" y="3908880"/>
            <a:ext cx="800100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E880E9-8954-4C49-9C8F-08F483BAE335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0010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143f"/>
              </a:solidFill>
              <a:latin typeface="Arial Black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240" y="1100160"/>
            <a:ext cx="800100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228240" y="3908880"/>
            <a:ext cx="800100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B6F9D9-B802-4DFF-B967-F123D0F364A9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0010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143f"/>
              </a:solidFill>
              <a:latin typeface="Arial Black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228240" y="1100160"/>
            <a:ext cx="390420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4327920" y="1100160"/>
            <a:ext cx="390420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/>
          </p:nvPr>
        </p:nvSpPr>
        <p:spPr>
          <a:xfrm>
            <a:off x="228240" y="3908880"/>
            <a:ext cx="390420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897" name="PlaceHolder 5"/>
          <p:cNvSpPr>
            <a:spLocks noGrp="1"/>
          </p:cNvSpPr>
          <p:nvPr>
            <p:ph/>
          </p:nvPr>
        </p:nvSpPr>
        <p:spPr>
          <a:xfrm>
            <a:off x="4327920" y="3908880"/>
            <a:ext cx="390420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C46944-9513-4D59-BCA1-4475F18039A9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0010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143f"/>
              </a:solidFill>
              <a:latin typeface="Arial Black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228240" y="1100160"/>
            <a:ext cx="257616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2933640" y="1100160"/>
            <a:ext cx="257616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5639040" y="1100160"/>
            <a:ext cx="257616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902" name="PlaceHolder 5"/>
          <p:cNvSpPr>
            <a:spLocks noGrp="1"/>
          </p:cNvSpPr>
          <p:nvPr>
            <p:ph/>
          </p:nvPr>
        </p:nvSpPr>
        <p:spPr>
          <a:xfrm>
            <a:off x="228240" y="3908880"/>
            <a:ext cx="257616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903" name="PlaceHolder 6"/>
          <p:cNvSpPr>
            <a:spLocks noGrp="1"/>
          </p:cNvSpPr>
          <p:nvPr>
            <p:ph/>
          </p:nvPr>
        </p:nvSpPr>
        <p:spPr>
          <a:xfrm>
            <a:off x="2933640" y="3908880"/>
            <a:ext cx="257616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904" name="PlaceHolder 7"/>
          <p:cNvSpPr>
            <a:spLocks noGrp="1"/>
          </p:cNvSpPr>
          <p:nvPr>
            <p:ph/>
          </p:nvPr>
        </p:nvSpPr>
        <p:spPr>
          <a:xfrm>
            <a:off x="5639040" y="3908880"/>
            <a:ext cx="257616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2E2BE4-784E-42B3-BFA3-657C088EEB61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9DE68C8-D811-4895-929B-30DB9745F7B3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0010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143f"/>
              </a:solidFill>
              <a:latin typeface="Arial Black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 type="subTitle"/>
          </p:nvPr>
        </p:nvSpPr>
        <p:spPr>
          <a:xfrm>
            <a:off x="228240" y="1100160"/>
            <a:ext cx="8001000" cy="53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0A1EBE7-E86D-4F54-AD65-30189A8A3360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0010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143f"/>
              </a:solidFill>
              <a:latin typeface="Arial Black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228240" y="1100160"/>
            <a:ext cx="8001000" cy="537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509FBBA-AF53-463C-9154-FF70B8C0A109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0010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143f"/>
              </a:solidFill>
              <a:latin typeface="Arial Black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228240" y="1100160"/>
            <a:ext cx="3904200" cy="537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327920" y="1100160"/>
            <a:ext cx="3904200" cy="537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66DBEC6-B816-416F-8F7D-EB6694B17C75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0010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143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5A7650A-2868-46FB-AD73-234EB3F242B0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subTitle"/>
          </p:nvPr>
        </p:nvSpPr>
        <p:spPr>
          <a:xfrm>
            <a:off x="228240" y="380880"/>
            <a:ext cx="8001000" cy="33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3B47A27-3648-4E93-8287-3EA50C7BCF3A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0010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143f"/>
              </a:solidFill>
              <a:latin typeface="Arial Black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228240" y="1100160"/>
            <a:ext cx="390420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/>
          </p:nvPr>
        </p:nvSpPr>
        <p:spPr>
          <a:xfrm>
            <a:off x="4327920" y="1100160"/>
            <a:ext cx="3904200" cy="537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924" name="PlaceHolder 4"/>
          <p:cNvSpPr>
            <a:spLocks noGrp="1"/>
          </p:cNvSpPr>
          <p:nvPr>
            <p:ph/>
          </p:nvPr>
        </p:nvSpPr>
        <p:spPr>
          <a:xfrm>
            <a:off x="228240" y="3908880"/>
            <a:ext cx="390420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2F0E6B7-1047-4035-88B5-7262686D565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0010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143f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228240" y="1100160"/>
            <a:ext cx="8001000" cy="53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0010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143f"/>
              </a:solidFill>
              <a:latin typeface="Arial Black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228240" y="1100160"/>
            <a:ext cx="3904200" cy="537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927" name="PlaceHolder 3"/>
          <p:cNvSpPr>
            <a:spLocks noGrp="1"/>
          </p:cNvSpPr>
          <p:nvPr>
            <p:ph/>
          </p:nvPr>
        </p:nvSpPr>
        <p:spPr>
          <a:xfrm>
            <a:off x="4327920" y="1100160"/>
            <a:ext cx="390420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928" name="PlaceHolder 4"/>
          <p:cNvSpPr>
            <a:spLocks noGrp="1"/>
          </p:cNvSpPr>
          <p:nvPr>
            <p:ph/>
          </p:nvPr>
        </p:nvSpPr>
        <p:spPr>
          <a:xfrm>
            <a:off x="4327920" y="3908880"/>
            <a:ext cx="390420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9D2968F-ED5F-4CF2-86C9-D74A114A4272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0010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143f"/>
              </a:solidFill>
              <a:latin typeface="Arial Black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228240" y="1100160"/>
            <a:ext cx="390420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327920" y="1100160"/>
            <a:ext cx="390420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228240" y="3908880"/>
            <a:ext cx="800100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3903FB8-C47E-4C8D-8294-5FE3EAD5E13B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0010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143f"/>
              </a:solidFill>
              <a:latin typeface="Arial Black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228240" y="1100160"/>
            <a:ext cx="800100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228240" y="3908880"/>
            <a:ext cx="800100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0BA73D2-23E9-436A-B60B-469D8D13D7FC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0010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143f"/>
              </a:solidFill>
              <a:latin typeface="Arial Black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228240" y="1100160"/>
            <a:ext cx="390420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327920" y="1100160"/>
            <a:ext cx="390420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228240" y="3908880"/>
            <a:ext cx="390420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940" name="PlaceHolder 5"/>
          <p:cNvSpPr>
            <a:spLocks noGrp="1"/>
          </p:cNvSpPr>
          <p:nvPr>
            <p:ph/>
          </p:nvPr>
        </p:nvSpPr>
        <p:spPr>
          <a:xfrm>
            <a:off x="4327920" y="3908880"/>
            <a:ext cx="390420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9CE8C65-0A33-4C0B-A1DE-D7C5C32D7911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0010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143f"/>
              </a:solidFill>
              <a:latin typeface="Arial Black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228240" y="1100160"/>
            <a:ext cx="257616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2933640" y="1100160"/>
            <a:ext cx="257616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5639040" y="1100160"/>
            <a:ext cx="257616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945" name="PlaceHolder 5"/>
          <p:cNvSpPr>
            <a:spLocks noGrp="1"/>
          </p:cNvSpPr>
          <p:nvPr>
            <p:ph/>
          </p:nvPr>
        </p:nvSpPr>
        <p:spPr>
          <a:xfrm>
            <a:off x="228240" y="3908880"/>
            <a:ext cx="257616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946" name="PlaceHolder 6"/>
          <p:cNvSpPr>
            <a:spLocks noGrp="1"/>
          </p:cNvSpPr>
          <p:nvPr>
            <p:ph/>
          </p:nvPr>
        </p:nvSpPr>
        <p:spPr>
          <a:xfrm>
            <a:off x="2933640" y="3908880"/>
            <a:ext cx="257616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947" name="PlaceHolder 7"/>
          <p:cNvSpPr>
            <a:spLocks noGrp="1"/>
          </p:cNvSpPr>
          <p:nvPr>
            <p:ph/>
          </p:nvPr>
        </p:nvSpPr>
        <p:spPr>
          <a:xfrm>
            <a:off x="5639040" y="3908880"/>
            <a:ext cx="257616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73C83C7-4499-4FF1-B655-698DF69ECD83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0A205DA-BA79-4A20-8131-2046C9C50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0010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143f"/>
              </a:solidFill>
              <a:latin typeface="Arial Black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 type="subTitle"/>
          </p:nvPr>
        </p:nvSpPr>
        <p:spPr>
          <a:xfrm>
            <a:off x="228240" y="1100160"/>
            <a:ext cx="8001000" cy="53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783C2CF-5C0B-41E7-AD13-ABD0F4D9F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0010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143f"/>
              </a:solidFill>
              <a:latin typeface="Arial Black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228240" y="1100160"/>
            <a:ext cx="8001000" cy="537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3D4CA38-98E0-4884-A006-6F50F60C8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0010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143f"/>
              </a:solidFill>
              <a:latin typeface="Arial Black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228240" y="1100160"/>
            <a:ext cx="3904200" cy="537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327920" y="1100160"/>
            <a:ext cx="3904200" cy="537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94DAE9D-8A4D-4E93-B02D-F0BD6E305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0010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143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BF614FF-7A22-4629-AAF1-A84D68A0F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0010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143f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240" y="1100160"/>
            <a:ext cx="8001000" cy="537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subTitle"/>
          </p:nvPr>
        </p:nvSpPr>
        <p:spPr>
          <a:xfrm>
            <a:off x="228240" y="380880"/>
            <a:ext cx="8001000" cy="33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A87DD74-7336-4491-AE07-EB5AD6D24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0010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143f"/>
              </a:solidFill>
              <a:latin typeface="Arial Black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228240" y="1100160"/>
            <a:ext cx="390420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327920" y="1100160"/>
            <a:ext cx="3904200" cy="537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228240" y="3908880"/>
            <a:ext cx="390420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B3A152F-EEB1-4D16-B1C6-9DD449802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0010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143f"/>
              </a:solidFill>
              <a:latin typeface="Arial Black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228240" y="1100160"/>
            <a:ext cx="3904200" cy="537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4327920" y="1100160"/>
            <a:ext cx="390420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969" name="PlaceHolder 4"/>
          <p:cNvSpPr>
            <a:spLocks noGrp="1"/>
          </p:cNvSpPr>
          <p:nvPr>
            <p:ph/>
          </p:nvPr>
        </p:nvSpPr>
        <p:spPr>
          <a:xfrm>
            <a:off x="4327920" y="3908880"/>
            <a:ext cx="390420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0D2E339-A3BC-4EAC-958C-01F122D43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0010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143f"/>
              </a:solidFill>
              <a:latin typeface="Arial Black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228240" y="1100160"/>
            <a:ext cx="390420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4327920" y="1100160"/>
            <a:ext cx="390420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973" name="PlaceHolder 4"/>
          <p:cNvSpPr>
            <a:spLocks noGrp="1"/>
          </p:cNvSpPr>
          <p:nvPr>
            <p:ph/>
          </p:nvPr>
        </p:nvSpPr>
        <p:spPr>
          <a:xfrm>
            <a:off x="228240" y="3908880"/>
            <a:ext cx="800100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5F66F7E-0B37-41E7-B9E0-82D735E2C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0010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143f"/>
              </a:solidFill>
              <a:latin typeface="Arial Black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228240" y="1100160"/>
            <a:ext cx="800100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228240" y="3908880"/>
            <a:ext cx="800100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D676FD0-378A-426D-9A6D-C02C9E495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0010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143f"/>
              </a:solidFill>
              <a:latin typeface="Arial Black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228240" y="1100160"/>
            <a:ext cx="390420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4327920" y="1100160"/>
            <a:ext cx="390420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228240" y="3908880"/>
            <a:ext cx="390420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4327920" y="3908880"/>
            <a:ext cx="390420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EEEB1ED-3D8D-4D09-BADA-ECEF56EF8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0010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143f"/>
              </a:solidFill>
              <a:latin typeface="Arial Black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228240" y="1100160"/>
            <a:ext cx="257616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2933640" y="1100160"/>
            <a:ext cx="257616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985" name="PlaceHolder 4"/>
          <p:cNvSpPr>
            <a:spLocks noGrp="1"/>
          </p:cNvSpPr>
          <p:nvPr>
            <p:ph/>
          </p:nvPr>
        </p:nvSpPr>
        <p:spPr>
          <a:xfrm>
            <a:off x="5639040" y="1100160"/>
            <a:ext cx="257616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986" name="PlaceHolder 5"/>
          <p:cNvSpPr>
            <a:spLocks noGrp="1"/>
          </p:cNvSpPr>
          <p:nvPr>
            <p:ph/>
          </p:nvPr>
        </p:nvSpPr>
        <p:spPr>
          <a:xfrm>
            <a:off x="228240" y="3908880"/>
            <a:ext cx="257616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987" name="PlaceHolder 6"/>
          <p:cNvSpPr>
            <a:spLocks noGrp="1"/>
          </p:cNvSpPr>
          <p:nvPr>
            <p:ph/>
          </p:nvPr>
        </p:nvSpPr>
        <p:spPr>
          <a:xfrm>
            <a:off x="2933640" y="3908880"/>
            <a:ext cx="257616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988" name="PlaceHolder 7"/>
          <p:cNvSpPr>
            <a:spLocks noGrp="1"/>
          </p:cNvSpPr>
          <p:nvPr>
            <p:ph/>
          </p:nvPr>
        </p:nvSpPr>
        <p:spPr>
          <a:xfrm>
            <a:off x="5639040" y="3908880"/>
            <a:ext cx="257616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29B365F-7DAB-4E2D-B0AB-95FD34A40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C3E3170-E14A-4927-B643-6CDBA1240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0010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143f"/>
              </a:solidFill>
              <a:latin typeface="Arial Black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 type="subTitle"/>
          </p:nvPr>
        </p:nvSpPr>
        <p:spPr>
          <a:xfrm>
            <a:off x="228240" y="1100160"/>
            <a:ext cx="8001000" cy="53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AD985A0-B828-49E6-B9EB-55A965F48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0010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143f"/>
              </a:solidFill>
              <a:latin typeface="Arial Black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228240" y="1100160"/>
            <a:ext cx="8001000" cy="537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4CD796F-7D36-425C-9622-49FC33664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0010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143f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240" y="1100160"/>
            <a:ext cx="3904200" cy="537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327920" y="1100160"/>
            <a:ext cx="3904200" cy="537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0010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143f"/>
              </a:solidFill>
              <a:latin typeface="Arial Black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228240" y="1100160"/>
            <a:ext cx="3904200" cy="537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327920" y="1100160"/>
            <a:ext cx="3904200" cy="537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AA827DF-C4A3-41E5-AB02-D49335F05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0010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143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DA64B2B-FABD-4867-B490-65BDA959D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ubTitle"/>
          </p:nvPr>
        </p:nvSpPr>
        <p:spPr>
          <a:xfrm>
            <a:off x="228240" y="380880"/>
            <a:ext cx="8001000" cy="33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FEE48CF-0296-41E5-983D-660D131A7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0010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143f"/>
              </a:solidFill>
              <a:latin typeface="Arial Black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228240" y="1100160"/>
            <a:ext cx="390420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327920" y="1100160"/>
            <a:ext cx="3904200" cy="537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228240" y="3908880"/>
            <a:ext cx="390420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DACBBA9-5275-4D59-A6BE-703BC6F91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0010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143f"/>
              </a:solidFill>
              <a:latin typeface="Arial Black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228240" y="1100160"/>
            <a:ext cx="3904200" cy="537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4327920" y="1100160"/>
            <a:ext cx="390420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/>
          </p:nvPr>
        </p:nvSpPr>
        <p:spPr>
          <a:xfrm>
            <a:off x="4327920" y="3908880"/>
            <a:ext cx="390420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42E55C8-1677-44D8-8517-53768A471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0010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143f"/>
              </a:solidFill>
              <a:latin typeface="Arial Black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228240" y="1100160"/>
            <a:ext cx="390420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4327920" y="1100160"/>
            <a:ext cx="390420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228240" y="3908880"/>
            <a:ext cx="800100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75AEB0C-2C97-4FCA-B7F9-1759FBF2F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0010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143f"/>
              </a:solidFill>
              <a:latin typeface="Arial Black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228240" y="1100160"/>
            <a:ext cx="800100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228240" y="3908880"/>
            <a:ext cx="800100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B5C3023-01E8-4758-ACB8-7E24A7BF9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0010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143f"/>
              </a:solidFill>
              <a:latin typeface="Arial Black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228240" y="1100160"/>
            <a:ext cx="390420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4327920" y="1100160"/>
            <a:ext cx="390420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228240" y="3908880"/>
            <a:ext cx="390420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1022" name="PlaceHolder 5"/>
          <p:cNvSpPr>
            <a:spLocks noGrp="1"/>
          </p:cNvSpPr>
          <p:nvPr>
            <p:ph/>
          </p:nvPr>
        </p:nvSpPr>
        <p:spPr>
          <a:xfrm>
            <a:off x="4327920" y="3908880"/>
            <a:ext cx="390420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7D6EF4A-3761-4DB7-8E58-CB4ACCA3D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0010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143f"/>
              </a:solidFill>
              <a:latin typeface="Arial Black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228240" y="1100160"/>
            <a:ext cx="257616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2933640" y="1100160"/>
            <a:ext cx="257616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1026" name="PlaceHolder 4"/>
          <p:cNvSpPr>
            <a:spLocks noGrp="1"/>
          </p:cNvSpPr>
          <p:nvPr>
            <p:ph/>
          </p:nvPr>
        </p:nvSpPr>
        <p:spPr>
          <a:xfrm>
            <a:off x="5639040" y="1100160"/>
            <a:ext cx="257616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1027" name="PlaceHolder 5"/>
          <p:cNvSpPr>
            <a:spLocks noGrp="1"/>
          </p:cNvSpPr>
          <p:nvPr>
            <p:ph/>
          </p:nvPr>
        </p:nvSpPr>
        <p:spPr>
          <a:xfrm>
            <a:off x="228240" y="3908880"/>
            <a:ext cx="257616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1028" name="PlaceHolder 6"/>
          <p:cNvSpPr>
            <a:spLocks noGrp="1"/>
          </p:cNvSpPr>
          <p:nvPr>
            <p:ph/>
          </p:nvPr>
        </p:nvSpPr>
        <p:spPr>
          <a:xfrm>
            <a:off x="2933640" y="3908880"/>
            <a:ext cx="257616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1029" name="PlaceHolder 7"/>
          <p:cNvSpPr>
            <a:spLocks noGrp="1"/>
          </p:cNvSpPr>
          <p:nvPr>
            <p:ph/>
          </p:nvPr>
        </p:nvSpPr>
        <p:spPr>
          <a:xfrm>
            <a:off x="5639040" y="3908880"/>
            <a:ext cx="257616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942B385-3A59-4922-86CE-3636C701D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778CCB7-60A7-4937-A1D9-43683A1AF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0010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143f"/>
              </a:solidFill>
              <a:latin typeface="Arial Black"/>
            </a:endParaRP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0010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143f"/>
              </a:solidFill>
              <a:latin typeface="Arial Black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 type="subTitle"/>
          </p:nvPr>
        </p:nvSpPr>
        <p:spPr>
          <a:xfrm>
            <a:off x="228240" y="1100160"/>
            <a:ext cx="8001000" cy="53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47296EC-91AC-4229-85F6-1B49C4C08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0010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143f"/>
              </a:solidFill>
              <a:latin typeface="Arial Black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228240" y="1100160"/>
            <a:ext cx="8001000" cy="537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76D13BC-401B-4AEB-A651-C7D4622EB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0010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143f"/>
              </a:solidFill>
              <a:latin typeface="Arial Black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228240" y="1100160"/>
            <a:ext cx="3904200" cy="537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4327920" y="1100160"/>
            <a:ext cx="3904200" cy="537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9A2C3DA-74C8-44A3-A673-146BA0E13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0010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143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BDC5A6E-BFBE-4893-A700-C5C150CF1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subTitle"/>
          </p:nvPr>
        </p:nvSpPr>
        <p:spPr>
          <a:xfrm>
            <a:off x="228240" y="380880"/>
            <a:ext cx="8001000" cy="33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3F581A5-237B-46FA-A399-92D537048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0010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143f"/>
              </a:solidFill>
              <a:latin typeface="Arial Black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228240" y="1100160"/>
            <a:ext cx="390420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1046" name="PlaceHolder 3"/>
          <p:cNvSpPr>
            <a:spLocks noGrp="1"/>
          </p:cNvSpPr>
          <p:nvPr>
            <p:ph/>
          </p:nvPr>
        </p:nvSpPr>
        <p:spPr>
          <a:xfrm>
            <a:off x="4327920" y="1100160"/>
            <a:ext cx="3904200" cy="537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1047" name="PlaceHolder 4"/>
          <p:cNvSpPr>
            <a:spLocks noGrp="1"/>
          </p:cNvSpPr>
          <p:nvPr>
            <p:ph/>
          </p:nvPr>
        </p:nvSpPr>
        <p:spPr>
          <a:xfrm>
            <a:off x="228240" y="3908880"/>
            <a:ext cx="390420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40EB99C-660E-4357-9D03-B64687813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0010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143f"/>
              </a:solidFill>
              <a:latin typeface="Arial Black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228240" y="1100160"/>
            <a:ext cx="3904200" cy="537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1050" name="PlaceHolder 3"/>
          <p:cNvSpPr>
            <a:spLocks noGrp="1"/>
          </p:cNvSpPr>
          <p:nvPr>
            <p:ph/>
          </p:nvPr>
        </p:nvSpPr>
        <p:spPr>
          <a:xfrm>
            <a:off x="4327920" y="1100160"/>
            <a:ext cx="390420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1051" name="PlaceHolder 4"/>
          <p:cNvSpPr>
            <a:spLocks noGrp="1"/>
          </p:cNvSpPr>
          <p:nvPr>
            <p:ph/>
          </p:nvPr>
        </p:nvSpPr>
        <p:spPr>
          <a:xfrm>
            <a:off x="4327920" y="3908880"/>
            <a:ext cx="390420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A8DED57-8F6A-4D1C-9126-5C71FEF3B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0010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143f"/>
              </a:solidFill>
              <a:latin typeface="Arial Black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228240" y="1100160"/>
            <a:ext cx="390420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327920" y="1100160"/>
            <a:ext cx="390420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228240" y="3908880"/>
            <a:ext cx="800100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E52E8AC-E41A-4331-924D-EBADFF657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0010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143f"/>
              </a:solidFill>
              <a:latin typeface="Arial Black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/>
          </p:nvPr>
        </p:nvSpPr>
        <p:spPr>
          <a:xfrm>
            <a:off x="228240" y="1100160"/>
            <a:ext cx="800100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1058" name="PlaceHolder 3"/>
          <p:cNvSpPr>
            <a:spLocks noGrp="1"/>
          </p:cNvSpPr>
          <p:nvPr>
            <p:ph/>
          </p:nvPr>
        </p:nvSpPr>
        <p:spPr>
          <a:xfrm>
            <a:off x="228240" y="3908880"/>
            <a:ext cx="800100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F7D98AC-677C-4F41-9E0D-A741E8907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0010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143f"/>
              </a:solidFill>
              <a:latin typeface="Arial Black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228240" y="1100160"/>
            <a:ext cx="390420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4327920" y="1100160"/>
            <a:ext cx="390420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228240" y="3908880"/>
            <a:ext cx="390420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1063" name="PlaceHolder 5"/>
          <p:cNvSpPr>
            <a:spLocks noGrp="1"/>
          </p:cNvSpPr>
          <p:nvPr>
            <p:ph/>
          </p:nvPr>
        </p:nvSpPr>
        <p:spPr>
          <a:xfrm>
            <a:off x="4327920" y="3908880"/>
            <a:ext cx="390420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FD13A11-B890-4816-ABB7-E42A038F5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0010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143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240" y="1100160"/>
            <a:ext cx="8001000" cy="537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61EF57-2D08-4A6F-A28D-94433C690CB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228240" y="380880"/>
            <a:ext cx="8001000" cy="33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0010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143f"/>
              </a:solidFill>
              <a:latin typeface="Arial Black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/>
          </p:nvPr>
        </p:nvSpPr>
        <p:spPr>
          <a:xfrm>
            <a:off x="228240" y="1100160"/>
            <a:ext cx="257616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1066" name="PlaceHolder 3"/>
          <p:cNvSpPr>
            <a:spLocks noGrp="1"/>
          </p:cNvSpPr>
          <p:nvPr>
            <p:ph/>
          </p:nvPr>
        </p:nvSpPr>
        <p:spPr>
          <a:xfrm>
            <a:off x="2933640" y="1100160"/>
            <a:ext cx="257616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1067" name="PlaceHolder 4"/>
          <p:cNvSpPr>
            <a:spLocks noGrp="1"/>
          </p:cNvSpPr>
          <p:nvPr>
            <p:ph/>
          </p:nvPr>
        </p:nvSpPr>
        <p:spPr>
          <a:xfrm>
            <a:off x="5639040" y="1100160"/>
            <a:ext cx="257616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1068" name="PlaceHolder 5"/>
          <p:cNvSpPr>
            <a:spLocks noGrp="1"/>
          </p:cNvSpPr>
          <p:nvPr>
            <p:ph/>
          </p:nvPr>
        </p:nvSpPr>
        <p:spPr>
          <a:xfrm>
            <a:off x="228240" y="3908880"/>
            <a:ext cx="257616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1069" name="PlaceHolder 6"/>
          <p:cNvSpPr>
            <a:spLocks noGrp="1"/>
          </p:cNvSpPr>
          <p:nvPr>
            <p:ph/>
          </p:nvPr>
        </p:nvSpPr>
        <p:spPr>
          <a:xfrm>
            <a:off x="2933640" y="3908880"/>
            <a:ext cx="257616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1070" name="PlaceHolder 7"/>
          <p:cNvSpPr>
            <a:spLocks noGrp="1"/>
          </p:cNvSpPr>
          <p:nvPr>
            <p:ph/>
          </p:nvPr>
        </p:nvSpPr>
        <p:spPr>
          <a:xfrm>
            <a:off x="5639040" y="3908880"/>
            <a:ext cx="257616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D9F137E-4651-4E42-9AEB-33DF876FF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2DDC199-BD53-4E7D-8742-F9BA80C98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0010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143f"/>
              </a:solidFill>
              <a:latin typeface="Arial Black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 type="subTitle"/>
          </p:nvPr>
        </p:nvSpPr>
        <p:spPr>
          <a:xfrm>
            <a:off x="228240" y="1100160"/>
            <a:ext cx="8001000" cy="53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B28893F-06D1-4E48-9681-DAE908ECB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0010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143f"/>
              </a:solidFill>
              <a:latin typeface="Arial Black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/>
          </p:nvPr>
        </p:nvSpPr>
        <p:spPr>
          <a:xfrm>
            <a:off x="228240" y="1100160"/>
            <a:ext cx="8001000" cy="537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B42A628-0F2C-4A05-A3DD-CFA114627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0010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143f"/>
              </a:solidFill>
              <a:latin typeface="Arial Black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228240" y="1100160"/>
            <a:ext cx="3904200" cy="537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4327920" y="1100160"/>
            <a:ext cx="3904200" cy="537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FFBCD9C-3776-4C1C-AFED-1676E1A24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0010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143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E3D49F5-AA37-4053-9094-9F9F46A1F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subTitle"/>
          </p:nvPr>
        </p:nvSpPr>
        <p:spPr>
          <a:xfrm>
            <a:off x="228240" y="380880"/>
            <a:ext cx="8001000" cy="33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C75A4F4-2707-4B10-8BDA-017859EBE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0010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143f"/>
              </a:solidFill>
              <a:latin typeface="Arial Black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/>
          </p:nvPr>
        </p:nvSpPr>
        <p:spPr>
          <a:xfrm>
            <a:off x="228240" y="1100160"/>
            <a:ext cx="390420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1087" name="PlaceHolder 3"/>
          <p:cNvSpPr>
            <a:spLocks noGrp="1"/>
          </p:cNvSpPr>
          <p:nvPr>
            <p:ph/>
          </p:nvPr>
        </p:nvSpPr>
        <p:spPr>
          <a:xfrm>
            <a:off x="4327920" y="1100160"/>
            <a:ext cx="3904200" cy="537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1088" name="PlaceHolder 4"/>
          <p:cNvSpPr>
            <a:spLocks noGrp="1"/>
          </p:cNvSpPr>
          <p:nvPr>
            <p:ph/>
          </p:nvPr>
        </p:nvSpPr>
        <p:spPr>
          <a:xfrm>
            <a:off x="228240" y="3908880"/>
            <a:ext cx="390420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36869D9-7371-4D19-959B-3BA57C0E8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0010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143f"/>
              </a:solidFill>
              <a:latin typeface="Arial Black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/>
          </p:nvPr>
        </p:nvSpPr>
        <p:spPr>
          <a:xfrm>
            <a:off x="228240" y="1100160"/>
            <a:ext cx="3904200" cy="537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1091" name="PlaceHolder 3"/>
          <p:cNvSpPr>
            <a:spLocks noGrp="1"/>
          </p:cNvSpPr>
          <p:nvPr>
            <p:ph/>
          </p:nvPr>
        </p:nvSpPr>
        <p:spPr>
          <a:xfrm>
            <a:off x="4327920" y="1100160"/>
            <a:ext cx="390420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1092" name="PlaceHolder 4"/>
          <p:cNvSpPr>
            <a:spLocks noGrp="1"/>
          </p:cNvSpPr>
          <p:nvPr>
            <p:ph/>
          </p:nvPr>
        </p:nvSpPr>
        <p:spPr>
          <a:xfrm>
            <a:off x="4327920" y="3908880"/>
            <a:ext cx="390420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BA92715-2CB2-49FD-96CC-7FEFFDE26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0010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143f"/>
              </a:solidFill>
              <a:latin typeface="Arial Black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228240" y="1100160"/>
            <a:ext cx="390420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/>
          </p:nvPr>
        </p:nvSpPr>
        <p:spPr>
          <a:xfrm>
            <a:off x="4327920" y="1100160"/>
            <a:ext cx="390420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/>
          </p:nvPr>
        </p:nvSpPr>
        <p:spPr>
          <a:xfrm>
            <a:off x="228240" y="3908880"/>
            <a:ext cx="800100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89BFA56-8845-4B24-96A2-C33DAA8AC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0010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143f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240" y="1100160"/>
            <a:ext cx="390420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327920" y="1100160"/>
            <a:ext cx="3904200" cy="537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228240" y="3908880"/>
            <a:ext cx="390420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0010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143f"/>
              </a:solidFill>
              <a:latin typeface="Arial Black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/>
          </p:nvPr>
        </p:nvSpPr>
        <p:spPr>
          <a:xfrm>
            <a:off x="228240" y="1100160"/>
            <a:ext cx="800100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1099" name="PlaceHolder 3"/>
          <p:cNvSpPr>
            <a:spLocks noGrp="1"/>
          </p:cNvSpPr>
          <p:nvPr>
            <p:ph/>
          </p:nvPr>
        </p:nvSpPr>
        <p:spPr>
          <a:xfrm>
            <a:off x="228240" y="3908880"/>
            <a:ext cx="800100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0BD6F16-BB88-4807-85E8-72B11B7F4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0010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143f"/>
              </a:solidFill>
              <a:latin typeface="Arial Black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228240" y="1100160"/>
            <a:ext cx="390420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4327920" y="1100160"/>
            <a:ext cx="390420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228240" y="3908880"/>
            <a:ext cx="390420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4327920" y="3908880"/>
            <a:ext cx="390420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E3A1866-A209-44E5-B94E-8E39035F9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0010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143f"/>
              </a:solidFill>
              <a:latin typeface="Arial Black"/>
            </a:endParaRPr>
          </a:p>
        </p:txBody>
      </p:sp>
      <p:sp>
        <p:nvSpPr>
          <p:cNvPr id="1106" name="PlaceHolder 2"/>
          <p:cNvSpPr>
            <a:spLocks noGrp="1"/>
          </p:cNvSpPr>
          <p:nvPr>
            <p:ph/>
          </p:nvPr>
        </p:nvSpPr>
        <p:spPr>
          <a:xfrm>
            <a:off x="228240" y="1100160"/>
            <a:ext cx="257616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1107" name="PlaceHolder 3"/>
          <p:cNvSpPr>
            <a:spLocks noGrp="1"/>
          </p:cNvSpPr>
          <p:nvPr>
            <p:ph/>
          </p:nvPr>
        </p:nvSpPr>
        <p:spPr>
          <a:xfrm>
            <a:off x="2933640" y="1100160"/>
            <a:ext cx="257616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1108" name="PlaceHolder 4"/>
          <p:cNvSpPr>
            <a:spLocks noGrp="1"/>
          </p:cNvSpPr>
          <p:nvPr>
            <p:ph/>
          </p:nvPr>
        </p:nvSpPr>
        <p:spPr>
          <a:xfrm>
            <a:off x="5639040" y="1100160"/>
            <a:ext cx="257616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1109" name="PlaceHolder 5"/>
          <p:cNvSpPr>
            <a:spLocks noGrp="1"/>
          </p:cNvSpPr>
          <p:nvPr>
            <p:ph/>
          </p:nvPr>
        </p:nvSpPr>
        <p:spPr>
          <a:xfrm>
            <a:off x="228240" y="3908880"/>
            <a:ext cx="257616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1110" name="PlaceHolder 6"/>
          <p:cNvSpPr>
            <a:spLocks noGrp="1"/>
          </p:cNvSpPr>
          <p:nvPr>
            <p:ph/>
          </p:nvPr>
        </p:nvSpPr>
        <p:spPr>
          <a:xfrm>
            <a:off x="2933640" y="3908880"/>
            <a:ext cx="257616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1111" name="PlaceHolder 7"/>
          <p:cNvSpPr>
            <a:spLocks noGrp="1"/>
          </p:cNvSpPr>
          <p:nvPr>
            <p:ph/>
          </p:nvPr>
        </p:nvSpPr>
        <p:spPr>
          <a:xfrm>
            <a:off x="5639040" y="3908880"/>
            <a:ext cx="257616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D22D241-B3FE-411D-A0E8-8A614E4F2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62D9AAC-7F55-4853-8520-ACF022BDF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0010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143f"/>
              </a:solidFill>
              <a:latin typeface="Arial Black"/>
            </a:endParaRPr>
          </a:p>
        </p:txBody>
      </p:sp>
      <p:sp>
        <p:nvSpPr>
          <p:cNvPr id="1118" name="PlaceHolder 2"/>
          <p:cNvSpPr>
            <a:spLocks noGrp="1"/>
          </p:cNvSpPr>
          <p:nvPr>
            <p:ph type="subTitle"/>
          </p:nvPr>
        </p:nvSpPr>
        <p:spPr>
          <a:xfrm>
            <a:off x="228240" y="1100160"/>
            <a:ext cx="8001000" cy="53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431288B-DE13-411A-8E80-D74E34284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0010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143f"/>
              </a:solidFill>
              <a:latin typeface="Arial Black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228240" y="1100160"/>
            <a:ext cx="8001000" cy="537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B606FD5-FE61-49BB-84E1-33616BB65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0010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143f"/>
              </a:solidFill>
              <a:latin typeface="Arial Black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228240" y="1100160"/>
            <a:ext cx="3904200" cy="537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1123" name="PlaceHolder 3"/>
          <p:cNvSpPr>
            <a:spLocks noGrp="1"/>
          </p:cNvSpPr>
          <p:nvPr>
            <p:ph/>
          </p:nvPr>
        </p:nvSpPr>
        <p:spPr>
          <a:xfrm>
            <a:off x="4327920" y="1100160"/>
            <a:ext cx="3904200" cy="537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B6302B2-C218-40A5-AC57-AF2894256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0010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143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A5846A2-4079-486C-8111-9D35F5E39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subTitle"/>
          </p:nvPr>
        </p:nvSpPr>
        <p:spPr>
          <a:xfrm>
            <a:off x="228240" y="380880"/>
            <a:ext cx="8001000" cy="33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03E9027-6BCF-4957-BF51-5786C41ED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0010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143f"/>
              </a:solidFill>
              <a:latin typeface="Arial Black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/>
          </p:nvPr>
        </p:nvSpPr>
        <p:spPr>
          <a:xfrm>
            <a:off x="228240" y="1100160"/>
            <a:ext cx="390420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1128" name="PlaceHolder 3"/>
          <p:cNvSpPr>
            <a:spLocks noGrp="1"/>
          </p:cNvSpPr>
          <p:nvPr>
            <p:ph/>
          </p:nvPr>
        </p:nvSpPr>
        <p:spPr>
          <a:xfrm>
            <a:off x="4327920" y="1100160"/>
            <a:ext cx="3904200" cy="537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1129" name="PlaceHolder 4"/>
          <p:cNvSpPr>
            <a:spLocks noGrp="1"/>
          </p:cNvSpPr>
          <p:nvPr>
            <p:ph/>
          </p:nvPr>
        </p:nvSpPr>
        <p:spPr>
          <a:xfrm>
            <a:off x="228240" y="3908880"/>
            <a:ext cx="390420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CBCC2D5-1CCD-45B2-ADC6-81CED96C3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0010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143f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240" y="1100160"/>
            <a:ext cx="3904200" cy="537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327920" y="1100160"/>
            <a:ext cx="390420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327920" y="3908880"/>
            <a:ext cx="390420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0010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143f"/>
              </a:solidFill>
              <a:latin typeface="Arial Black"/>
            </a:endParaRPr>
          </a:p>
        </p:txBody>
      </p:sp>
      <p:sp>
        <p:nvSpPr>
          <p:cNvPr id="1131" name="PlaceHolder 2"/>
          <p:cNvSpPr>
            <a:spLocks noGrp="1"/>
          </p:cNvSpPr>
          <p:nvPr>
            <p:ph/>
          </p:nvPr>
        </p:nvSpPr>
        <p:spPr>
          <a:xfrm>
            <a:off x="228240" y="1100160"/>
            <a:ext cx="3904200" cy="537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1132" name="PlaceHolder 3"/>
          <p:cNvSpPr>
            <a:spLocks noGrp="1"/>
          </p:cNvSpPr>
          <p:nvPr>
            <p:ph/>
          </p:nvPr>
        </p:nvSpPr>
        <p:spPr>
          <a:xfrm>
            <a:off x="4327920" y="1100160"/>
            <a:ext cx="390420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1133" name="PlaceHolder 4"/>
          <p:cNvSpPr>
            <a:spLocks noGrp="1"/>
          </p:cNvSpPr>
          <p:nvPr>
            <p:ph/>
          </p:nvPr>
        </p:nvSpPr>
        <p:spPr>
          <a:xfrm>
            <a:off x="4327920" y="3908880"/>
            <a:ext cx="390420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4E54FE2-DE9D-4F1B-9B5A-387A42D55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0010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143f"/>
              </a:solidFill>
              <a:latin typeface="Arial Black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/>
          </p:nvPr>
        </p:nvSpPr>
        <p:spPr>
          <a:xfrm>
            <a:off x="228240" y="1100160"/>
            <a:ext cx="390420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1136" name="PlaceHolder 3"/>
          <p:cNvSpPr>
            <a:spLocks noGrp="1"/>
          </p:cNvSpPr>
          <p:nvPr>
            <p:ph/>
          </p:nvPr>
        </p:nvSpPr>
        <p:spPr>
          <a:xfrm>
            <a:off x="4327920" y="1100160"/>
            <a:ext cx="390420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1137" name="PlaceHolder 4"/>
          <p:cNvSpPr>
            <a:spLocks noGrp="1"/>
          </p:cNvSpPr>
          <p:nvPr>
            <p:ph/>
          </p:nvPr>
        </p:nvSpPr>
        <p:spPr>
          <a:xfrm>
            <a:off x="228240" y="3908880"/>
            <a:ext cx="800100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4CC64A4-76B1-44E1-A0B0-FE8E21371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0010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143f"/>
              </a:solidFill>
              <a:latin typeface="Arial Black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/>
          </p:nvPr>
        </p:nvSpPr>
        <p:spPr>
          <a:xfrm>
            <a:off x="228240" y="1100160"/>
            <a:ext cx="800100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1140" name="PlaceHolder 3"/>
          <p:cNvSpPr>
            <a:spLocks noGrp="1"/>
          </p:cNvSpPr>
          <p:nvPr>
            <p:ph/>
          </p:nvPr>
        </p:nvSpPr>
        <p:spPr>
          <a:xfrm>
            <a:off x="228240" y="3908880"/>
            <a:ext cx="800100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6A8BB6D-86B5-463D-AF79-9080B4420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0010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143f"/>
              </a:solidFill>
              <a:latin typeface="Arial Black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228240" y="1100160"/>
            <a:ext cx="390420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1143" name="PlaceHolder 3"/>
          <p:cNvSpPr>
            <a:spLocks noGrp="1"/>
          </p:cNvSpPr>
          <p:nvPr>
            <p:ph/>
          </p:nvPr>
        </p:nvSpPr>
        <p:spPr>
          <a:xfrm>
            <a:off x="4327920" y="1100160"/>
            <a:ext cx="390420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1144" name="PlaceHolder 4"/>
          <p:cNvSpPr>
            <a:spLocks noGrp="1"/>
          </p:cNvSpPr>
          <p:nvPr>
            <p:ph/>
          </p:nvPr>
        </p:nvSpPr>
        <p:spPr>
          <a:xfrm>
            <a:off x="228240" y="3908880"/>
            <a:ext cx="390420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1145" name="PlaceHolder 5"/>
          <p:cNvSpPr>
            <a:spLocks noGrp="1"/>
          </p:cNvSpPr>
          <p:nvPr>
            <p:ph/>
          </p:nvPr>
        </p:nvSpPr>
        <p:spPr>
          <a:xfrm>
            <a:off x="4327920" y="3908880"/>
            <a:ext cx="390420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2767B77-ADA4-4A25-8A9B-14C85FEA9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0010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143f"/>
              </a:solidFill>
              <a:latin typeface="Arial Black"/>
            </a:endParaRPr>
          </a:p>
        </p:txBody>
      </p:sp>
      <p:sp>
        <p:nvSpPr>
          <p:cNvPr id="1147" name="PlaceHolder 2"/>
          <p:cNvSpPr>
            <a:spLocks noGrp="1"/>
          </p:cNvSpPr>
          <p:nvPr>
            <p:ph/>
          </p:nvPr>
        </p:nvSpPr>
        <p:spPr>
          <a:xfrm>
            <a:off x="228240" y="1100160"/>
            <a:ext cx="257616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1148" name="PlaceHolder 3"/>
          <p:cNvSpPr>
            <a:spLocks noGrp="1"/>
          </p:cNvSpPr>
          <p:nvPr>
            <p:ph/>
          </p:nvPr>
        </p:nvSpPr>
        <p:spPr>
          <a:xfrm>
            <a:off x="2933640" y="1100160"/>
            <a:ext cx="257616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1149" name="PlaceHolder 4"/>
          <p:cNvSpPr>
            <a:spLocks noGrp="1"/>
          </p:cNvSpPr>
          <p:nvPr>
            <p:ph/>
          </p:nvPr>
        </p:nvSpPr>
        <p:spPr>
          <a:xfrm>
            <a:off x="5639040" y="1100160"/>
            <a:ext cx="257616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1150" name="PlaceHolder 5"/>
          <p:cNvSpPr>
            <a:spLocks noGrp="1"/>
          </p:cNvSpPr>
          <p:nvPr>
            <p:ph/>
          </p:nvPr>
        </p:nvSpPr>
        <p:spPr>
          <a:xfrm>
            <a:off x="228240" y="3908880"/>
            <a:ext cx="257616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1151" name="PlaceHolder 6"/>
          <p:cNvSpPr>
            <a:spLocks noGrp="1"/>
          </p:cNvSpPr>
          <p:nvPr>
            <p:ph/>
          </p:nvPr>
        </p:nvSpPr>
        <p:spPr>
          <a:xfrm>
            <a:off x="2933640" y="3908880"/>
            <a:ext cx="257616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1152" name="PlaceHolder 7"/>
          <p:cNvSpPr>
            <a:spLocks noGrp="1"/>
          </p:cNvSpPr>
          <p:nvPr>
            <p:ph/>
          </p:nvPr>
        </p:nvSpPr>
        <p:spPr>
          <a:xfrm>
            <a:off x="5639040" y="3908880"/>
            <a:ext cx="257616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C06E50E-321A-4956-BC55-EA0BE7241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48CE543-754D-471B-BF0B-BE0B03562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0010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143f"/>
              </a:solidFill>
              <a:latin typeface="Arial Black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 type="subTitle"/>
          </p:nvPr>
        </p:nvSpPr>
        <p:spPr>
          <a:xfrm>
            <a:off x="228240" y="1100160"/>
            <a:ext cx="8001000" cy="53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5C9F36F-88D1-4CB7-8280-A9A7A1602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0010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143f"/>
              </a:solidFill>
              <a:latin typeface="Arial Black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/>
          </p:nvPr>
        </p:nvSpPr>
        <p:spPr>
          <a:xfrm>
            <a:off x="228240" y="1100160"/>
            <a:ext cx="8001000" cy="537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F7D78A7-91F3-4AF6-A3E6-310F4D226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0010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143f"/>
              </a:solidFill>
              <a:latin typeface="Arial Black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228240" y="1100160"/>
            <a:ext cx="3904200" cy="537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1164" name="PlaceHolder 3"/>
          <p:cNvSpPr>
            <a:spLocks noGrp="1"/>
          </p:cNvSpPr>
          <p:nvPr>
            <p:ph/>
          </p:nvPr>
        </p:nvSpPr>
        <p:spPr>
          <a:xfrm>
            <a:off x="4327920" y="1100160"/>
            <a:ext cx="3904200" cy="537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08A8591-E907-4F6E-9710-6FFEA1686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0010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143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01387C7-EB1C-41A0-8453-6E8214FF6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0010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143f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28240" y="1100160"/>
            <a:ext cx="390420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327920" y="1100160"/>
            <a:ext cx="390420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228240" y="3908880"/>
            <a:ext cx="800100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subTitle"/>
          </p:nvPr>
        </p:nvSpPr>
        <p:spPr>
          <a:xfrm>
            <a:off x="228240" y="380880"/>
            <a:ext cx="8001000" cy="33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40F1304-B990-473D-96C7-E6879FE8D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0010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143f"/>
              </a:solidFill>
              <a:latin typeface="Arial Black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228240" y="1100160"/>
            <a:ext cx="390420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4327920" y="1100160"/>
            <a:ext cx="3904200" cy="537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1170" name="PlaceHolder 4"/>
          <p:cNvSpPr>
            <a:spLocks noGrp="1"/>
          </p:cNvSpPr>
          <p:nvPr>
            <p:ph/>
          </p:nvPr>
        </p:nvSpPr>
        <p:spPr>
          <a:xfrm>
            <a:off x="228240" y="3908880"/>
            <a:ext cx="390420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BBEE8B9-077B-49CA-8CA1-FF42D0CCA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0010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143f"/>
              </a:solidFill>
              <a:latin typeface="Arial Black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228240" y="1100160"/>
            <a:ext cx="3904200" cy="537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4327920" y="1100160"/>
            <a:ext cx="390420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1174" name="PlaceHolder 4"/>
          <p:cNvSpPr>
            <a:spLocks noGrp="1"/>
          </p:cNvSpPr>
          <p:nvPr>
            <p:ph/>
          </p:nvPr>
        </p:nvSpPr>
        <p:spPr>
          <a:xfrm>
            <a:off x="4327920" y="3908880"/>
            <a:ext cx="390420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98BE4E5-C760-48F3-8A1C-63B7D52D8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0010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143f"/>
              </a:solidFill>
              <a:latin typeface="Arial Black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228240" y="1100160"/>
            <a:ext cx="390420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327920" y="1100160"/>
            <a:ext cx="390420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1178" name="PlaceHolder 4"/>
          <p:cNvSpPr>
            <a:spLocks noGrp="1"/>
          </p:cNvSpPr>
          <p:nvPr>
            <p:ph/>
          </p:nvPr>
        </p:nvSpPr>
        <p:spPr>
          <a:xfrm>
            <a:off x="228240" y="3908880"/>
            <a:ext cx="800100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E58D4D4-E471-4F49-8145-EFDA1FFD0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0010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143f"/>
              </a:solidFill>
              <a:latin typeface="Arial Black"/>
            </a:endParaRPr>
          </a:p>
        </p:txBody>
      </p:sp>
      <p:sp>
        <p:nvSpPr>
          <p:cNvPr id="1180" name="PlaceHolder 2"/>
          <p:cNvSpPr>
            <a:spLocks noGrp="1"/>
          </p:cNvSpPr>
          <p:nvPr>
            <p:ph/>
          </p:nvPr>
        </p:nvSpPr>
        <p:spPr>
          <a:xfrm>
            <a:off x="228240" y="1100160"/>
            <a:ext cx="800100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1181" name="PlaceHolder 3"/>
          <p:cNvSpPr>
            <a:spLocks noGrp="1"/>
          </p:cNvSpPr>
          <p:nvPr>
            <p:ph/>
          </p:nvPr>
        </p:nvSpPr>
        <p:spPr>
          <a:xfrm>
            <a:off x="228240" y="3908880"/>
            <a:ext cx="800100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F6C73E9-4478-4898-93AF-F350EBED3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0010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143f"/>
              </a:solidFill>
              <a:latin typeface="Arial Black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/>
          </p:nvPr>
        </p:nvSpPr>
        <p:spPr>
          <a:xfrm>
            <a:off x="228240" y="1100160"/>
            <a:ext cx="390420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1184" name="PlaceHolder 3"/>
          <p:cNvSpPr>
            <a:spLocks noGrp="1"/>
          </p:cNvSpPr>
          <p:nvPr>
            <p:ph/>
          </p:nvPr>
        </p:nvSpPr>
        <p:spPr>
          <a:xfrm>
            <a:off x="4327920" y="1100160"/>
            <a:ext cx="390420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1185" name="PlaceHolder 4"/>
          <p:cNvSpPr>
            <a:spLocks noGrp="1"/>
          </p:cNvSpPr>
          <p:nvPr>
            <p:ph/>
          </p:nvPr>
        </p:nvSpPr>
        <p:spPr>
          <a:xfrm>
            <a:off x="228240" y="3908880"/>
            <a:ext cx="390420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1186" name="PlaceHolder 5"/>
          <p:cNvSpPr>
            <a:spLocks noGrp="1"/>
          </p:cNvSpPr>
          <p:nvPr>
            <p:ph/>
          </p:nvPr>
        </p:nvSpPr>
        <p:spPr>
          <a:xfrm>
            <a:off x="4327920" y="3908880"/>
            <a:ext cx="390420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32F0994-E2B0-465C-BAA3-09FD0DB6C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0010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143f"/>
              </a:solidFill>
              <a:latin typeface="Arial Black"/>
            </a:endParaRPr>
          </a:p>
        </p:txBody>
      </p:sp>
      <p:sp>
        <p:nvSpPr>
          <p:cNvPr id="1188" name="PlaceHolder 2"/>
          <p:cNvSpPr>
            <a:spLocks noGrp="1"/>
          </p:cNvSpPr>
          <p:nvPr>
            <p:ph/>
          </p:nvPr>
        </p:nvSpPr>
        <p:spPr>
          <a:xfrm>
            <a:off x="228240" y="1100160"/>
            <a:ext cx="257616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1189" name="PlaceHolder 3"/>
          <p:cNvSpPr>
            <a:spLocks noGrp="1"/>
          </p:cNvSpPr>
          <p:nvPr>
            <p:ph/>
          </p:nvPr>
        </p:nvSpPr>
        <p:spPr>
          <a:xfrm>
            <a:off x="2933640" y="1100160"/>
            <a:ext cx="257616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1190" name="PlaceHolder 4"/>
          <p:cNvSpPr>
            <a:spLocks noGrp="1"/>
          </p:cNvSpPr>
          <p:nvPr>
            <p:ph/>
          </p:nvPr>
        </p:nvSpPr>
        <p:spPr>
          <a:xfrm>
            <a:off x="5639040" y="1100160"/>
            <a:ext cx="257616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1191" name="PlaceHolder 5"/>
          <p:cNvSpPr>
            <a:spLocks noGrp="1"/>
          </p:cNvSpPr>
          <p:nvPr>
            <p:ph/>
          </p:nvPr>
        </p:nvSpPr>
        <p:spPr>
          <a:xfrm>
            <a:off x="228240" y="3908880"/>
            <a:ext cx="257616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1192" name="PlaceHolder 6"/>
          <p:cNvSpPr>
            <a:spLocks noGrp="1"/>
          </p:cNvSpPr>
          <p:nvPr>
            <p:ph/>
          </p:nvPr>
        </p:nvSpPr>
        <p:spPr>
          <a:xfrm>
            <a:off x="2933640" y="3908880"/>
            <a:ext cx="257616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1193" name="PlaceHolder 7"/>
          <p:cNvSpPr>
            <a:spLocks noGrp="1"/>
          </p:cNvSpPr>
          <p:nvPr>
            <p:ph/>
          </p:nvPr>
        </p:nvSpPr>
        <p:spPr>
          <a:xfrm>
            <a:off x="5639040" y="3908880"/>
            <a:ext cx="257616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01FBEE3-A65F-4338-A4DE-A66F4BA4D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865FBD02-0795-40FA-A538-0FC875BE4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0010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143f"/>
              </a:solidFill>
              <a:latin typeface="Arial Black"/>
            </a:endParaRPr>
          </a:p>
        </p:txBody>
      </p:sp>
      <p:sp>
        <p:nvSpPr>
          <p:cNvPr id="1200" name="PlaceHolder 2"/>
          <p:cNvSpPr>
            <a:spLocks noGrp="1"/>
          </p:cNvSpPr>
          <p:nvPr>
            <p:ph type="subTitle"/>
          </p:nvPr>
        </p:nvSpPr>
        <p:spPr>
          <a:xfrm>
            <a:off x="228240" y="1100160"/>
            <a:ext cx="8001000" cy="53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B3105958-3ED0-4A5C-AA1B-98CEE6002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0010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143f"/>
              </a:solidFill>
              <a:latin typeface="Arial Black"/>
            </a:endParaRPr>
          </a:p>
        </p:txBody>
      </p:sp>
      <p:sp>
        <p:nvSpPr>
          <p:cNvPr id="1202" name="PlaceHolder 2"/>
          <p:cNvSpPr>
            <a:spLocks noGrp="1"/>
          </p:cNvSpPr>
          <p:nvPr>
            <p:ph/>
          </p:nvPr>
        </p:nvSpPr>
        <p:spPr>
          <a:xfrm>
            <a:off x="228240" y="1100160"/>
            <a:ext cx="8001000" cy="537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56ADB483-1F4B-4F33-A405-0BE2B214B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0010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143f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28240" y="1100160"/>
            <a:ext cx="800100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228240" y="3908880"/>
            <a:ext cx="800100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0010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143f"/>
              </a:solidFill>
              <a:latin typeface="Arial Black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228240" y="1100160"/>
            <a:ext cx="3904200" cy="537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/>
          </p:nvPr>
        </p:nvSpPr>
        <p:spPr>
          <a:xfrm>
            <a:off x="4327920" y="1100160"/>
            <a:ext cx="3904200" cy="537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091A6A65-858C-45A2-852B-65B9C4C27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0010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143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269F5B5A-D66E-4EB2-8188-883A695CA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subTitle"/>
          </p:nvPr>
        </p:nvSpPr>
        <p:spPr>
          <a:xfrm>
            <a:off x="228240" y="380880"/>
            <a:ext cx="8001000" cy="33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D6865A03-01C0-4D61-9A25-A38FA0D5D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0010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143f"/>
              </a:solidFill>
              <a:latin typeface="Arial Black"/>
            </a:endParaRPr>
          </a:p>
        </p:txBody>
      </p:sp>
      <p:sp>
        <p:nvSpPr>
          <p:cNvPr id="1209" name="PlaceHolder 2"/>
          <p:cNvSpPr>
            <a:spLocks noGrp="1"/>
          </p:cNvSpPr>
          <p:nvPr>
            <p:ph/>
          </p:nvPr>
        </p:nvSpPr>
        <p:spPr>
          <a:xfrm>
            <a:off x="228240" y="1100160"/>
            <a:ext cx="390420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1210" name="PlaceHolder 3"/>
          <p:cNvSpPr>
            <a:spLocks noGrp="1"/>
          </p:cNvSpPr>
          <p:nvPr>
            <p:ph/>
          </p:nvPr>
        </p:nvSpPr>
        <p:spPr>
          <a:xfrm>
            <a:off x="4327920" y="1100160"/>
            <a:ext cx="3904200" cy="537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1211" name="PlaceHolder 4"/>
          <p:cNvSpPr>
            <a:spLocks noGrp="1"/>
          </p:cNvSpPr>
          <p:nvPr>
            <p:ph/>
          </p:nvPr>
        </p:nvSpPr>
        <p:spPr>
          <a:xfrm>
            <a:off x="228240" y="3908880"/>
            <a:ext cx="390420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B3CAD913-F39D-4FD9-B695-8CCD3EBC6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0010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143f"/>
              </a:solidFill>
              <a:latin typeface="Arial Black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228240" y="1100160"/>
            <a:ext cx="3904200" cy="537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4327920" y="1100160"/>
            <a:ext cx="390420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1215" name="PlaceHolder 4"/>
          <p:cNvSpPr>
            <a:spLocks noGrp="1"/>
          </p:cNvSpPr>
          <p:nvPr>
            <p:ph/>
          </p:nvPr>
        </p:nvSpPr>
        <p:spPr>
          <a:xfrm>
            <a:off x="4327920" y="3908880"/>
            <a:ext cx="390420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D10F00F2-1558-4E56-8BAA-84BE8BA62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0010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143f"/>
              </a:solidFill>
              <a:latin typeface="Arial Black"/>
            </a:endParaRPr>
          </a:p>
        </p:txBody>
      </p:sp>
      <p:sp>
        <p:nvSpPr>
          <p:cNvPr id="1217" name="PlaceHolder 2"/>
          <p:cNvSpPr>
            <a:spLocks noGrp="1"/>
          </p:cNvSpPr>
          <p:nvPr>
            <p:ph/>
          </p:nvPr>
        </p:nvSpPr>
        <p:spPr>
          <a:xfrm>
            <a:off x="228240" y="1100160"/>
            <a:ext cx="390420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1218" name="PlaceHolder 3"/>
          <p:cNvSpPr>
            <a:spLocks noGrp="1"/>
          </p:cNvSpPr>
          <p:nvPr>
            <p:ph/>
          </p:nvPr>
        </p:nvSpPr>
        <p:spPr>
          <a:xfrm>
            <a:off x="4327920" y="1100160"/>
            <a:ext cx="390420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1219" name="PlaceHolder 4"/>
          <p:cNvSpPr>
            <a:spLocks noGrp="1"/>
          </p:cNvSpPr>
          <p:nvPr>
            <p:ph/>
          </p:nvPr>
        </p:nvSpPr>
        <p:spPr>
          <a:xfrm>
            <a:off x="228240" y="3908880"/>
            <a:ext cx="800100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2C993D16-A82A-42EC-8B2F-F657E5F32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0010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143f"/>
              </a:solidFill>
              <a:latin typeface="Arial Black"/>
            </a:endParaRPr>
          </a:p>
        </p:txBody>
      </p:sp>
      <p:sp>
        <p:nvSpPr>
          <p:cNvPr id="1221" name="PlaceHolder 2"/>
          <p:cNvSpPr>
            <a:spLocks noGrp="1"/>
          </p:cNvSpPr>
          <p:nvPr>
            <p:ph/>
          </p:nvPr>
        </p:nvSpPr>
        <p:spPr>
          <a:xfrm>
            <a:off x="228240" y="1100160"/>
            <a:ext cx="800100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1222" name="PlaceHolder 3"/>
          <p:cNvSpPr>
            <a:spLocks noGrp="1"/>
          </p:cNvSpPr>
          <p:nvPr>
            <p:ph/>
          </p:nvPr>
        </p:nvSpPr>
        <p:spPr>
          <a:xfrm>
            <a:off x="228240" y="3908880"/>
            <a:ext cx="800100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4807FBB9-4B7B-47AD-AD07-40E3E94AF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0010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143f"/>
              </a:solidFill>
              <a:latin typeface="Arial Black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/>
          </p:nvPr>
        </p:nvSpPr>
        <p:spPr>
          <a:xfrm>
            <a:off x="228240" y="1100160"/>
            <a:ext cx="390420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1225" name="PlaceHolder 3"/>
          <p:cNvSpPr>
            <a:spLocks noGrp="1"/>
          </p:cNvSpPr>
          <p:nvPr>
            <p:ph/>
          </p:nvPr>
        </p:nvSpPr>
        <p:spPr>
          <a:xfrm>
            <a:off x="4327920" y="1100160"/>
            <a:ext cx="390420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1226" name="PlaceHolder 4"/>
          <p:cNvSpPr>
            <a:spLocks noGrp="1"/>
          </p:cNvSpPr>
          <p:nvPr>
            <p:ph/>
          </p:nvPr>
        </p:nvSpPr>
        <p:spPr>
          <a:xfrm>
            <a:off x="228240" y="3908880"/>
            <a:ext cx="390420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1227" name="PlaceHolder 5"/>
          <p:cNvSpPr>
            <a:spLocks noGrp="1"/>
          </p:cNvSpPr>
          <p:nvPr>
            <p:ph/>
          </p:nvPr>
        </p:nvSpPr>
        <p:spPr>
          <a:xfrm>
            <a:off x="4327920" y="3908880"/>
            <a:ext cx="390420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B27A9976-27D5-4C4F-8001-08F9E3BBE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0010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143f"/>
              </a:solidFill>
              <a:latin typeface="Arial Black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228240" y="1100160"/>
            <a:ext cx="257616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1230" name="PlaceHolder 3"/>
          <p:cNvSpPr>
            <a:spLocks noGrp="1"/>
          </p:cNvSpPr>
          <p:nvPr>
            <p:ph/>
          </p:nvPr>
        </p:nvSpPr>
        <p:spPr>
          <a:xfrm>
            <a:off x="2933640" y="1100160"/>
            <a:ext cx="257616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1231" name="PlaceHolder 4"/>
          <p:cNvSpPr>
            <a:spLocks noGrp="1"/>
          </p:cNvSpPr>
          <p:nvPr>
            <p:ph/>
          </p:nvPr>
        </p:nvSpPr>
        <p:spPr>
          <a:xfrm>
            <a:off x="5639040" y="1100160"/>
            <a:ext cx="257616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1232" name="PlaceHolder 5"/>
          <p:cNvSpPr>
            <a:spLocks noGrp="1"/>
          </p:cNvSpPr>
          <p:nvPr>
            <p:ph/>
          </p:nvPr>
        </p:nvSpPr>
        <p:spPr>
          <a:xfrm>
            <a:off x="228240" y="3908880"/>
            <a:ext cx="257616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1233" name="PlaceHolder 6"/>
          <p:cNvSpPr>
            <a:spLocks noGrp="1"/>
          </p:cNvSpPr>
          <p:nvPr>
            <p:ph/>
          </p:nvPr>
        </p:nvSpPr>
        <p:spPr>
          <a:xfrm>
            <a:off x="2933640" y="3908880"/>
            <a:ext cx="257616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1234" name="PlaceHolder 7"/>
          <p:cNvSpPr>
            <a:spLocks noGrp="1"/>
          </p:cNvSpPr>
          <p:nvPr>
            <p:ph/>
          </p:nvPr>
        </p:nvSpPr>
        <p:spPr>
          <a:xfrm>
            <a:off x="5639040" y="3908880"/>
            <a:ext cx="257616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DFBC7F08-FE4A-4EC7-ABDE-2CB2D3184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B2B71705-F052-41F1-BDC1-E40D86287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0010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143f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28240" y="1100160"/>
            <a:ext cx="390420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327920" y="1100160"/>
            <a:ext cx="390420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228240" y="3908880"/>
            <a:ext cx="390420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327920" y="3908880"/>
            <a:ext cx="390420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0010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143f"/>
              </a:solidFill>
              <a:latin typeface="Arial Black"/>
            </a:endParaRPr>
          </a:p>
        </p:txBody>
      </p:sp>
      <p:sp>
        <p:nvSpPr>
          <p:cNvPr id="1241" name="PlaceHolder 2"/>
          <p:cNvSpPr>
            <a:spLocks noGrp="1"/>
          </p:cNvSpPr>
          <p:nvPr>
            <p:ph type="subTitle"/>
          </p:nvPr>
        </p:nvSpPr>
        <p:spPr>
          <a:xfrm>
            <a:off x="228240" y="1100160"/>
            <a:ext cx="8001000" cy="53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5A5A3342-57B3-4390-ACA3-1AEF065DA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0010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143f"/>
              </a:solidFill>
              <a:latin typeface="Arial Black"/>
            </a:endParaRPr>
          </a:p>
        </p:txBody>
      </p:sp>
      <p:sp>
        <p:nvSpPr>
          <p:cNvPr id="1243" name="PlaceHolder 2"/>
          <p:cNvSpPr>
            <a:spLocks noGrp="1"/>
          </p:cNvSpPr>
          <p:nvPr>
            <p:ph/>
          </p:nvPr>
        </p:nvSpPr>
        <p:spPr>
          <a:xfrm>
            <a:off x="228240" y="1100160"/>
            <a:ext cx="8001000" cy="537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56ECB63D-3602-4CE6-A215-0588C1A94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0010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143f"/>
              </a:solidFill>
              <a:latin typeface="Arial Black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/>
          </p:nvPr>
        </p:nvSpPr>
        <p:spPr>
          <a:xfrm>
            <a:off x="228240" y="1100160"/>
            <a:ext cx="3904200" cy="537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1246" name="PlaceHolder 3"/>
          <p:cNvSpPr>
            <a:spLocks noGrp="1"/>
          </p:cNvSpPr>
          <p:nvPr>
            <p:ph/>
          </p:nvPr>
        </p:nvSpPr>
        <p:spPr>
          <a:xfrm>
            <a:off x="4327920" y="1100160"/>
            <a:ext cx="3904200" cy="537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98A373A6-A5EC-46E5-BD59-7442D15BF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0010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143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9BD1D8FE-034A-448B-B2C3-16BCAC6B5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subTitle"/>
          </p:nvPr>
        </p:nvSpPr>
        <p:spPr>
          <a:xfrm>
            <a:off x="228240" y="380880"/>
            <a:ext cx="8001000" cy="33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1E10839E-9C91-4695-9C20-C705067CC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0010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143f"/>
              </a:solidFill>
              <a:latin typeface="Arial Black"/>
            </a:endParaRPr>
          </a:p>
        </p:txBody>
      </p:sp>
      <p:sp>
        <p:nvSpPr>
          <p:cNvPr id="1250" name="PlaceHolder 2"/>
          <p:cNvSpPr>
            <a:spLocks noGrp="1"/>
          </p:cNvSpPr>
          <p:nvPr>
            <p:ph/>
          </p:nvPr>
        </p:nvSpPr>
        <p:spPr>
          <a:xfrm>
            <a:off x="228240" y="1100160"/>
            <a:ext cx="390420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1251" name="PlaceHolder 3"/>
          <p:cNvSpPr>
            <a:spLocks noGrp="1"/>
          </p:cNvSpPr>
          <p:nvPr>
            <p:ph/>
          </p:nvPr>
        </p:nvSpPr>
        <p:spPr>
          <a:xfrm>
            <a:off x="4327920" y="1100160"/>
            <a:ext cx="3904200" cy="537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1252" name="PlaceHolder 4"/>
          <p:cNvSpPr>
            <a:spLocks noGrp="1"/>
          </p:cNvSpPr>
          <p:nvPr>
            <p:ph/>
          </p:nvPr>
        </p:nvSpPr>
        <p:spPr>
          <a:xfrm>
            <a:off x="228240" y="3908880"/>
            <a:ext cx="390420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B20EE722-6AA6-4CA6-88E0-20357852B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0010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143f"/>
              </a:solidFill>
              <a:latin typeface="Arial Black"/>
            </a:endParaRPr>
          </a:p>
        </p:txBody>
      </p:sp>
      <p:sp>
        <p:nvSpPr>
          <p:cNvPr id="1254" name="PlaceHolder 2"/>
          <p:cNvSpPr>
            <a:spLocks noGrp="1"/>
          </p:cNvSpPr>
          <p:nvPr>
            <p:ph/>
          </p:nvPr>
        </p:nvSpPr>
        <p:spPr>
          <a:xfrm>
            <a:off x="228240" y="1100160"/>
            <a:ext cx="3904200" cy="537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1255" name="PlaceHolder 3"/>
          <p:cNvSpPr>
            <a:spLocks noGrp="1"/>
          </p:cNvSpPr>
          <p:nvPr>
            <p:ph/>
          </p:nvPr>
        </p:nvSpPr>
        <p:spPr>
          <a:xfrm>
            <a:off x="4327920" y="1100160"/>
            <a:ext cx="390420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1256" name="PlaceHolder 4"/>
          <p:cNvSpPr>
            <a:spLocks noGrp="1"/>
          </p:cNvSpPr>
          <p:nvPr>
            <p:ph/>
          </p:nvPr>
        </p:nvSpPr>
        <p:spPr>
          <a:xfrm>
            <a:off x="4327920" y="3908880"/>
            <a:ext cx="390420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B2E6435D-158F-48FB-BE85-FFC822DCE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0010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143f"/>
              </a:solidFill>
              <a:latin typeface="Arial Black"/>
            </a:endParaRPr>
          </a:p>
        </p:txBody>
      </p:sp>
      <p:sp>
        <p:nvSpPr>
          <p:cNvPr id="1258" name="PlaceHolder 2"/>
          <p:cNvSpPr>
            <a:spLocks noGrp="1"/>
          </p:cNvSpPr>
          <p:nvPr>
            <p:ph/>
          </p:nvPr>
        </p:nvSpPr>
        <p:spPr>
          <a:xfrm>
            <a:off x="228240" y="1100160"/>
            <a:ext cx="390420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1259" name="PlaceHolder 3"/>
          <p:cNvSpPr>
            <a:spLocks noGrp="1"/>
          </p:cNvSpPr>
          <p:nvPr>
            <p:ph/>
          </p:nvPr>
        </p:nvSpPr>
        <p:spPr>
          <a:xfrm>
            <a:off x="4327920" y="1100160"/>
            <a:ext cx="390420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1260" name="PlaceHolder 4"/>
          <p:cNvSpPr>
            <a:spLocks noGrp="1"/>
          </p:cNvSpPr>
          <p:nvPr>
            <p:ph/>
          </p:nvPr>
        </p:nvSpPr>
        <p:spPr>
          <a:xfrm>
            <a:off x="228240" y="3908880"/>
            <a:ext cx="800100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39D6B4D5-E7FF-4D0A-A09F-F5CCB62D4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0010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143f"/>
              </a:solidFill>
              <a:latin typeface="Arial Black"/>
            </a:endParaRPr>
          </a:p>
        </p:txBody>
      </p:sp>
      <p:sp>
        <p:nvSpPr>
          <p:cNvPr id="1262" name="PlaceHolder 2"/>
          <p:cNvSpPr>
            <a:spLocks noGrp="1"/>
          </p:cNvSpPr>
          <p:nvPr>
            <p:ph/>
          </p:nvPr>
        </p:nvSpPr>
        <p:spPr>
          <a:xfrm>
            <a:off x="228240" y="1100160"/>
            <a:ext cx="800100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1263" name="PlaceHolder 3"/>
          <p:cNvSpPr>
            <a:spLocks noGrp="1"/>
          </p:cNvSpPr>
          <p:nvPr>
            <p:ph/>
          </p:nvPr>
        </p:nvSpPr>
        <p:spPr>
          <a:xfrm>
            <a:off x="228240" y="3908880"/>
            <a:ext cx="800100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D690794F-1D70-4991-ABE9-F492E7FAE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0010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143f"/>
              </a:solidFill>
              <a:latin typeface="Arial Black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/>
          </p:nvPr>
        </p:nvSpPr>
        <p:spPr>
          <a:xfrm>
            <a:off x="228240" y="1100160"/>
            <a:ext cx="390420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1266" name="PlaceHolder 3"/>
          <p:cNvSpPr>
            <a:spLocks noGrp="1"/>
          </p:cNvSpPr>
          <p:nvPr>
            <p:ph/>
          </p:nvPr>
        </p:nvSpPr>
        <p:spPr>
          <a:xfrm>
            <a:off x="4327920" y="1100160"/>
            <a:ext cx="390420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1267" name="PlaceHolder 4"/>
          <p:cNvSpPr>
            <a:spLocks noGrp="1"/>
          </p:cNvSpPr>
          <p:nvPr>
            <p:ph/>
          </p:nvPr>
        </p:nvSpPr>
        <p:spPr>
          <a:xfrm>
            <a:off x="228240" y="3908880"/>
            <a:ext cx="390420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1268" name="PlaceHolder 5"/>
          <p:cNvSpPr>
            <a:spLocks noGrp="1"/>
          </p:cNvSpPr>
          <p:nvPr>
            <p:ph/>
          </p:nvPr>
        </p:nvSpPr>
        <p:spPr>
          <a:xfrm>
            <a:off x="4327920" y="3908880"/>
            <a:ext cx="390420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5BDB5460-2F49-4A18-AA31-B68B1F20E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0010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143f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28240" y="1100160"/>
            <a:ext cx="257616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2933640" y="1100160"/>
            <a:ext cx="257616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639040" y="1100160"/>
            <a:ext cx="257616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228240" y="3908880"/>
            <a:ext cx="257616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2933640" y="3908880"/>
            <a:ext cx="257616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5639040" y="3908880"/>
            <a:ext cx="257616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0010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143f"/>
              </a:solidFill>
              <a:latin typeface="Arial Black"/>
            </a:endParaRPr>
          </a:p>
        </p:txBody>
      </p:sp>
      <p:sp>
        <p:nvSpPr>
          <p:cNvPr id="1270" name="PlaceHolder 2"/>
          <p:cNvSpPr>
            <a:spLocks noGrp="1"/>
          </p:cNvSpPr>
          <p:nvPr>
            <p:ph/>
          </p:nvPr>
        </p:nvSpPr>
        <p:spPr>
          <a:xfrm>
            <a:off x="228240" y="1100160"/>
            <a:ext cx="257616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1271" name="PlaceHolder 3"/>
          <p:cNvSpPr>
            <a:spLocks noGrp="1"/>
          </p:cNvSpPr>
          <p:nvPr>
            <p:ph/>
          </p:nvPr>
        </p:nvSpPr>
        <p:spPr>
          <a:xfrm>
            <a:off x="2933640" y="1100160"/>
            <a:ext cx="257616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1272" name="PlaceHolder 4"/>
          <p:cNvSpPr>
            <a:spLocks noGrp="1"/>
          </p:cNvSpPr>
          <p:nvPr>
            <p:ph/>
          </p:nvPr>
        </p:nvSpPr>
        <p:spPr>
          <a:xfrm>
            <a:off x="5639040" y="1100160"/>
            <a:ext cx="257616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1273" name="PlaceHolder 5"/>
          <p:cNvSpPr>
            <a:spLocks noGrp="1"/>
          </p:cNvSpPr>
          <p:nvPr>
            <p:ph/>
          </p:nvPr>
        </p:nvSpPr>
        <p:spPr>
          <a:xfrm>
            <a:off x="228240" y="3908880"/>
            <a:ext cx="257616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1274" name="PlaceHolder 6"/>
          <p:cNvSpPr>
            <a:spLocks noGrp="1"/>
          </p:cNvSpPr>
          <p:nvPr>
            <p:ph/>
          </p:nvPr>
        </p:nvSpPr>
        <p:spPr>
          <a:xfrm>
            <a:off x="2933640" y="3908880"/>
            <a:ext cx="257616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1275" name="PlaceHolder 7"/>
          <p:cNvSpPr>
            <a:spLocks noGrp="1"/>
          </p:cNvSpPr>
          <p:nvPr>
            <p:ph/>
          </p:nvPr>
        </p:nvSpPr>
        <p:spPr>
          <a:xfrm>
            <a:off x="5639040" y="3908880"/>
            <a:ext cx="257616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8822DF5C-0038-42D6-BCE5-EC6158A32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95FE3876-B595-4F15-9646-52C317EFF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0010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143f"/>
              </a:solidFill>
              <a:latin typeface="Arial Black"/>
            </a:endParaRPr>
          </a:p>
        </p:txBody>
      </p:sp>
      <p:sp>
        <p:nvSpPr>
          <p:cNvPr id="1282" name="PlaceHolder 2"/>
          <p:cNvSpPr>
            <a:spLocks noGrp="1"/>
          </p:cNvSpPr>
          <p:nvPr>
            <p:ph type="subTitle"/>
          </p:nvPr>
        </p:nvSpPr>
        <p:spPr>
          <a:xfrm>
            <a:off x="228240" y="1100160"/>
            <a:ext cx="8001000" cy="53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CF5C228F-697E-4F58-AC4D-AFF980F54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0010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143f"/>
              </a:solidFill>
              <a:latin typeface="Arial Black"/>
            </a:endParaRPr>
          </a:p>
        </p:txBody>
      </p:sp>
      <p:sp>
        <p:nvSpPr>
          <p:cNvPr id="1284" name="PlaceHolder 2"/>
          <p:cNvSpPr>
            <a:spLocks noGrp="1"/>
          </p:cNvSpPr>
          <p:nvPr>
            <p:ph/>
          </p:nvPr>
        </p:nvSpPr>
        <p:spPr>
          <a:xfrm>
            <a:off x="228240" y="1100160"/>
            <a:ext cx="8001000" cy="537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859FF5CB-A2D8-4E14-88D7-01DEA0314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0010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143f"/>
              </a:solidFill>
              <a:latin typeface="Arial Black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/>
          </p:nvPr>
        </p:nvSpPr>
        <p:spPr>
          <a:xfrm>
            <a:off x="228240" y="1100160"/>
            <a:ext cx="3904200" cy="537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1287" name="PlaceHolder 3"/>
          <p:cNvSpPr>
            <a:spLocks noGrp="1"/>
          </p:cNvSpPr>
          <p:nvPr>
            <p:ph/>
          </p:nvPr>
        </p:nvSpPr>
        <p:spPr>
          <a:xfrm>
            <a:off x="4327920" y="1100160"/>
            <a:ext cx="3904200" cy="537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0838E55D-C9F3-4278-ADBE-DC1B35C6C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0010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143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3A325C74-E31E-4A05-B157-F141285E1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subTitle"/>
          </p:nvPr>
        </p:nvSpPr>
        <p:spPr>
          <a:xfrm>
            <a:off x="228240" y="380880"/>
            <a:ext cx="8001000" cy="33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445FBD93-D208-4324-94E4-0859DEF48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0010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143f"/>
              </a:solidFill>
              <a:latin typeface="Arial Black"/>
            </a:endParaRPr>
          </a:p>
        </p:txBody>
      </p:sp>
      <p:sp>
        <p:nvSpPr>
          <p:cNvPr id="1291" name="PlaceHolder 2"/>
          <p:cNvSpPr>
            <a:spLocks noGrp="1"/>
          </p:cNvSpPr>
          <p:nvPr>
            <p:ph/>
          </p:nvPr>
        </p:nvSpPr>
        <p:spPr>
          <a:xfrm>
            <a:off x="228240" y="1100160"/>
            <a:ext cx="390420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1292" name="PlaceHolder 3"/>
          <p:cNvSpPr>
            <a:spLocks noGrp="1"/>
          </p:cNvSpPr>
          <p:nvPr>
            <p:ph/>
          </p:nvPr>
        </p:nvSpPr>
        <p:spPr>
          <a:xfrm>
            <a:off x="4327920" y="1100160"/>
            <a:ext cx="3904200" cy="537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1293" name="PlaceHolder 4"/>
          <p:cNvSpPr>
            <a:spLocks noGrp="1"/>
          </p:cNvSpPr>
          <p:nvPr>
            <p:ph/>
          </p:nvPr>
        </p:nvSpPr>
        <p:spPr>
          <a:xfrm>
            <a:off x="228240" y="3908880"/>
            <a:ext cx="390420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E2118481-572C-4249-9BA2-39971DC08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0010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143f"/>
              </a:solidFill>
              <a:latin typeface="Arial Black"/>
            </a:endParaRPr>
          </a:p>
        </p:txBody>
      </p:sp>
      <p:sp>
        <p:nvSpPr>
          <p:cNvPr id="1295" name="PlaceHolder 2"/>
          <p:cNvSpPr>
            <a:spLocks noGrp="1"/>
          </p:cNvSpPr>
          <p:nvPr>
            <p:ph/>
          </p:nvPr>
        </p:nvSpPr>
        <p:spPr>
          <a:xfrm>
            <a:off x="228240" y="1100160"/>
            <a:ext cx="3904200" cy="537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1296" name="PlaceHolder 3"/>
          <p:cNvSpPr>
            <a:spLocks noGrp="1"/>
          </p:cNvSpPr>
          <p:nvPr>
            <p:ph/>
          </p:nvPr>
        </p:nvSpPr>
        <p:spPr>
          <a:xfrm>
            <a:off x="4327920" y="1100160"/>
            <a:ext cx="390420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1297" name="PlaceHolder 4"/>
          <p:cNvSpPr>
            <a:spLocks noGrp="1"/>
          </p:cNvSpPr>
          <p:nvPr>
            <p:ph/>
          </p:nvPr>
        </p:nvSpPr>
        <p:spPr>
          <a:xfrm>
            <a:off x="4327920" y="3908880"/>
            <a:ext cx="390420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290A7E4D-7B13-422E-BEF2-2A9DE2E1A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0010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143f"/>
              </a:solidFill>
              <a:latin typeface="Arial Black"/>
            </a:endParaRPr>
          </a:p>
        </p:txBody>
      </p:sp>
      <p:sp>
        <p:nvSpPr>
          <p:cNvPr id="1299" name="PlaceHolder 2"/>
          <p:cNvSpPr>
            <a:spLocks noGrp="1"/>
          </p:cNvSpPr>
          <p:nvPr>
            <p:ph/>
          </p:nvPr>
        </p:nvSpPr>
        <p:spPr>
          <a:xfrm>
            <a:off x="228240" y="1100160"/>
            <a:ext cx="390420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1300" name="PlaceHolder 3"/>
          <p:cNvSpPr>
            <a:spLocks noGrp="1"/>
          </p:cNvSpPr>
          <p:nvPr>
            <p:ph/>
          </p:nvPr>
        </p:nvSpPr>
        <p:spPr>
          <a:xfrm>
            <a:off x="4327920" y="1100160"/>
            <a:ext cx="390420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1301" name="PlaceHolder 4"/>
          <p:cNvSpPr>
            <a:spLocks noGrp="1"/>
          </p:cNvSpPr>
          <p:nvPr>
            <p:ph/>
          </p:nvPr>
        </p:nvSpPr>
        <p:spPr>
          <a:xfrm>
            <a:off x="228240" y="3908880"/>
            <a:ext cx="800100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1969F2E1-5C67-4E07-8DA6-7FACB4065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0010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143f"/>
              </a:solidFill>
              <a:latin typeface="Arial Black"/>
            </a:endParaRPr>
          </a:p>
        </p:txBody>
      </p:sp>
      <p:sp>
        <p:nvSpPr>
          <p:cNvPr id="1303" name="PlaceHolder 2"/>
          <p:cNvSpPr>
            <a:spLocks noGrp="1"/>
          </p:cNvSpPr>
          <p:nvPr>
            <p:ph/>
          </p:nvPr>
        </p:nvSpPr>
        <p:spPr>
          <a:xfrm>
            <a:off x="228240" y="1100160"/>
            <a:ext cx="800100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1304" name="PlaceHolder 3"/>
          <p:cNvSpPr>
            <a:spLocks noGrp="1"/>
          </p:cNvSpPr>
          <p:nvPr>
            <p:ph/>
          </p:nvPr>
        </p:nvSpPr>
        <p:spPr>
          <a:xfrm>
            <a:off x="228240" y="3908880"/>
            <a:ext cx="800100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8ADBFFB3-4106-456B-85A7-8E939BF11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0010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143f"/>
              </a:solidFill>
              <a:latin typeface="Arial Black"/>
            </a:endParaRPr>
          </a:p>
        </p:txBody>
      </p:sp>
      <p:sp>
        <p:nvSpPr>
          <p:cNvPr id="1306" name="PlaceHolder 2"/>
          <p:cNvSpPr>
            <a:spLocks noGrp="1"/>
          </p:cNvSpPr>
          <p:nvPr>
            <p:ph/>
          </p:nvPr>
        </p:nvSpPr>
        <p:spPr>
          <a:xfrm>
            <a:off x="228240" y="1100160"/>
            <a:ext cx="390420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1307" name="PlaceHolder 3"/>
          <p:cNvSpPr>
            <a:spLocks noGrp="1"/>
          </p:cNvSpPr>
          <p:nvPr>
            <p:ph/>
          </p:nvPr>
        </p:nvSpPr>
        <p:spPr>
          <a:xfrm>
            <a:off x="4327920" y="1100160"/>
            <a:ext cx="390420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1308" name="PlaceHolder 4"/>
          <p:cNvSpPr>
            <a:spLocks noGrp="1"/>
          </p:cNvSpPr>
          <p:nvPr>
            <p:ph/>
          </p:nvPr>
        </p:nvSpPr>
        <p:spPr>
          <a:xfrm>
            <a:off x="228240" y="3908880"/>
            <a:ext cx="390420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1309" name="PlaceHolder 5"/>
          <p:cNvSpPr>
            <a:spLocks noGrp="1"/>
          </p:cNvSpPr>
          <p:nvPr>
            <p:ph/>
          </p:nvPr>
        </p:nvSpPr>
        <p:spPr>
          <a:xfrm>
            <a:off x="4327920" y="3908880"/>
            <a:ext cx="390420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752AC9EA-6694-43C5-8725-6F1B8CEB3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0010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143f"/>
              </a:solidFill>
              <a:latin typeface="Arial Black"/>
            </a:endParaRPr>
          </a:p>
        </p:txBody>
      </p:sp>
      <p:sp>
        <p:nvSpPr>
          <p:cNvPr id="1311" name="PlaceHolder 2"/>
          <p:cNvSpPr>
            <a:spLocks noGrp="1"/>
          </p:cNvSpPr>
          <p:nvPr>
            <p:ph/>
          </p:nvPr>
        </p:nvSpPr>
        <p:spPr>
          <a:xfrm>
            <a:off x="228240" y="1100160"/>
            <a:ext cx="257616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1312" name="PlaceHolder 3"/>
          <p:cNvSpPr>
            <a:spLocks noGrp="1"/>
          </p:cNvSpPr>
          <p:nvPr>
            <p:ph/>
          </p:nvPr>
        </p:nvSpPr>
        <p:spPr>
          <a:xfrm>
            <a:off x="2933640" y="1100160"/>
            <a:ext cx="257616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1313" name="PlaceHolder 4"/>
          <p:cNvSpPr>
            <a:spLocks noGrp="1"/>
          </p:cNvSpPr>
          <p:nvPr>
            <p:ph/>
          </p:nvPr>
        </p:nvSpPr>
        <p:spPr>
          <a:xfrm>
            <a:off x="5639040" y="1100160"/>
            <a:ext cx="257616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1314" name="PlaceHolder 5"/>
          <p:cNvSpPr>
            <a:spLocks noGrp="1"/>
          </p:cNvSpPr>
          <p:nvPr>
            <p:ph/>
          </p:nvPr>
        </p:nvSpPr>
        <p:spPr>
          <a:xfrm>
            <a:off x="228240" y="3908880"/>
            <a:ext cx="257616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1315" name="PlaceHolder 6"/>
          <p:cNvSpPr>
            <a:spLocks noGrp="1"/>
          </p:cNvSpPr>
          <p:nvPr>
            <p:ph/>
          </p:nvPr>
        </p:nvSpPr>
        <p:spPr>
          <a:xfrm>
            <a:off x="2933640" y="3908880"/>
            <a:ext cx="257616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1316" name="PlaceHolder 7"/>
          <p:cNvSpPr>
            <a:spLocks noGrp="1"/>
          </p:cNvSpPr>
          <p:nvPr>
            <p:ph/>
          </p:nvPr>
        </p:nvSpPr>
        <p:spPr>
          <a:xfrm>
            <a:off x="5639040" y="3908880"/>
            <a:ext cx="257616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8302CBBE-EF69-4048-B77F-16B7F2354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0010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143f"/>
              </a:solidFill>
              <a:latin typeface="Arial Black"/>
            </a:endParaRPr>
          </a:p>
        </p:txBody>
      </p:sp>
      <p:sp>
        <p:nvSpPr>
          <p:cNvPr id="1329" name="PlaceHolder 2"/>
          <p:cNvSpPr>
            <a:spLocks noGrp="1"/>
          </p:cNvSpPr>
          <p:nvPr>
            <p:ph type="subTitle"/>
          </p:nvPr>
        </p:nvSpPr>
        <p:spPr>
          <a:xfrm>
            <a:off x="228240" y="1100160"/>
            <a:ext cx="8001000" cy="53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0010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143f"/>
              </a:solidFill>
              <a:latin typeface="Arial Black"/>
            </a:endParaRPr>
          </a:p>
        </p:txBody>
      </p:sp>
      <p:sp>
        <p:nvSpPr>
          <p:cNvPr id="1331" name="PlaceHolder 2"/>
          <p:cNvSpPr>
            <a:spLocks noGrp="1"/>
          </p:cNvSpPr>
          <p:nvPr>
            <p:ph/>
          </p:nvPr>
        </p:nvSpPr>
        <p:spPr>
          <a:xfrm>
            <a:off x="228240" y="1100160"/>
            <a:ext cx="8001000" cy="537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0010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143f"/>
              </a:solidFill>
              <a:latin typeface="Arial Black"/>
            </a:endParaRPr>
          </a:p>
        </p:txBody>
      </p:sp>
      <p:sp>
        <p:nvSpPr>
          <p:cNvPr id="1333" name="PlaceHolder 2"/>
          <p:cNvSpPr>
            <a:spLocks noGrp="1"/>
          </p:cNvSpPr>
          <p:nvPr>
            <p:ph/>
          </p:nvPr>
        </p:nvSpPr>
        <p:spPr>
          <a:xfrm>
            <a:off x="228240" y="1100160"/>
            <a:ext cx="3904200" cy="537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1334" name="PlaceHolder 3"/>
          <p:cNvSpPr>
            <a:spLocks noGrp="1"/>
          </p:cNvSpPr>
          <p:nvPr>
            <p:ph/>
          </p:nvPr>
        </p:nvSpPr>
        <p:spPr>
          <a:xfrm>
            <a:off x="4327920" y="1100160"/>
            <a:ext cx="3904200" cy="537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0010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143f"/>
              </a:solidFill>
              <a:latin typeface="Arial Black"/>
            </a:endParaRP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PlaceHolder 1"/>
          <p:cNvSpPr>
            <a:spLocks noGrp="1"/>
          </p:cNvSpPr>
          <p:nvPr>
            <p:ph type="subTitle"/>
          </p:nvPr>
        </p:nvSpPr>
        <p:spPr>
          <a:xfrm>
            <a:off x="228240" y="380880"/>
            <a:ext cx="8001000" cy="33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0010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143f"/>
              </a:solidFill>
              <a:latin typeface="Arial Black"/>
            </a:endParaRPr>
          </a:p>
        </p:txBody>
      </p:sp>
      <p:sp>
        <p:nvSpPr>
          <p:cNvPr id="1338" name="PlaceHolder 2"/>
          <p:cNvSpPr>
            <a:spLocks noGrp="1"/>
          </p:cNvSpPr>
          <p:nvPr>
            <p:ph/>
          </p:nvPr>
        </p:nvSpPr>
        <p:spPr>
          <a:xfrm>
            <a:off x="228240" y="1100160"/>
            <a:ext cx="390420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1339" name="PlaceHolder 3"/>
          <p:cNvSpPr>
            <a:spLocks noGrp="1"/>
          </p:cNvSpPr>
          <p:nvPr>
            <p:ph/>
          </p:nvPr>
        </p:nvSpPr>
        <p:spPr>
          <a:xfrm>
            <a:off x="4327920" y="1100160"/>
            <a:ext cx="3904200" cy="537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1340" name="PlaceHolder 4"/>
          <p:cNvSpPr>
            <a:spLocks noGrp="1"/>
          </p:cNvSpPr>
          <p:nvPr>
            <p:ph/>
          </p:nvPr>
        </p:nvSpPr>
        <p:spPr>
          <a:xfrm>
            <a:off x="228240" y="3908880"/>
            <a:ext cx="390420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0010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143f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228240" y="1100160"/>
            <a:ext cx="8001000" cy="53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0010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143f"/>
              </a:solidFill>
              <a:latin typeface="Arial Black"/>
            </a:endParaRPr>
          </a:p>
        </p:txBody>
      </p:sp>
      <p:sp>
        <p:nvSpPr>
          <p:cNvPr id="1342" name="PlaceHolder 2"/>
          <p:cNvSpPr>
            <a:spLocks noGrp="1"/>
          </p:cNvSpPr>
          <p:nvPr>
            <p:ph/>
          </p:nvPr>
        </p:nvSpPr>
        <p:spPr>
          <a:xfrm>
            <a:off x="228240" y="1100160"/>
            <a:ext cx="3904200" cy="537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1343" name="PlaceHolder 3"/>
          <p:cNvSpPr>
            <a:spLocks noGrp="1"/>
          </p:cNvSpPr>
          <p:nvPr>
            <p:ph/>
          </p:nvPr>
        </p:nvSpPr>
        <p:spPr>
          <a:xfrm>
            <a:off x="4327920" y="1100160"/>
            <a:ext cx="390420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1344" name="PlaceHolder 4"/>
          <p:cNvSpPr>
            <a:spLocks noGrp="1"/>
          </p:cNvSpPr>
          <p:nvPr>
            <p:ph/>
          </p:nvPr>
        </p:nvSpPr>
        <p:spPr>
          <a:xfrm>
            <a:off x="4327920" y="3908880"/>
            <a:ext cx="390420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0010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143f"/>
              </a:solidFill>
              <a:latin typeface="Arial Black"/>
            </a:endParaRPr>
          </a:p>
        </p:txBody>
      </p:sp>
      <p:sp>
        <p:nvSpPr>
          <p:cNvPr id="1346" name="PlaceHolder 2"/>
          <p:cNvSpPr>
            <a:spLocks noGrp="1"/>
          </p:cNvSpPr>
          <p:nvPr>
            <p:ph/>
          </p:nvPr>
        </p:nvSpPr>
        <p:spPr>
          <a:xfrm>
            <a:off x="228240" y="1100160"/>
            <a:ext cx="390420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1347" name="PlaceHolder 3"/>
          <p:cNvSpPr>
            <a:spLocks noGrp="1"/>
          </p:cNvSpPr>
          <p:nvPr>
            <p:ph/>
          </p:nvPr>
        </p:nvSpPr>
        <p:spPr>
          <a:xfrm>
            <a:off x="4327920" y="1100160"/>
            <a:ext cx="390420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1348" name="PlaceHolder 4"/>
          <p:cNvSpPr>
            <a:spLocks noGrp="1"/>
          </p:cNvSpPr>
          <p:nvPr>
            <p:ph/>
          </p:nvPr>
        </p:nvSpPr>
        <p:spPr>
          <a:xfrm>
            <a:off x="228240" y="3908880"/>
            <a:ext cx="800100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9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0010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143f"/>
              </a:solidFill>
              <a:latin typeface="Arial Black"/>
            </a:endParaRPr>
          </a:p>
        </p:txBody>
      </p:sp>
      <p:sp>
        <p:nvSpPr>
          <p:cNvPr id="1350" name="PlaceHolder 2"/>
          <p:cNvSpPr>
            <a:spLocks noGrp="1"/>
          </p:cNvSpPr>
          <p:nvPr>
            <p:ph/>
          </p:nvPr>
        </p:nvSpPr>
        <p:spPr>
          <a:xfrm>
            <a:off x="228240" y="1100160"/>
            <a:ext cx="800100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1351" name="PlaceHolder 3"/>
          <p:cNvSpPr>
            <a:spLocks noGrp="1"/>
          </p:cNvSpPr>
          <p:nvPr>
            <p:ph/>
          </p:nvPr>
        </p:nvSpPr>
        <p:spPr>
          <a:xfrm>
            <a:off x="228240" y="3908880"/>
            <a:ext cx="800100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0010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143f"/>
              </a:solidFill>
              <a:latin typeface="Arial Black"/>
            </a:endParaRPr>
          </a:p>
        </p:txBody>
      </p:sp>
      <p:sp>
        <p:nvSpPr>
          <p:cNvPr id="1353" name="PlaceHolder 2"/>
          <p:cNvSpPr>
            <a:spLocks noGrp="1"/>
          </p:cNvSpPr>
          <p:nvPr>
            <p:ph/>
          </p:nvPr>
        </p:nvSpPr>
        <p:spPr>
          <a:xfrm>
            <a:off x="228240" y="1100160"/>
            <a:ext cx="390420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1354" name="PlaceHolder 3"/>
          <p:cNvSpPr>
            <a:spLocks noGrp="1"/>
          </p:cNvSpPr>
          <p:nvPr>
            <p:ph/>
          </p:nvPr>
        </p:nvSpPr>
        <p:spPr>
          <a:xfrm>
            <a:off x="4327920" y="1100160"/>
            <a:ext cx="390420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1355" name="PlaceHolder 4"/>
          <p:cNvSpPr>
            <a:spLocks noGrp="1"/>
          </p:cNvSpPr>
          <p:nvPr>
            <p:ph/>
          </p:nvPr>
        </p:nvSpPr>
        <p:spPr>
          <a:xfrm>
            <a:off x="228240" y="3908880"/>
            <a:ext cx="390420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1356" name="PlaceHolder 5"/>
          <p:cNvSpPr>
            <a:spLocks noGrp="1"/>
          </p:cNvSpPr>
          <p:nvPr>
            <p:ph/>
          </p:nvPr>
        </p:nvSpPr>
        <p:spPr>
          <a:xfrm>
            <a:off x="4327920" y="3908880"/>
            <a:ext cx="390420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0010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143f"/>
              </a:solidFill>
              <a:latin typeface="Arial Black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/>
          </p:nvPr>
        </p:nvSpPr>
        <p:spPr>
          <a:xfrm>
            <a:off x="228240" y="1100160"/>
            <a:ext cx="257616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1359" name="PlaceHolder 3"/>
          <p:cNvSpPr>
            <a:spLocks noGrp="1"/>
          </p:cNvSpPr>
          <p:nvPr>
            <p:ph/>
          </p:nvPr>
        </p:nvSpPr>
        <p:spPr>
          <a:xfrm>
            <a:off x="2933640" y="1100160"/>
            <a:ext cx="257616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1360" name="PlaceHolder 4"/>
          <p:cNvSpPr>
            <a:spLocks noGrp="1"/>
          </p:cNvSpPr>
          <p:nvPr>
            <p:ph/>
          </p:nvPr>
        </p:nvSpPr>
        <p:spPr>
          <a:xfrm>
            <a:off x="5639040" y="1100160"/>
            <a:ext cx="257616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1361" name="PlaceHolder 5"/>
          <p:cNvSpPr>
            <a:spLocks noGrp="1"/>
          </p:cNvSpPr>
          <p:nvPr>
            <p:ph/>
          </p:nvPr>
        </p:nvSpPr>
        <p:spPr>
          <a:xfrm>
            <a:off x="228240" y="3908880"/>
            <a:ext cx="257616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1362" name="PlaceHolder 6"/>
          <p:cNvSpPr>
            <a:spLocks noGrp="1"/>
          </p:cNvSpPr>
          <p:nvPr>
            <p:ph/>
          </p:nvPr>
        </p:nvSpPr>
        <p:spPr>
          <a:xfrm>
            <a:off x="2933640" y="3908880"/>
            <a:ext cx="257616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1363" name="PlaceHolder 7"/>
          <p:cNvSpPr>
            <a:spLocks noGrp="1"/>
          </p:cNvSpPr>
          <p:nvPr>
            <p:ph/>
          </p:nvPr>
        </p:nvSpPr>
        <p:spPr>
          <a:xfrm>
            <a:off x="5639040" y="3908880"/>
            <a:ext cx="257616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6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0010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143f"/>
              </a:solidFill>
              <a:latin typeface="Arial Black"/>
            </a:endParaRPr>
          </a:p>
        </p:txBody>
      </p:sp>
      <p:sp>
        <p:nvSpPr>
          <p:cNvPr id="1377" name="PlaceHolder 2"/>
          <p:cNvSpPr>
            <a:spLocks noGrp="1"/>
          </p:cNvSpPr>
          <p:nvPr>
            <p:ph type="subTitle"/>
          </p:nvPr>
        </p:nvSpPr>
        <p:spPr>
          <a:xfrm>
            <a:off x="228240" y="1100160"/>
            <a:ext cx="8001000" cy="53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0010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143f"/>
              </a:solidFill>
              <a:latin typeface="Arial Black"/>
            </a:endParaRPr>
          </a:p>
        </p:txBody>
      </p:sp>
      <p:sp>
        <p:nvSpPr>
          <p:cNvPr id="1379" name="PlaceHolder 2"/>
          <p:cNvSpPr>
            <a:spLocks noGrp="1"/>
          </p:cNvSpPr>
          <p:nvPr>
            <p:ph/>
          </p:nvPr>
        </p:nvSpPr>
        <p:spPr>
          <a:xfrm>
            <a:off x="228240" y="1100160"/>
            <a:ext cx="8001000" cy="537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0010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143f"/>
              </a:solidFill>
              <a:latin typeface="Arial Black"/>
            </a:endParaRPr>
          </a:p>
        </p:txBody>
      </p:sp>
      <p:sp>
        <p:nvSpPr>
          <p:cNvPr id="1381" name="PlaceHolder 2"/>
          <p:cNvSpPr>
            <a:spLocks noGrp="1"/>
          </p:cNvSpPr>
          <p:nvPr>
            <p:ph/>
          </p:nvPr>
        </p:nvSpPr>
        <p:spPr>
          <a:xfrm>
            <a:off x="228240" y="1100160"/>
            <a:ext cx="3904200" cy="537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1382" name="PlaceHolder 3"/>
          <p:cNvSpPr>
            <a:spLocks noGrp="1"/>
          </p:cNvSpPr>
          <p:nvPr>
            <p:ph/>
          </p:nvPr>
        </p:nvSpPr>
        <p:spPr>
          <a:xfrm>
            <a:off x="4327920" y="1100160"/>
            <a:ext cx="3904200" cy="537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0010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143f"/>
              </a:solidFill>
              <a:latin typeface="Arial Black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0010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143f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28240" y="1100160"/>
            <a:ext cx="8001000" cy="537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subTitle"/>
          </p:nvPr>
        </p:nvSpPr>
        <p:spPr>
          <a:xfrm>
            <a:off x="228240" y="380880"/>
            <a:ext cx="8001000" cy="33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5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0010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143f"/>
              </a:solidFill>
              <a:latin typeface="Arial Black"/>
            </a:endParaRPr>
          </a:p>
        </p:txBody>
      </p:sp>
      <p:sp>
        <p:nvSpPr>
          <p:cNvPr id="1386" name="PlaceHolder 2"/>
          <p:cNvSpPr>
            <a:spLocks noGrp="1"/>
          </p:cNvSpPr>
          <p:nvPr>
            <p:ph/>
          </p:nvPr>
        </p:nvSpPr>
        <p:spPr>
          <a:xfrm>
            <a:off x="228240" y="1100160"/>
            <a:ext cx="390420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1387" name="PlaceHolder 3"/>
          <p:cNvSpPr>
            <a:spLocks noGrp="1"/>
          </p:cNvSpPr>
          <p:nvPr>
            <p:ph/>
          </p:nvPr>
        </p:nvSpPr>
        <p:spPr>
          <a:xfrm>
            <a:off x="4327920" y="1100160"/>
            <a:ext cx="3904200" cy="537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1388" name="PlaceHolder 4"/>
          <p:cNvSpPr>
            <a:spLocks noGrp="1"/>
          </p:cNvSpPr>
          <p:nvPr>
            <p:ph/>
          </p:nvPr>
        </p:nvSpPr>
        <p:spPr>
          <a:xfrm>
            <a:off x="228240" y="3908880"/>
            <a:ext cx="390420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0010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143f"/>
              </a:solidFill>
              <a:latin typeface="Arial Black"/>
            </a:endParaRPr>
          </a:p>
        </p:txBody>
      </p:sp>
      <p:sp>
        <p:nvSpPr>
          <p:cNvPr id="1390" name="PlaceHolder 2"/>
          <p:cNvSpPr>
            <a:spLocks noGrp="1"/>
          </p:cNvSpPr>
          <p:nvPr>
            <p:ph/>
          </p:nvPr>
        </p:nvSpPr>
        <p:spPr>
          <a:xfrm>
            <a:off x="228240" y="1100160"/>
            <a:ext cx="3904200" cy="537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1391" name="PlaceHolder 3"/>
          <p:cNvSpPr>
            <a:spLocks noGrp="1"/>
          </p:cNvSpPr>
          <p:nvPr>
            <p:ph/>
          </p:nvPr>
        </p:nvSpPr>
        <p:spPr>
          <a:xfrm>
            <a:off x="4327920" y="1100160"/>
            <a:ext cx="390420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1392" name="PlaceHolder 4"/>
          <p:cNvSpPr>
            <a:spLocks noGrp="1"/>
          </p:cNvSpPr>
          <p:nvPr>
            <p:ph/>
          </p:nvPr>
        </p:nvSpPr>
        <p:spPr>
          <a:xfrm>
            <a:off x="4327920" y="3908880"/>
            <a:ext cx="390420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3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0010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143f"/>
              </a:solidFill>
              <a:latin typeface="Arial Black"/>
            </a:endParaRPr>
          </a:p>
        </p:txBody>
      </p:sp>
      <p:sp>
        <p:nvSpPr>
          <p:cNvPr id="1394" name="PlaceHolder 2"/>
          <p:cNvSpPr>
            <a:spLocks noGrp="1"/>
          </p:cNvSpPr>
          <p:nvPr>
            <p:ph/>
          </p:nvPr>
        </p:nvSpPr>
        <p:spPr>
          <a:xfrm>
            <a:off x="228240" y="1100160"/>
            <a:ext cx="390420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1395" name="PlaceHolder 3"/>
          <p:cNvSpPr>
            <a:spLocks noGrp="1"/>
          </p:cNvSpPr>
          <p:nvPr>
            <p:ph/>
          </p:nvPr>
        </p:nvSpPr>
        <p:spPr>
          <a:xfrm>
            <a:off x="4327920" y="1100160"/>
            <a:ext cx="390420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1396" name="PlaceHolder 4"/>
          <p:cNvSpPr>
            <a:spLocks noGrp="1"/>
          </p:cNvSpPr>
          <p:nvPr>
            <p:ph/>
          </p:nvPr>
        </p:nvSpPr>
        <p:spPr>
          <a:xfrm>
            <a:off x="228240" y="3908880"/>
            <a:ext cx="800100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7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0010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143f"/>
              </a:solidFill>
              <a:latin typeface="Arial Black"/>
            </a:endParaRPr>
          </a:p>
        </p:txBody>
      </p:sp>
      <p:sp>
        <p:nvSpPr>
          <p:cNvPr id="1398" name="PlaceHolder 2"/>
          <p:cNvSpPr>
            <a:spLocks noGrp="1"/>
          </p:cNvSpPr>
          <p:nvPr>
            <p:ph/>
          </p:nvPr>
        </p:nvSpPr>
        <p:spPr>
          <a:xfrm>
            <a:off x="228240" y="1100160"/>
            <a:ext cx="800100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1399" name="PlaceHolder 3"/>
          <p:cNvSpPr>
            <a:spLocks noGrp="1"/>
          </p:cNvSpPr>
          <p:nvPr>
            <p:ph/>
          </p:nvPr>
        </p:nvSpPr>
        <p:spPr>
          <a:xfrm>
            <a:off x="228240" y="3908880"/>
            <a:ext cx="800100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0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0010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143f"/>
              </a:solidFill>
              <a:latin typeface="Arial Black"/>
            </a:endParaRPr>
          </a:p>
        </p:txBody>
      </p:sp>
      <p:sp>
        <p:nvSpPr>
          <p:cNvPr id="1401" name="PlaceHolder 2"/>
          <p:cNvSpPr>
            <a:spLocks noGrp="1"/>
          </p:cNvSpPr>
          <p:nvPr>
            <p:ph/>
          </p:nvPr>
        </p:nvSpPr>
        <p:spPr>
          <a:xfrm>
            <a:off x="228240" y="1100160"/>
            <a:ext cx="390420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1402" name="PlaceHolder 3"/>
          <p:cNvSpPr>
            <a:spLocks noGrp="1"/>
          </p:cNvSpPr>
          <p:nvPr>
            <p:ph/>
          </p:nvPr>
        </p:nvSpPr>
        <p:spPr>
          <a:xfrm>
            <a:off x="4327920" y="1100160"/>
            <a:ext cx="390420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1403" name="PlaceHolder 4"/>
          <p:cNvSpPr>
            <a:spLocks noGrp="1"/>
          </p:cNvSpPr>
          <p:nvPr>
            <p:ph/>
          </p:nvPr>
        </p:nvSpPr>
        <p:spPr>
          <a:xfrm>
            <a:off x="228240" y="3908880"/>
            <a:ext cx="390420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1404" name="PlaceHolder 5"/>
          <p:cNvSpPr>
            <a:spLocks noGrp="1"/>
          </p:cNvSpPr>
          <p:nvPr>
            <p:ph/>
          </p:nvPr>
        </p:nvSpPr>
        <p:spPr>
          <a:xfrm>
            <a:off x="4327920" y="3908880"/>
            <a:ext cx="390420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0010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143f"/>
              </a:solidFill>
              <a:latin typeface="Arial Black"/>
            </a:endParaRPr>
          </a:p>
        </p:txBody>
      </p:sp>
      <p:sp>
        <p:nvSpPr>
          <p:cNvPr id="1406" name="PlaceHolder 2"/>
          <p:cNvSpPr>
            <a:spLocks noGrp="1"/>
          </p:cNvSpPr>
          <p:nvPr>
            <p:ph/>
          </p:nvPr>
        </p:nvSpPr>
        <p:spPr>
          <a:xfrm>
            <a:off x="228240" y="1100160"/>
            <a:ext cx="257616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1407" name="PlaceHolder 3"/>
          <p:cNvSpPr>
            <a:spLocks noGrp="1"/>
          </p:cNvSpPr>
          <p:nvPr>
            <p:ph/>
          </p:nvPr>
        </p:nvSpPr>
        <p:spPr>
          <a:xfrm>
            <a:off x="2933640" y="1100160"/>
            <a:ext cx="257616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1408" name="PlaceHolder 4"/>
          <p:cNvSpPr>
            <a:spLocks noGrp="1"/>
          </p:cNvSpPr>
          <p:nvPr>
            <p:ph/>
          </p:nvPr>
        </p:nvSpPr>
        <p:spPr>
          <a:xfrm>
            <a:off x="5639040" y="1100160"/>
            <a:ext cx="257616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1409" name="PlaceHolder 5"/>
          <p:cNvSpPr>
            <a:spLocks noGrp="1"/>
          </p:cNvSpPr>
          <p:nvPr>
            <p:ph/>
          </p:nvPr>
        </p:nvSpPr>
        <p:spPr>
          <a:xfrm>
            <a:off x="228240" y="3908880"/>
            <a:ext cx="257616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1410" name="PlaceHolder 6"/>
          <p:cNvSpPr>
            <a:spLocks noGrp="1"/>
          </p:cNvSpPr>
          <p:nvPr>
            <p:ph/>
          </p:nvPr>
        </p:nvSpPr>
        <p:spPr>
          <a:xfrm>
            <a:off x="2933640" y="3908880"/>
            <a:ext cx="257616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1411" name="PlaceHolder 7"/>
          <p:cNvSpPr>
            <a:spLocks noGrp="1"/>
          </p:cNvSpPr>
          <p:nvPr>
            <p:ph/>
          </p:nvPr>
        </p:nvSpPr>
        <p:spPr>
          <a:xfrm>
            <a:off x="5639040" y="3908880"/>
            <a:ext cx="257616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0010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143f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28240" y="1100160"/>
            <a:ext cx="3904200" cy="537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27920" y="1100160"/>
            <a:ext cx="3904200" cy="537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2689D1-DF3D-4767-A318-8F5F5B17B3F0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0010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143f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28240" y="1100160"/>
            <a:ext cx="3904200" cy="537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327920" y="1100160"/>
            <a:ext cx="3904200" cy="537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0010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143f"/>
              </a:solidFill>
              <a:latin typeface="Arial Black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228240" y="380880"/>
            <a:ext cx="8001000" cy="33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0010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143f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240" y="1100160"/>
            <a:ext cx="390420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327920" y="1100160"/>
            <a:ext cx="3904200" cy="537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228240" y="3908880"/>
            <a:ext cx="390420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0010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143f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28240" y="1100160"/>
            <a:ext cx="3904200" cy="537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327920" y="1100160"/>
            <a:ext cx="390420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327920" y="3908880"/>
            <a:ext cx="390420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0010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143f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240" y="1100160"/>
            <a:ext cx="390420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327920" y="1100160"/>
            <a:ext cx="390420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228240" y="3908880"/>
            <a:ext cx="800100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0010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143f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28240" y="1100160"/>
            <a:ext cx="800100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228240" y="3908880"/>
            <a:ext cx="800100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0010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143f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28240" y="1100160"/>
            <a:ext cx="390420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327920" y="1100160"/>
            <a:ext cx="390420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228240" y="3908880"/>
            <a:ext cx="390420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327920" y="3908880"/>
            <a:ext cx="390420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0010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143f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28240" y="1100160"/>
            <a:ext cx="257616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2933640" y="1100160"/>
            <a:ext cx="257616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639040" y="1100160"/>
            <a:ext cx="257616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228240" y="3908880"/>
            <a:ext cx="257616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2933640" y="3908880"/>
            <a:ext cx="257616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5639040" y="3908880"/>
            <a:ext cx="257616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0010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143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14A11F-7F6B-41FB-B718-F8A2A6A22672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0010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143f"/>
              </a:solidFill>
              <a:latin typeface="Arial Blac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228240" y="1100160"/>
            <a:ext cx="8001000" cy="53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0010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143f"/>
              </a:solidFill>
              <a:latin typeface="Arial Blac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28240" y="1100160"/>
            <a:ext cx="8001000" cy="537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0010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143f"/>
              </a:solidFill>
              <a:latin typeface="Arial Blac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240" y="1100160"/>
            <a:ext cx="3904200" cy="537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327920" y="1100160"/>
            <a:ext cx="3904200" cy="537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0010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143f"/>
              </a:solidFill>
              <a:latin typeface="Arial Black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228240" y="380880"/>
            <a:ext cx="8001000" cy="33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0010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143f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228240" y="1100160"/>
            <a:ext cx="390420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327920" y="1100160"/>
            <a:ext cx="3904200" cy="537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228240" y="3908880"/>
            <a:ext cx="390420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0010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143f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28240" y="1100160"/>
            <a:ext cx="3904200" cy="537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327920" y="1100160"/>
            <a:ext cx="390420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327920" y="3908880"/>
            <a:ext cx="390420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0010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143f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28240" y="1100160"/>
            <a:ext cx="390420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327920" y="1100160"/>
            <a:ext cx="390420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228240" y="3908880"/>
            <a:ext cx="800100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0010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143f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228240" y="1100160"/>
            <a:ext cx="800100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228240" y="3908880"/>
            <a:ext cx="800100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0010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143f"/>
              </a:solidFill>
              <a:latin typeface="Arial Blac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28240" y="1100160"/>
            <a:ext cx="390420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327920" y="1100160"/>
            <a:ext cx="390420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228240" y="3908880"/>
            <a:ext cx="390420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327920" y="3908880"/>
            <a:ext cx="390420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28240" y="380880"/>
            <a:ext cx="8001000" cy="33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AB27E4-B9FA-4DBC-9BC1-8113782E978E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0010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143f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240" y="1100160"/>
            <a:ext cx="257616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2933640" y="1100160"/>
            <a:ext cx="257616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5639040" y="1100160"/>
            <a:ext cx="257616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228240" y="3908880"/>
            <a:ext cx="257616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2933640" y="3908880"/>
            <a:ext cx="257616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5639040" y="3908880"/>
            <a:ext cx="257616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0010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143f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228240" y="1100160"/>
            <a:ext cx="8001000" cy="53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0010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143f"/>
              </a:solidFill>
              <a:latin typeface="Arial Black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240" y="1100160"/>
            <a:ext cx="8001000" cy="537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0010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143f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28240" y="1100160"/>
            <a:ext cx="3904200" cy="537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327920" y="1100160"/>
            <a:ext cx="3904200" cy="537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0010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143f"/>
              </a:solidFill>
              <a:latin typeface="Arial Black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228240" y="380880"/>
            <a:ext cx="8001000" cy="33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0010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143f"/>
              </a:solidFill>
              <a:latin typeface="Arial Blac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240" y="1100160"/>
            <a:ext cx="390420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327920" y="1100160"/>
            <a:ext cx="3904200" cy="537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240" y="3908880"/>
            <a:ext cx="390420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0010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143f"/>
              </a:solidFill>
              <a:latin typeface="Arial Blac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228240" y="1100160"/>
            <a:ext cx="3904200" cy="537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327920" y="1100160"/>
            <a:ext cx="390420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327920" y="3908880"/>
            <a:ext cx="390420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0010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143f"/>
              </a:solidFill>
              <a:latin typeface="Arial Blac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228240" y="1100160"/>
            <a:ext cx="390420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327920" y="1100160"/>
            <a:ext cx="390420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228240" y="3908880"/>
            <a:ext cx="800100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0010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143f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28240" y="1100160"/>
            <a:ext cx="390420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27920" y="1100160"/>
            <a:ext cx="3904200" cy="537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228240" y="3908880"/>
            <a:ext cx="390420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0B5BF0-B2F7-4290-9AC4-6363215B7D50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0010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143f"/>
              </a:solidFill>
              <a:latin typeface="Arial Black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228240" y="1100160"/>
            <a:ext cx="800100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228240" y="3908880"/>
            <a:ext cx="800100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0010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143f"/>
              </a:solidFill>
              <a:latin typeface="Arial Blac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228240" y="1100160"/>
            <a:ext cx="390420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327920" y="1100160"/>
            <a:ext cx="390420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228240" y="3908880"/>
            <a:ext cx="390420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327920" y="3908880"/>
            <a:ext cx="390420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0010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143f"/>
              </a:solidFill>
              <a:latin typeface="Arial Black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240" y="1100160"/>
            <a:ext cx="257616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2933640" y="1100160"/>
            <a:ext cx="257616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639040" y="1100160"/>
            <a:ext cx="257616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228240" y="3908880"/>
            <a:ext cx="257616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2933640" y="3908880"/>
            <a:ext cx="257616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5639040" y="3908880"/>
            <a:ext cx="257616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BE578A-EA2C-463D-8038-8D76438B4CB7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0010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143f"/>
              </a:solidFill>
              <a:latin typeface="Arial Black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228240" y="1100160"/>
            <a:ext cx="8001000" cy="53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50AAF0-EEF3-47E0-A388-D38988C74E7A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0010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143f"/>
              </a:solidFill>
              <a:latin typeface="Arial Black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228240" y="1100160"/>
            <a:ext cx="8001000" cy="537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817118-60F8-462A-8787-7C7EFDA37DFA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0010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143f"/>
              </a:solidFill>
              <a:latin typeface="Arial Black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28240" y="1100160"/>
            <a:ext cx="3904200" cy="537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327920" y="1100160"/>
            <a:ext cx="3904200" cy="537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BA03DD-F558-4004-A05C-1C922EA90A16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0010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143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C89AED-808C-4390-8FCC-E37ECF5A22E8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228240" y="380880"/>
            <a:ext cx="8001000" cy="33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BFCBDC-657D-42D7-B540-AD75B0CB3DC2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0010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143f"/>
              </a:solidFill>
              <a:latin typeface="Arial Black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228240" y="1100160"/>
            <a:ext cx="390420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327920" y="1100160"/>
            <a:ext cx="3904200" cy="537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228240" y="3908880"/>
            <a:ext cx="390420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6AF22F-8083-4EB1-9640-F12D7EEB5D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0010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143f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240" y="1100160"/>
            <a:ext cx="3904200" cy="537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27920" y="1100160"/>
            <a:ext cx="390420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27920" y="3908880"/>
            <a:ext cx="390420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EF0EC0-3C8C-464A-8DF8-FFFA7AAF8A1C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0010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143f"/>
              </a:solidFill>
              <a:latin typeface="Arial Black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240" y="1100160"/>
            <a:ext cx="3904200" cy="537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327920" y="1100160"/>
            <a:ext cx="390420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327920" y="3908880"/>
            <a:ext cx="390420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ADBA25-73AB-4409-AEE9-29D176F951BF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0010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143f"/>
              </a:solidFill>
              <a:latin typeface="Arial Black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228240" y="1100160"/>
            <a:ext cx="390420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327920" y="1100160"/>
            <a:ext cx="390420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228240" y="3908880"/>
            <a:ext cx="800100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60DB54-FC3B-4312-AE0F-39DDF49752C9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0010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143f"/>
              </a:solidFill>
              <a:latin typeface="Arial Black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228240" y="1100160"/>
            <a:ext cx="800100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228240" y="3908880"/>
            <a:ext cx="800100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134432-614A-4358-8C86-0E67EDDC5308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0010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143f"/>
              </a:solidFill>
              <a:latin typeface="Arial Black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228240" y="1100160"/>
            <a:ext cx="390420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327920" y="1100160"/>
            <a:ext cx="390420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228240" y="3908880"/>
            <a:ext cx="390420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327920" y="3908880"/>
            <a:ext cx="390420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F1B0D0-F84C-40B6-8AD6-EECA378AF57C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0010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143f"/>
              </a:solidFill>
              <a:latin typeface="Arial Black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228240" y="1100160"/>
            <a:ext cx="257616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2933640" y="1100160"/>
            <a:ext cx="257616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639040" y="1100160"/>
            <a:ext cx="257616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228240" y="3908880"/>
            <a:ext cx="257616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2933640" y="3908880"/>
            <a:ext cx="257616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5639040" y="3908880"/>
            <a:ext cx="257616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746682-B8A6-4501-8C2F-B2C97205265C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6F64FB-C933-4B94-9E36-02CB3E49C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0010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143f"/>
              </a:solidFill>
              <a:latin typeface="Arial Black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228240" y="1100160"/>
            <a:ext cx="8001000" cy="53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387F42-35D8-4A5B-9381-936497BA4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0010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143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28240" y="1100160"/>
            <a:ext cx="8001000" cy="537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294E95-62B3-4262-BE22-C7736E391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0010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143f"/>
              </a:solidFill>
              <a:latin typeface="Arial Black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228240" y="1100160"/>
            <a:ext cx="3904200" cy="537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327920" y="1100160"/>
            <a:ext cx="3904200" cy="537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9CB8F8-24DD-488D-BC42-9183D9549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0010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143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22B709-7D6A-4EE0-A526-7697B48AA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0010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143f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240" y="1100160"/>
            <a:ext cx="390420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27920" y="1100160"/>
            <a:ext cx="390420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28240" y="3908880"/>
            <a:ext cx="800100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026638-4321-4D26-9574-B5DF50574D8E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228240" y="380880"/>
            <a:ext cx="8001000" cy="33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BB1DD0-2606-4206-8AC6-9FB6A899E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0010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143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228240" y="1100160"/>
            <a:ext cx="390420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327920" y="1100160"/>
            <a:ext cx="3904200" cy="537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228240" y="3908880"/>
            <a:ext cx="390420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E7A4C4-9072-4F17-B26F-D914CB508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0010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143f"/>
              </a:solidFill>
              <a:latin typeface="Arial Black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228240" y="1100160"/>
            <a:ext cx="3904200" cy="537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327920" y="1100160"/>
            <a:ext cx="390420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327920" y="3908880"/>
            <a:ext cx="390420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5CCA05-04D5-40EB-92C6-C9D2733DC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0010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143f"/>
              </a:solidFill>
              <a:latin typeface="Arial Blac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28240" y="1100160"/>
            <a:ext cx="390420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327920" y="1100160"/>
            <a:ext cx="390420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228240" y="3908880"/>
            <a:ext cx="800100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821B61-DA89-4555-9B58-07702B6FE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0010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143f"/>
              </a:solidFill>
              <a:latin typeface="Arial Blac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228240" y="1100160"/>
            <a:ext cx="800100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228240" y="3908880"/>
            <a:ext cx="800100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7DB979-43E7-4E2C-94F6-9EB52D651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0010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143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228240" y="1100160"/>
            <a:ext cx="390420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327920" y="1100160"/>
            <a:ext cx="390420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228240" y="3908880"/>
            <a:ext cx="390420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327920" y="3908880"/>
            <a:ext cx="390420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11DA18-AF78-4973-A3CB-44FB0E0C8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0010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143f"/>
              </a:solidFill>
              <a:latin typeface="Arial Blac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228240" y="1100160"/>
            <a:ext cx="257616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2933640" y="1100160"/>
            <a:ext cx="257616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5639040" y="1100160"/>
            <a:ext cx="257616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228240" y="3908880"/>
            <a:ext cx="257616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2933640" y="3908880"/>
            <a:ext cx="257616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5639040" y="3908880"/>
            <a:ext cx="257616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3BE79D-FF0D-4F32-83FB-57E0D96BA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0010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143f"/>
              </a:solidFill>
              <a:latin typeface="Arial Black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subTitle"/>
          </p:nvPr>
        </p:nvSpPr>
        <p:spPr>
          <a:xfrm>
            <a:off x="228240" y="1100160"/>
            <a:ext cx="8001000" cy="53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0010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143f"/>
              </a:solidFill>
              <a:latin typeface="Arial Black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28240" y="1100160"/>
            <a:ext cx="8001000" cy="537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3.xml"/><Relationship Id="rId4" Type="http://schemas.openxmlformats.org/officeDocument/2006/relationships/slideLayout" Target="../slideLayouts/slideLayout374.xml"/><Relationship Id="rId5" Type="http://schemas.openxmlformats.org/officeDocument/2006/relationships/slideLayout" Target="../slideLayouts/slideLayout375.xml"/><Relationship Id="rId6" Type="http://schemas.openxmlformats.org/officeDocument/2006/relationships/slideLayout" Target="../slideLayouts/slideLayout376.xml"/><Relationship Id="rId7" Type="http://schemas.openxmlformats.org/officeDocument/2006/relationships/slideLayout" Target="../slideLayouts/slideLayout377.xml"/><Relationship Id="rId8" Type="http://schemas.openxmlformats.org/officeDocument/2006/relationships/slideLayout" Target="../slideLayouts/slideLayout378.xml"/><Relationship Id="rId9" Type="http://schemas.openxmlformats.org/officeDocument/2006/relationships/slideLayout" Target="../slideLayouts/slideLayout379.xml"/><Relationship Id="rId10" Type="http://schemas.openxmlformats.org/officeDocument/2006/relationships/slideLayout" Target="../slideLayouts/slideLayout380.xml"/><Relationship Id="rId11" Type="http://schemas.openxmlformats.org/officeDocument/2006/relationships/slideLayout" Target="../slideLayouts/slideLayout381.xml"/><Relationship Id="rId12" Type="http://schemas.openxmlformats.org/officeDocument/2006/relationships/slideLayout" Target="../slideLayouts/slideLayout382.xml"/><Relationship Id="rId13" Type="http://schemas.openxmlformats.org/officeDocument/2006/relationships/slideLayout" Target="../slideLayouts/slideLayout383.xml"/><Relationship Id="rId14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85.xml"/><Relationship Id="rId4" Type="http://schemas.openxmlformats.org/officeDocument/2006/relationships/slideLayout" Target="../slideLayouts/slideLayout386.xml"/><Relationship Id="rId5" Type="http://schemas.openxmlformats.org/officeDocument/2006/relationships/slideLayout" Target="../slideLayouts/slideLayout387.xml"/><Relationship Id="rId6" Type="http://schemas.openxmlformats.org/officeDocument/2006/relationships/slideLayout" Target="../slideLayouts/slideLayout388.xml"/><Relationship Id="rId7" Type="http://schemas.openxmlformats.org/officeDocument/2006/relationships/slideLayout" Target="../slideLayouts/slideLayout389.xml"/><Relationship Id="rId8" Type="http://schemas.openxmlformats.org/officeDocument/2006/relationships/slideLayout" Target="../slideLayouts/slideLayout390.xml"/><Relationship Id="rId9" Type="http://schemas.openxmlformats.org/officeDocument/2006/relationships/slideLayout" Target="../slideLayouts/slideLayout391.xml"/><Relationship Id="rId10" Type="http://schemas.openxmlformats.org/officeDocument/2006/relationships/slideLayout" Target="../slideLayouts/slideLayout392.xml"/><Relationship Id="rId11" Type="http://schemas.openxmlformats.org/officeDocument/2006/relationships/slideLayout" Target="../slideLayouts/slideLayout393.xml"/><Relationship Id="rId12" Type="http://schemas.openxmlformats.org/officeDocument/2006/relationships/slideLayout" Target="../slideLayouts/slideLayout394.xml"/><Relationship Id="rId13" Type="http://schemas.openxmlformats.org/officeDocument/2006/relationships/slideLayout" Target="../slideLayouts/slideLayout395.xml"/><Relationship Id="rId14" Type="http://schemas.openxmlformats.org/officeDocument/2006/relationships/slideLayout" Target="../slideLayouts/slideLayout39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33"/>
          <p:cNvSpPr/>
          <p:nvPr/>
        </p:nvSpPr>
        <p:spPr>
          <a:xfrm>
            <a:off x="0" y="6613560"/>
            <a:ext cx="9144000" cy="244440"/>
          </a:xfrm>
          <a:prstGeom prst="rect">
            <a:avLst/>
          </a:prstGeom>
          <a:solidFill>
            <a:srgbClr val="0014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0010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143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00143f"/>
              </a:solidFill>
              <a:latin typeface="Arial Black"/>
            </a:endParaRPr>
          </a:p>
        </p:txBody>
      </p:sp>
      <p:sp>
        <p:nvSpPr>
          <p:cNvPr id="2" name="Text Box 31"/>
          <p:cNvSpPr/>
          <p:nvPr/>
        </p:nvSpPr>
        <p:spPr>
          <a:xfrm>
            <a:off x="0" y="661356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ocal knowledge   </a:t>
            </a:r>
            <a:r>
              <a:rPr b="0" lang="en-US" sz="1000" spc="-1" strike="noStrike">
                <a:solidFill>
                  <a:srgbClr val="ffffff"/>
                </a:solidFill>
                <a:latin typeface="Wingdings"/>
                <a:ea typeface="Wingdings"/>
              </a:rPr>
              <a:t>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  International experience   </a:t>
            </a:r>
            <a:r>
              <a:rPr b="0" lang="en-US" sz="1000" spc="-1" strike="noStrike">
                <a:solidFill>
                  <a:srgbClr val="ffffff"/>
                </a:solidFill>
                <a:latin typeface="Wingdings"/>
                <a:ea typeface="Wingdings"/>
              </a:rPr>
              <a:t>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  Focused on 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38"/>
          <p:cNvSpPr/>
          <p:nvPr/>
        </p:nvSpPr>
        <p:spPr>
          <a:xfrm>
            <a:off x="0" y="0"/>
            <a:ext cx="9144000" cy="24444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28240" y="1100160"/>
            <a:ext cx="8001000" cy="537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Aft>
                <a:spcPts val="624"/>
              </a:spcAft>
              <a:buClr>
                <a:srgbClr val="f5821f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143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143f"/>
              </a:solidFill>
              <a:latin typeface="Arial"/>
            </a:endParaRPr>
          </a:p>
          <a:p>
            <a:pPr lvl="1" marL="571680" indent="-228600">
              <a:spcAft>
                <a:spcPts val="624"/>
              </a:spcAft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143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143f"/>
              </a:solidFill>
              <a:latin typeface="Arial"/>
            </a:endParaRPr>
          </a:p>
          <a:p>
            <a:pPr lvl="2" marL="863640" indent="-177840">
              <a:spcAft>
                <a:spcPts val="624"/>
              </a:spcAft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143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143f"/>
              </a:solidFill>
              <a:latin typeface="Arial"/>
            </a:endParaRPr>
          </a:p>
          <a:p>
            <a:pPr lvl="3" marL="1028880" indent="-51120">
              <a:spcAft>
                <a:spcPts val="624"/>
              </a:spcAft>
              <a:buClr>
                <a:srgbClr val="80808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143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143f"/>
              </a:solidFill>
              <a:latin typeface="Arial"/>
            </a:endParaRPr>
          </a:p>
          <a:p>
            <a:pPr lvl="4" marL="1206360" indent="165240">
              <a:spcAft>
                <a:spcPts val="624"/>
              </a:spcAft>
              <a:buClr>
                <a:srgbClr val="f5821f"/>
              </a:buClr>
              <a:buSzPct val="8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143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143f"/>
              </a:solidFill>
              <a:latin typeface="Arial"/>
            </a:endParaRPr>
          </a:p>
          <a:p>
            <a:pPr lvl="5" marL="1206360" indent="165240">
              <a:spcAft>
                <a:spcPts val="624"/>
              </a:spcAft>
              <a:buClr>
                <a:srgbClr val="000000"/>
              </a:buClr>
              <a:buSzPct val="8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143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143f"/>
              </a:solidFill>
              <a:latin typeface="Arial"/>
            </a:endParaRPr>
          </a:p>
          <a:p>
            <a:pPr lvl="6" marL="1206360" indent="165240">
              <a:spcAft>
                <a:spcPts val="624"/>
              </a:spcAft>
              <a:buClr>
                <a:srgbClr val="000000"/>
              </a:buClr>
              <a:buSzPct val="8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143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143f"/>
              </a:solidFill>
              <a:latin typeface="Arial"/>
            </a:endParaRPr>
          </a:p>
        </p:txBody>
      </p:sp>
      <p:pic>
        <p:nvPicPr>
          <p:cNvPr id="5" name="Picture 41" descr=""/>
          <p:cNvPicPr/>
          <p:nvPr/>
        </p:nvPicPr>
        <p:blipFill>
          <a:blip r:embed="rId2"/>
          <a:srcRect l="17606" t="28212" r="13319" b="35989"/>
          <a:stretch/>
        </p:blipFill>
        <p:spPr>
          <a:xfrm>
            <a:off x="7389720" y="299880"/>
            <a:ext cx="1677960" cy="53820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3"/>
          <p:cNvSpPr>
            <a:spLocks noGrp="1"/>
          </p:cNvSpPr>
          <p:nvPr>
            <p:ph type="sldNum" idx="1"/>
          </p:nvPr>
        </p:nvSpPr>
        <p:spPr>
          <a:xfrm>
            <a:off x="7009920" y="661320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9BD58-FB29-48D0-B9C1-80A9C291376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2"/>
          <p:cNvSpPr/>
          <p:nvPr/>
        </p:nvSpPr>
        <p:spPr>
          <a:xfrm>
            <a:off x="0" y="244440"/>
            <a:ext cx="9144000" cy="1889280"/>
          </a:xfrm>
          <a:prstGeom prst="rect">
            <a:avLst/>
          </a:prstGeom>
          <a:solidFill>
            <a:srgbClr val="00143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Picture 3" descr="LA_PRGB"/>
          <p:cNvPicPr/>
          <p:nvPr/>
        </p:nvPicPr>
        <p:blipFill>
          <a:blip r:embed="rId2"/>
          <a:stretch/>
        </p:blipFill>
        <p:spPr>
          <a:xfrm>
            <a:off x="8229600" y="596880"/>
            <a:ext cx="701640" cy="1079640"/>
          </a:xfrm>
          <a:prstGeom prst="rect">
            <a:avLst/>
          </a:prstGeom>
          <a:ln w="3240">
            <a:solidFill>
              <a:srgbClr val="ffffff"/>
            </a:solidFill>
            <a:miter/>
          </a:ln>
        </p:spPr>
      </p:pic>
      <p:sp>
        <p:nvSpPr>
          <p:cNvPr id="383" name="Rectangle 4"/>
          <p:cNvSpPr/>
          <p:nvPr/>
        </p:nvSpPr>
        <p:spPr>
          <a:xfrm>
            <a:off x="0" y="0"/>
            <a:ext cx="9144000" cy="24444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ctangle 7"/>
          <p:cNvSpPr/>
          <p:nvPr/>
        </p:nvSpPr>
        <p:spPr>
          <a:xfrm>
            <a:off x="0" y="6613560"/>
            <a:ext cx="9144000" cy="244440"/>
          </a:xfrm>
          <a:prstGeom prst="rect">
            <a:avLst/>
          </a:prstGeom>
          <a:solidFill>
            <a:srgbClr val="0014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8"/>
          <p:cNvSpPr/>
          <p:nvPr/>
        </p:nvSpPr>
        <p:spPr>
          <a:xfrm>
            <a:off x="1828800" y="6613560"/>
            <a:ext cx="5486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ocal knowledge   </a:t>
            </a:r>
            <a:r>
              <a:rPr b="0" lang="en-US" sz="1000" spc="-1" strike="noStrike">
                <a:solidFill>
                  <a:srgbClr val="ffffff"/>
                </a:solidFill>
                <a:latin typeface="Wingdings"/>
                <a:ea typeface="Wingdings"/>
              </a:rPr>
              <a:t>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  International experience   </a:t>
            </a:r>
            <a:r>
              <a:rPr b="0" lang="en-US" sz="1000" spc="-1" strike="noStrike">
                <a:solidFill>
                  <a:srgbClr val="ffffff"/>
                </a:solidFill>
                <a:latin typeface="Wingdings"/>
                <a:ea typeface="Wingdings"/>
              </a:rPr>
              <a:t>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  Focused on 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10"/>
          <p:cNvSpPr/>
          <p:nvPr/>
        </p:nvSpPr>
        <p:spPr>
          <a:xfrm>
            <a:off x="0" y="244440"/>
            <a:ext cx="9144000" cy="1889280"/>
          </a:xfrm>
          <a:prstGeom prst="rect">
            <a:avLst/>
          </a:prstGeom>
          <a:solidFill>
            <a:srgbClr val="00143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Picture 11" descr="LA_PRGB"/>
          <p:cNvPicPr/>
          <p:nvPr/>
        </p:nvPicPr>
        <p:blipFill>
          <a:blip r:embed="rId3"/>
          <a:stretch/>
        </p:blipFill>
        <p:spPr>
          <a:xfrm>
            <a:off x="8229600" y="596880"/>
            <a:ext cx="701640" cy="1079640"/>
          </a:xfrm>
          <a:prstGeom prst="rect">
            <a:avLst/>
          </a:prstGeom>
          <a:ln w="3240">
            <a:solidFill>
              <a:srgbClr val="ffffff"/>
            </a:solidFill>
            <a:miter/>
          </a:ln>
        </p:spPr>
      </p:pic>
      <p:sp>
        <p:nvSpPr>
          <p:cNvPr id="388" name="Rectangle 12"/>
          <p:cNvSpPr/>
          <p:nvPr/>
        </p:nvSpPr>
        <p:spPr>
          <a:xfrm>
            <a:off x="0" y="0"/>
            <a:ext cx="9144000" cy="24444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Rectangle 13"/>
          <p:cNvSpPr/>
          <p:nvPr/>
        </p:nvSpPr>
        <p:spPr>
          <a:xfrm>
            <a:off x="0" y="6613560"/>
            <a:ext cx="9144000" cy="244440"/>
          </a:xfrm>
          <a:prstGeom prst="rect">
            <a:avLst/>
          </a:prstGeom>
          <a:solidFill>
            <a:srgbClr val="0014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14"/>
          <p:cNvSpPr/>
          <p:nvPr/>
        </p:nvSpPr>
        <p:spPr>
          <a:xfrm>
            <a:off x="1828800" y="6613560"/>
            <a:ext cx="5486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ocal knowledge   </a:t>
            </a:r>
            <a:r>
              <a:rPr b="0" lang="en-US" sz="1000" spc="-1" strike="noStrike">
                <a:solidFill>
                  <a:srgbClr val="ffffff"/>
                </a:solidFill>
                <a:latin typeface="Wingdings"/>
                <a:ea typeface="Wingdings"/>
              </a:rPr>
              <a:t>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  International experience   </a:t>
            </a:r>
            <a:r>
              <a:rPr b="0" lang="en-US" sz="1000" spc="-1" strike="noStrike">
                <a:solidFill>
                  <a:srgbClr val="ffffff"/>
                </a:solidFill>
                <a:latin typeface="Wingdings"/>
                <a:ea typeface="Wingdings"/>
              </a:rPr>
              <a:t>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  Focused on 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1" name="Picture 4" descr=""/>
          <p:cNvPicPr/>
          <p:nvPr/>
        </p:nvPicPr>
        <p:blipFill>
          <a:blip r:embed="rId4"/>
          <a:stretch/>
        </p:blipFill>
        <p:spPr>
          <a:xfrm>
            <a:off x="0" y="1727280"/>
            <a:ext cx="9144000" cy="4902120"/>
          </a:xfrm>
          <a:prstGeom prst="rect">
            <a:avLst/>
          </a:prstGeom>
          <a:ln w="0">
            <a:noFill/>
          </a:ln>
        </p:spPr>
      </p:pic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0010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143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00143f"/>
              </a:solidFill>
              <a:latin typeface="Arial Black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228240" y="1100160"/>
            <a:ext cx="8001000" cy="537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Aft>
                <a:spcPts val="1001"/>
              </a:spcAft>
              <a:buClr>
                <a:srgbClr val="f5821f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143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  <a:p>
            <a:pPr lvl="1" marL="571680" indent="-228600">
              <a:spcAft>
                <a:spcPts val="1001"/>
              </a:spcAft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143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  <a:p>
            <a:pPr lvl="2" marL="863640" indent="-177840">
              <a:spcAft>
                <a:spcPts val="1001"/>
              </a:spcAft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143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  <a:p>
            <a:pPr lvl="3" marL="1028880" indent="-51120">
              <a:spcAft>
                <a:spcPts val="1001"/>
              </a:spcAft>
              <a:buClr>
                <a:srgbClr val="80808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143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  <a:p>
            <a:pPr lvl="4" marL="1206360" indent="165240">
              <a:spcAft>
                <a:spcPts val="1001"/>
              </a:spcAft>
              <a:buClr>
                <a:srgbClr val="f5821f"/>
              </a:buClr>
              <a:buSzPct val="8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143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  <a:p>
            <a:pPr lvl="5" marL="1206360" indent="165240">
              <a:spcAft>
                <a:spcPts val="1001"/>
              </a:spcAft>
              <a:buClr>
                <a:srgbClr val="000000"/>
              </a:buClr>
              <a:buSzPct val="8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143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  <a:p>
            <a:pPr lvl="6" marL="1206360" indent="165240">
              <a:spcAft>
                <a:spcPts val="1001"/>
              </a:spcAft>
              <a:buClr>
                <a:srgbClr val="000000"/>
              </a:buClr>
              <a:buSzPct val="8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143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2"/>
          <p:cNvSpPr/>
          <p:nvPr/>
        </p:nvSpPr>
        <p:spPr>
          <a:xfrm>
            <a:off x="0" y="6613560"/>
            <a:ext cx="9144000" cy="244440"/>
          </a:xfrm>
          <a:prstGeom prst="rect">
            <a:avLst/>
          </a:prstGeom>
          <a:solidFill>
            <a:srgbClr val="0014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 Box 4"/>
          <p:cNvSpPr/>
          <p:nvPr/>
        </p:nvSpPr>
        <p:spPr>
          <a:xfrm>
            <a:off x="0" y="661356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ocal knowledge   </a:t>
            </a:r>
            <a:r>
              <a:rPr b="0" lang="en-US" sz="1000" spc="-1" strike="noStrike">
                <a:solidFill>
                  <a:srgbClr val="ffffff"/>
                </a:solidFill>
                <a:latin typeface="Wingdings"/>
                <a:ea typeface="Wingdings"/>
              </a:rPr>
              <a:t>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  International experience   </a:t>
            </a:r>
            <a:r>
              <a:rPr b="0" lang="en-US" sz="1000" spc="-1" strike="noStrike">
                <a:solidFill>
                  <a:srgbClr val="ffffff"/>
                </a:solidFill>
                <a:latin typeface="Wingdings"/>
                <a:ea typeface="Wingdings"/>
              </a:rPr>
              <a:t>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  Focused on 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Rectangle 5"/>
          <p:cNvSpPr/>
          <p:nvPr/>
        </p:nvSpPr>
        <p:spPr>
          <a:xfrm>
            <a:off x="0" y="0"/>
            <a:ext cx="9144000" cy="24444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ectangle 2"/>
          <p:cNvSpPr/>
          <p:nvPr/>
        </p:nvSpPr>
        <p:spPr>
          <a:xfrm>
            <a:off x="0" y="244440"/>
            <a:ext cx="9144000" cy="1889280"/>
          </a:xfrm>
          <a:prstGeom prst="rect">
            <a:avLst/>
          </a:prstGeom>
          <a:solidFill>
            <a:srgbClr val="00143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Rectangle 3"/>
          <p:cNvSpPr/>
          <p:nvPr/>
        </p:nvSpPr>
        <p:spPr>
          <a:xfrm>
            <a:off x="0" y="0"/>
            <a:ext cx="9144000" cy="24444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ectangle 6"/>
          <p:cNvSpPr/>
          <p:nvPr/>
        </p:nvSpPr>
        <p:spPr>
          <a:xfrm>
            <a:off x="0" y="6613560"/>
            <a:ext cx="9144000" cy="244440"/>
          </a:xfrm>
          <a:prstGeom prst="rect">
            <a:avLst/>
          </a:prstGeom>
          <a:solidFill>
            <a:srgbClr val="0014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 Box 7"/>
          <p:cNvSpPr/>
          <p:nvPr/>
        </p:nvSpPr>
        <p:spPr>
          <a:xfrm>
            <a:off x="1828800" y="6613560"/>
            <a:ext cx="5486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ocal knowledge   </a:t>
            </a:r>
            <a:r>
              <a:rPr b="0" lang="en-US" sz="1000" spc="-1" strike="noStrike">
                <a:solidFill>
                  <a:srgbClr val="ffffff"/>
                </a:solidFill>
                <a:latin typeface="Wingdings"/>
                <a:ea typeface="Wingdings"/>
              </a:rPr>
              <a:t>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  International experience   </a:t>
            </a:r>
            <a:r>
              <a:rPr b="0" lang="en-US" sz="1000" spc="-1" strike="noStrike">
                <a:solidFill>
                  <a:srgbClr val="ffffff"/>
                </a:solidFill>
                <a:latin typeface="Wingdings"/>
                <a:ea typeface="Wingdings"/>
              </a:rPr>
              <a:t>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  Focused on 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0010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143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00143f"/>
              </a:solidFill>
              <a:latin typeface="Arial Black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228240" y="1100160"/>
            <a:ext cx="8001000" cy="537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Aft>
                <a:spcPts val="561"/>
              </a:spcAft>
              <a:buClr>
                <a:srgbClr val="f5821f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43f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143f"/>
              </a:solidFill>
              <a:latin typeface="Arial"/>
            </a:endParaRPr>
          </a:p>
          <a:p>
            <a:pPr lvl="1" marL="571680" indent="-228600">
              <a:spcAft>
                <a:spcPts val="561"/>
              </a:spcAft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43f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143f"/>
              </a:solidFill>
              <a:latin typeface="Arial"/>
            </a:endParaRPr>
          </a:p>
          <a:p>
            <a:pPr lvl="2" marL="863640" indent="-177840">
              <a:spcAft>
                <a:spcPts val="561"/>
              </a:spcAft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43f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143f"/>
              </a:solidFill>
              <a:latin typeface="Arial"/>
            </a:endParaRPr>
          </a:p>
          <a:p>
            <a:pPr lvl="3" marL="1028880" indent="-51120">
              <a:spcAft>
                <a:spcPts val="561"/>
              </a:spcAft>
              <a:buClr>
                <a:srgbClr val="80808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43f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143f"/>
              </a:solidFill>
              <a:latin typeface="Arial"/>
            </a:endParaRPr>
          </a:p>
          <a:p>
            <a:pPr lvl="4" marL="1206360" indent="165240">
              <a:spcAft>
                <a:spcPts val="561"/>
              </a:spcAft>
              <a:buClr>
                <a:srgbClr val="f5821f"/>
              </a:buClr>
              <a:buSzPct val="8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43f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143f"/>
              </a:solidFill>
              <a:latin typeface="Arial"/>
            </a:endParaRPr>
          </a:p>
          <a:p>
            <a:pPr lvl="5" marL="1206360" indent="165240">
              <a:spcAft>
                <a:spcPts val="561"/>
              </a:spcAft>
              <a:buClr>
                <a:srgbClr val="000000"/>
              </a:buClr>
              <a:buSzPct val="8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43f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143f"/>
              </a:solidFill>
              <a:latin typeface="Arial"/>
            </a:endParaRPr>
          </a:p>
          <a:p>
            <a:pPr lvl="6" marL="1206360" indent="165240">
              <a:spcAft>
                <a:spcPts val="561"/>
              </a:spcAft>
              <a:buClr>
                <a:srgbClr val="000000"/>
              </a:buClr>
              <a:buSzPct val="8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43f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143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33"/>
          <p:cNvSpPr/>
          <p:nvPr/>
        </p:nvSpPr>
        <p:spPr>
          <a:xfrm>
            <a:off x="0" y="6613560"/>
            <a:ext cx="9144000" cy="244440"/>
          </a:xfrm>
          <a:prstGeom prst="rect">
            <a:avLst/>
          </a:prstGeom>
          <a:solidFill>
            <a:srgbClr val="0014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 Box 31"/>
          <p:cNvSpPr/>
          <p:nvPr/>
        </p:nvSpPr>
        <p:spPr>
          <a:xfrm>
            <a:off x="0" y="661356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ocal knowledge   </a:t>
            </a:r>
            <a:r>
              <a:rPr b="0" lang="en-US" sz="1000" spc="-1" strike="noStrike">
                <a:solidFill>
                  <a:srgbClr val="ffffff"/>
                </a:solidFill>
                <a:latin typeface="Wingdings"/>
                <a:ea typeface="Wingdings"/>
              </a:rPr>
              <a:t>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  International experience   </a:t>
            </a:r>
            <a:r>
              <a:rPr b="0" lang="en-US" sz="1000" spc="-1" strike="noStrike">
                <a:solidFill>
                  <a:srgbClr val="ffffff"/>
                </a:solidFill>
                <a:latin typeface="Wingdings"/>
                <a:ea typeface="Wingdings"/>
              </a:rPr>
              <a:t>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  Focused on 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Rectangle 38"/>
          <p:cNvSpPr/>
          <p:nvPr/>
        </p:nvSpPr>
        <p:spPr>
          <a:xfrm>
            <a:off x="0" y="0"/>
            <a:ext cx="9144000" cy="24444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8" name="Picture 41" descr=""/>
          <p:cNvPicPr/>
          <p:nvPr/>
        </p:nvPicPr>
        <p:blipFill>
          <a:blip r:embed="rId2"/>
          <a:srcRect l="17606" t="28212" r="13319" b="35989"/>
          <a:stretch/>
        </p:blipFill>
        <p:spPr>
          <a:xfrm>
            <a:off x="7389720" y="299880"/>
            <a:ext cx="1677960" cy="53820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0010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143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00143f"/>
              </a:solidFill>
              <a:latin typeface="Arial Black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228240" y="1100160"/>
            <a:ext cx="8001000" cy="537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Aft>
                <a:spcPts val="624"/>
              </a:spcAft>
              <a:buClr>
                <a:srgbClr val="f5821f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143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143f"/>
              </a:solidFill>
              <a:latin typeface="Arial"/>
            </a:endParaRPr>
          </a:p>
          <a:p>
            <a:pPr lvl="1" marL="571680" indent="-228600">
              <a:spcAft>
                <a:spcPts val="624"/>
              </a:spcAft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143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143f"/>
              </a:solidFill>
              <a:latin typeface="Arial"/>
            </a:endParaRPr>
          </a:p>
          <a:p>
            <a:pPr lvl="2" marL="863640" indent="-177840">
              <a:spcAft>
                <a:spcPts val="624"/>
              </a:spcAft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143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143f"/>
              </a:solidFill>
              <a:latin typeface="Arial"/>
            </a:endParaRPr>
          </a:p>
          <a:p>
            <a:pPr lvl="3" marL="1028880" indent="-51120">
              <a:spcAft>
                <a:spcPts val="624"/>
              </a:spcAft>
              <a:buClr>
                <a:srgbClr val="80808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143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143f"/>
              </a:solidFill>
              <a:latin typeface="Arial"/>
            </a:endParaRPr>
          </a:p>
          <a:p>
            <a:pPr lvl="4" marL="1206360" indent="165240">
              <a:spcAft>
                <a:spcPts val="624"/>
              </a:spcAft>
              <a:buClr>
                <a:srgbClr val="f5821f"/>
              </a:buClr>
              <a:buSzPct val="8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143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143f"/>
              </a:solidFill>
              <a:latin typeface="Arial"/>
            </a:endParaRPr>
          </a:p>
          <a:p>
            <a:pPr lvl="5" marL="1206360" indent="165240">
              <a:spcAft>
                <a:spcPts val="624"/>
              </a:spcAft>
              <a:buClr>
                <a:srgbClr val="000000"/>
              </a:buClr>
              <a:buSzPct val="8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143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143f"/>
              </a:solidFill>
              <a:latin typeface="Arial"/>
            </a:endParaRPr>
          </a:p>
          <a:p>
            <a:pPr lvl="6" marL="1206360" indent="165240">
              <a:spcAft>
                <a:spcPts val="624"/>
              </a:spcAft>
              <a:buClr>
                <a:srgbClr val="000000"/>
              </a:buClr>
              <a:buSzPct val="8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143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sldNum" idx="6"/>
          </p:nvPr>
        </p:nvSpPr>
        <p:spPr>
          <a:xfrm>
            <a:off x="7009920" y="661320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5CDB3-FEA9-4596-B704-E0D2EE65E62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33"/>
          <p:cNvSpPr/>
          <p:nvPr/>
        </p:nvSpPr>
        <p:spPr>
          <a:xfrm>
            <a:off x="0" y="6613560"/>
            <a:ext cx="9144000" cy="244440"/>
          </a:xfrm>
          <a:prstGeom prst="rect">
            <a:avLst/>
          </a:prstGeom>
          <a:solidFill>
            <a:srgbClr val="0014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 Box 31"/>
          <p:cNvSpPr/>
          <p:nvPr/>
        </p:nvSpPr>
        <p:spPr>
          <a:xfrm>
            <a:off x="0" y="661356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ocal knowledge   </a:t>
            </a:r>
            <a:r>
              <a:rPr b="0" lang="en-US" sz="1000" spc="-1" strike="noStrike">
                <a:solidFill>
                  <a:srgbClr val="ffffff"/>
                </a:solidFill>
                <a:latin typeface="Wingdings"/>
                <a:ea typeface="Wingdings"/>
              </a:rPr>
              <a:t>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  International experience   </a:t>
            </a:r>
            <a:r>
              <a:rPr b="0" lang="en-US" sz="1000" spc="-1" strike="noStrike">
                <a:solidFill>
                  <a:srgbClr val="ffffff"/>
                </a:solidFill>
                <a:latin typeface="Wingdings"/>
                <a:ea typeface="Wingdings"/>
              </a:rPr>
              <a:t>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  Focused on 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38"/>
          <p:cNvSpPr/>
          <p:nvPr/>
        </p:nvSpPr>
        <p:spPr>
          <a:xfrm>
            <a:off x="0" y="0"/>
            <a:ext cx="9144000" cy="24444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Picture 41" descr=""/>
          <p:cNvPicPr/>
          <p:nvPr/>
        </p:nvPicPr>
        <p:blipFill>
          <a:blip r:embed="rId2"/>
          <a:srcRect l="17606" t="28212" r="13319" b="35989"/>
          <a:stretch/>
        </p:blipFill>
        <p:spPr>
          <a:xfrm>
            <a:off x="7389720" y="299880"/>
            <a:ext cx="1677960" cy="538200"/>
          </a:xfrm>
          <a:prstGeom prst="rect">
            <a:avLst/>
          </a:prstGeom>
          <a:ln w="0">
            <a:noFill/>
          </a:ln>
        </p:spPr>
      </p:pic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0010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143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00143f"/>
              </a:solidFill>
              <a:latin typeface="Arial Black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228240" y="1100160"/>
            <a:ext cx="8001000" cy="537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Aft>
                <a:spcPts val="624"/>
              </a:spcAft>
              <a:buClr>
                <a:srgbClr val="f5821f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143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143f"/>
              </a:solidFill>
              <a:latin typeface="Arial"/>
            </a:endParaRPr>
          </a:p>
          <a:p>
            <a:pPr lvl="1" marL="571680" indent="-228600">
              <a:spcAft>
                <a:spcPts val="624"/>
              </a:spcAft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143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143f"/>
              </a:solidFill>
              <a:latin typeface="Arial"/>
            </a:endParaRPr>
          </a:p>
          <a:p>
            <a:pPr lvl="2" marL="863640" indent="-177840">
              <a:spcAft>
                <a:spcPts val="624"/>
              </a:spcAft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143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143f"/>
              </a:solidFill>
              <a:latin typeface="Arial"/>
            </a:endParaRPr>
          </a:p>
          <a:p>
            <a:pPr lvl="3" marL="1028880" indent="-51120">
              <a:spcAft>
                <a:spcPts val="624"/>
              </a:spcAft>
              <a:buClr>
                <a:srgbClr val="80808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143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143f"/>
              </a:solidFill>
              <a:latin typeface="Arial"/>
            </a:endParaRPr>
          </a:p>
          <a:p>
            <a:pPr lvl="4" marL="1206360" indent="165240">
              <a:spcAft>
                <a:spcPts val="624"/>
              </a:spcAft>
              <a:buClr>
                <a:srgbClr val="f5821f"/>
              </a:buClr>
              <a:buSzPct val="8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143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143f"/>
              </a:solidFill>
              <a:latin typeface="Arial"/>
            </a:endParaRPr>
          </a:p>
          <a:p>
            <a:pPr lvl="5" marL="1206360" indent="165240">
              <a:spcAft>
                <a:spcPts val="624"/>
              </a:spcAft>
              <a:buClr>
                <a:srgbClr val="000000"/>
              </a:buClr>
              <a:buSzPct val="8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143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143f"/>
              </a:solidFill>
              <a:latin typeface="Arial"/>
            </a:endParaRPr>
          </a:p>
          <a:p>
            <a:pPr lvl="6" marL="1206360" indent="165240">
              <a:spcAft>
                <a:spcPts val="624"/>
              </a:spcAft>
              <a:buClr>
                <a:srgbClr val="000000"/>
              </a:buClr>
              <a:buSzPct val="8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143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 type="sldNum" idx="7"/>
          </p:nvPr>
        </p:nvSpPr>
        <p:spPr>
          <a:xfrm>
            <a:off x="7009920" y="661320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783AF-4E1A-4193-ADED-A53268BEB23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33"/>
          <p:cNvSpPr/>
          <p:nvPr/>
        </p:nvSpPr>
        <p:spPr>
          <a:xfrm>
            <a:off x="0" y="6613560"/>
            <a:ext cx="9144000" cy="244440"/>
          </a:xfrm>
          <a:prstGeom prst="rect">
            <a:avLst/>
          </a:prstGeom>
          <a:solidFill>
            <a:srgbClr val="0014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 Box 31"/>
          <p:cNvSpPr/>
          <p:nvPr/>
        </p:nvSpPr>
        <p:spPr>
          <a:xfrm>
            <a:off x="0" y="661356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ocal knowledge   </a:t>
            </a:r>
            <a:r>
              <a:rPr b="0" lang="en-US" sz="1000" spc="-1" strike="noStrike">
                <a:solidFill>
                  <a:srgbClr val="ffffff"/>
                </a:solidFill>
                <a:latin typeface="Wingdings"/>
                <a:ea typeface="Wingdings"/>
              </a:rPr>
              <a:t>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  International experience   </a:t>
            </a:r>
            <a:r>
              <a:rPr b="0" lang="en-US" sz="1000" spc="-1" strike="noStrike">
                <a:solidFill>
                  <a:srgbClr val="ffffff"/>
                </a:solidFill>
                <a:latin typeface="Wingdings"/>
                <a:ea typeface="Wingdings"/>
              </a:rPr>
              <a:t>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  Focused on 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Rectangle 38"/>
          <p:cNvSpPr/>
          <p:nvPr/>
        </p:nvSpPr>
        <p:spPr>
          <a:xfrm>
            <a:off x="0" y="0"/>
            <a:ext cx="9144000" cy="24444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4" name="Picture 41" descr=""/>
          <p:cNvPicPr/>
          <p:nvPr/>
        </p:nvPicPr>
        <p:blipFill>
          <a:blip r:embed="rId2"/>
          <a:srcRect l="17606" t="28212" r="13319" b="35989"/>
          <a:stretch/>
        </p:blipFill>
        <p:spPr>
          <a:xfrm>
            <a:off x="7389720" y="299880"/>
            <a:ext cx="1677960" cy="538200"/>
          </a:xfrm>
          <a:prstGeom prst="rect">
            <a:avLst/>
          </a:prstGeom>
          <a:ln w="0">
            <a:noFill/>
          </a:ln>
        </p:spPr>
      </p:pic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0010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143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00143f"/>
              </a:solidFill>
              <a:latin typeface="Arial Black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228240" y="1100160"/>
            <a:ext cx="8001000" cy="537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Aft>
                <a:spcPts val="624"/>
              </a:spcAft>
              <a:buClr>
                <a:srgbClr val="f5821f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143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143f"/>
              </a:solidFill>
              <a:latin typeface="Arial"/>
            </a:endParaRPr>
          </a:p>
          <a:p>
            <a:pPr lvl="1" marL="571680" indent="-228600">
              <a:spcAft>
                <a:spcPts val="624"/>
              </a:spcAft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143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143f"/>
              </a:solidFill>
              <a:latin typeface="Arial"/>
            </a:endParaRPr>
          </a:p>
          <a:p>
            <a:pPr lvl="2" marL="863640" indent="-177840">
              <a:spcAft>
                <a:spcPts val="624"/>
              </a:spcAft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143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143f"/>
              </a:solidFill>
              <a:latin typeface="Arial"/>
            </a:endParaRPr>
          </a:p>
          <a:p>
            <a:pPr lvl="3" marL="1028880" indent="-51120">
              <a:spcAft>
                <a:spcPts val="624"/>
              </a:spcAft>
              <a:buClr>
                <a:srgbClr val="80808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143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143f"/>
              </a:solidFill>
              <a:latin typeface="Arial"/>
            </a:endParaRPr>
          </a:p>
          <a:p>
            <a:pPr lvl="4" marL="1206360" indent="165240">
              <a:spcAft>
                <a:spcPts val="624"/>
              </a:spcAft>
              <a:buClr>
                <a:srgbClr val="f5821f"/>
              </a:buClr>
              <a:buSzPct val="8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143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143f"/>
              </a:solidFill>
              <a:latin typeface="Arial"/>
            </a:endParaRPr>
          </a:p>
          <a:p>
            <a:pPr lvl="5" marL="1206360" indent="165240">
              <a:spcAft>
                <a:spcPts val="624"/>
              </a:spcAft>
              <a:buClr>
                <a:srgbClr val="000000"/>
              </a:buClr>
              <a:buSzPct val="8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143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143f"/>
              </a:solidFill>
              <a:latin typeface="Arial"/>
            </a:endParaRPr>
          </a:p>
          <a:p>
            <a:pPr lvl="6" marL="1206360" indent="165240">
              <a:spcAft>
                <a:spcPts val="624"/>
              </a:spcAft>
              <a:buClr>
                <a:srgbClr val="000000"/>
              </a:buClr>
              <a:buSzPct val="8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143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8"/>
          </p:nvPr>
        </p:nvSpPr>
        <p:spPr>
          <a:xfrm>
            <a:off x="7009920" y="661320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B796C-87A5-42DB-BEC1-736AF8B63FD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Rectangle 33"/>
          <p:cNvSpPr/>
          <p:nvPr/>
        </p:nvSpPr>
        <p:spPr>
          <a:xfrm>
            <a:off x="0" y="6613560"/>
            <a:ext cx="9144000" cy="244440"/>
          </a:xfrm>
          <a:prstGeom prst="rect">
            <a:avLst/>
          </a:prstGeom>
          <a:solidFill>
            <a:srgbClr val="0014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Text Box 31"/>
          <p:cNvSpPr/>
          <p:nvPr/>
        </p:nvSpPr>
        <p:spPr>
          <a:xfrm>
            <a:off x="0" y="661356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ocal knowledge   </a:t>
            </a:r>
            <a:r>
              <a:rPr b="0" lang="en-US" sz="1000" spc="-1" strike="noStrike">
                <a:solidFill>
                  <a:srgbClr val="ffffff"/>
                </a:solidFill>
                <a:latin typeface="Wingdings"/>
                <a:ea typeface="Wingdings"/>
              </a:rPr>
              <a:t>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  International experience   </a:t>
            </a:r>
            <a:r>
              <a:rPr b="0" lang="en-US" sz="1000" spc="-1" strike="noStrike">
                <a:solidFill>
                  <a:srgbClr val="ffffff"/>
                </a:solidFill>
                <a:latin typeface="Wingdings"/>
                <a:ea typeface="Wingdings"/>
              </a:rPr>
              <a:t>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  Focused on 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Rectangle 38"/>
          <p:cNvSpPr/>
          <p:nvPr/>
        </p:nvSpPr>
        <p:spPr>
          <a:xfrm>
            <a:off x="0" y="0"/>
            <a:ext cx="9144000" cy="24444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Picture 41" descr=""/>
          <p:cNvPicPr/>
          <p:nvPr/>
        </p:nvPicPr>
        <p:blipFill>
          <a:blip r:embed="rId2"/>
          <a:srcRect l="17606" t="28212" r="13319" b="35989"/>
          <a:stretch/>
        </p:blipFill>
        <p:spPr>
          <a:xfrm>
            <a:off x="7389720" y="299880"/>
            <a:ext cx="1677960" cy="538200"/>
          </a:xfrm>
          <a:prstGeom prst="rect">
            <a:avLst/>
          </a:prstGeom>
          <a:ln w="0">
            <a:noFill/>
          </a:ln>
        </p:spPr>
      </p:pic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0010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143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00143f"/>
              </a:solidFill>
              <a:latin typeface="Arial Black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228240" y="1100160"/>
            <a:ext cx="8001000" cy="537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Aft>
                <a:spcPts val="624"/>
              </a:spcAft>
              <a:buClr>
                <a:srgbClr val="f5821f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143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143f"/>
              </a:solidFill>
              <a:latin typeface="Arial"/>
            </a:endParaRPr>
          </a:p>
          <a:p>
            <a:pPr lvl="1" marL="571680" indent="-228600">
              <a:spcAft>
                <a:spcPts val="624"/>
              </a:spcAft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143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143f"/>
              </a:solidFill>
              <a:latin typeface="Arial"/>
            </a:endParaRPr>
          </a:p>
          <a:p>
            <a:pPr lvl="2" marL="863640" indent="-177840">
              <a:spcAft>
                <a:spcPts val="624"/>
              </a:spcAft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143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143f"/>
              </a:solidFill>
              <a:latin typeface="Arial"/>
            </a:endParaRPr>
          </a:p>
          <a:p>
            <a:pPr lvl="3" marL="1028880" indent="-51120">
              <a:spcAft>
                <a:spcPts val="624"/>
              </a:spcAft>
              <a:buClr>
                <a:srgbClr val="80808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143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143f"/>
              </a:solidFill>
              <a:latin typeface="Arial"/>
            </a:endParaRPr>
          </a:p>
          <a:p>
            <a:pPr lvl="4" marL="1206360" indent="165240">
              <a:spcAft>
                <a:spcPts val="624"/>
              </a:spcAft>
              <a:buClr>
                <a:srgbClr val="f5821f"/>
              </a:buClr>
              <a:buSzPct val="8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143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143f"/>
              </a:solidFill>
              <a:latin typeface="Arial"/>
            </a:endParaRPr>
          </a:p>
          <a:p>
            <a:pPr lvl="5" marL="1206360" indent="165240">
              <a:spcAft>
                <a:spcPts val="624"/>
              </a:spcAft>
              <a:buClr>
                <a:srgbClr val="000000"/>
              </a:buClr>
              <a:buSzPct val="8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143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143f"/>
              </a:solidFill>
              <a:latin typeface="Arial"/>
            </a:endParaRPr>
          </a:p>
          <a:p>
            <a:pPr lvl="6" marL="1206360" indent="165240">
              <a:spcAft>
                <a:spcPts val="624"/>
              </a:spcAft>
              <a:buClr>
                <a:srgbClr val="000000"/>
              </a:buClr>
              <a:buSzPct val="8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143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 type="sldNum" idx="9"/>
          </p:nvPr>
        </p:nvSpPr>
        <p:spPr>
          <a:xfrm>
            <a:off x="7009920" y="661320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32FE9-338D-4D25-B6C7-4DB97D072A6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33"/>
          <p:cNvSpPr/>
          <p:nvPr/>
        </p:nvSpPr>
        <p:spPr>
          <a:xfrm>
            <a:off x="0" y="6613560"/>
            <a:ext cx="9144000" cy="244440"/>
          </a:xfrm>
          <a:prstGeom prst="rect">
            <a:avLst/>
          </a:prstGeom>
          <a:solidFill>
            <a:srgbClr val="0014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Text Box 31"/>
          <p:cNvSpPr/>
          <p:nvPr/>
        </p:nvSpPr>
        <p:spPr>
          <a:xfrm>
            <a:off x="0" y="661356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ocal knowledge   </a:t>
            </a:r>
            <a:r>
              <a:rPr b="0" lang="en-US" sz="1000" spc="-1" strike="noStrike">
                <a:solidFill>
                  <a:srgbClr val="ffffff"/>
                </a:solidFill>
                <a:latin typeface="Wingdings"/>
                <a:ea typeface="Wingdings"/>
              </a:rPr>
              <a:t>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  International experience   </a:t>
            </a:r>
            <a:r>
              <a:rPr b="0" lang="en-US" sz="1000" spc="-1" strike="noStrike">
                <a:solidFill>
                  <a:srgbClr val="ffffff"/>
                </a:solidFill>
                <a:latin typeface="Wingdings"/>
                <a:ea typeface="Wingdings"/>
              </a:rPr>
              <a:t>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  Focused on 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Rectangle 38"/>
          <p:cNvSpPr/>
          <p:nvPr/>
        </p:nvSpPr>
        <p:spPr>
          <a:xfrm>
            <a:off x="0" y="0"/>
            <a:ext cx="9144000" cy="24444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0" name="Picture 41" descr=""/>
          <p:cNvPicPr/>
          <p:nvPr/>
        </p:nvPicPr>
        <p:blipFill>
          <a:blip r:embed="rId2"/>
          <a:srcRect l="17606" t="28212" r="13319" b="35989"/>
          <a:stretch/>
        </p:blipFill>
        <p:spPr>
          <a:xfrm>
            <a:off x="7389720" y="299880"/>
            <a:ext cx="1677960" cy="538200"/>
          </a:xfrm>
          <a:prstGeom prst="rect">
            <a:avLst/>
          </a:prstGeom>
          <a:ln w="0">
            <a:noFill/>
          </a:ln>
        </p:spPr>
      </p:pic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0010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143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00143f"/>
              </a:solidFill>
              <a:latin typeface="Arial Black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228240" y="1100160"/>
            <a:ext cx="8001000" cy="537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Aft>
                <a:spcPts val="624"/>
              </a:spcAft>
              <a:buClr>
                <a:srgbClr val="f5821f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143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143f"/>
              </a:solidFill>
              <a:latin typeface="Arial"/>
            </a:endParaRPr>
          </a:p>
          <a:p>
            <a:pPr lvl="1" marL="571680" indent="-228600">
              <a:spcAft>
                <a:spcPts val="624"/>
              </a:spcAft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143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143f"/>
              </a:solidFill>
              <a:latin typeface="Arial"/>
            </a:endParaRPr>
          </a:p>
          <a:p>
            <a:pPr lvl="2" marL="863640" indent="-177840">
              <a:spcAft>
                <a:spcPts val="624"/>
              </a:spcAft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143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143f"/>
              </a:solidFill>
              <a:latin typeface="Arial"/>
            </a:endParaRPr>
          </a:p>
          <a:p>
            <a:pPr lvl="3" marL="1028880" indent="-51120">
              <a:spcAft>
                <a:spcPts val="624"/>
              </a:spcAft>
              <a:buClr>
                <a:srgbClr val="80808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143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143f"/>
              </a:solidFill>
              <a:latin typeface="Arial"/>
            </a:endParaRPr>
          </a:p>
          <a:p>
            <a:pPr lvl="4" marL="1206360" indent="165240">
              <a:spcAft>
                <a:spcPts val="624"/>
              </a:spcAft>
              <a:buClr>
                <a:srgbClr val="f5821f"/>
              </a:buClr>
              <a:buSzPct val="8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143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143f"/>
              </a:solidFill>
              <a:latin typeface="Arial"/>
            </a:endParaRPr>
          </a:p>
          <a:p>
            <a:pPr lvl="5" marL="1206360" indent="165240">
              <a:spcAft>
                <a:spcPts val="624"/>
              </a:spcAft>
              <a:buClr>
                <a:srgbClr val="000000"/>
              </a:buClr>
              <a:buSzPct val="8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143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143f"/>
              </a:solidFill>
              <a:latin typeface="Arial"/>
            </a:endParaRPr>
          </a:p>
          <a:p>
            <a:pPr lvl="6" marL="1206360" indent="165240">
              <a:spcAft>
                <a:spcPts val="624"/>
              </a:spcAft>
              <a:buClr>
                <a:srgbClr val="000000"/>
              </a:buClr>
              <a:buSzPct val="8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143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 type="sldNum" idx="10"/>
          </p:nvPr>
        </p:nvSpPr>
        <p:spPr>
          <a:xfrm>
            <a:off x="7009920" y="661320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2437C-8C4D-4FC9-803A-AFDBAF7DD17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Rectangle 33"/>
          <p:cNvSpPr/>
          <p:nvPr/>
        </p:nvSpPr>
        <p:spPr>
          <a:xfrm>
            <a:off x="0" y="6613560"/>
            <a:ext cx="9144000" cy="244440"/>
          </a:xfrm>
          <a:prstGeom prst="rect">
            <a:avLst/>
          </a:prstGeom>
          <a:solidFill>
            <a:srgbClr val="0014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Text Box 31"/>
          <p:cNvSpPr/>
          <p:nvPr/>
        </p:nvSpPr>
        <p:spPr>
          <a:xfrm>
            <a:off x="0" y="661356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ocal knowledge   </a:t>
            </a:r>
            <a:r>
              <a:rPr b="0" lang="en-US" sz="1000" spc="-1" strike="noStrike">
                <a:solidFill>
                  <a:srgbClr val="ffffff"/>
                </a:solidFill>
                <a:latin typeface="Wingdings"/>
                <a:ea typeface="Wingdings"/>
              </a:rPr>
              <a:t>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  International experience   </a:t>
            </a:r>
            <a:r>
              <a:rPr b="0" lang="en-US" sz="1000" spc="-1" strike="noStrike">
                <a:solidFill>
                  <a:srgbClr val="ffffff"/>
                </a:solidFill>
                <a:latin typeface="Wingdings"/>
                <a:ea typeface="Wingdings"/>
              </a:rPr>
              <a:t>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  Focused on 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Rectangle 38"/>
          <p:cNvSpPr/>
          <p:nvPr/>
        </p:nvSpPr>
        <p:spPr>
          <a:xfrm>
            <a:off x="0" y="0"/>
            <a:ext cx="9144000" cy="24444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3" name="Picture 41" descr=""/>
          <p:cNvPicPr/>
          <p:nvPr/>
        </p:nvPicPr>
        <p:blipFill>
          <a:blip r:embed="rId2"/>
          <a:srcRect l="17606" t="28212" r="13319" b="35989"/>
          <a:stretch/>
        </p:blipFill>
        <p:spPr>
          <a:xfrm>
            <a:off x="7389720" y="299880"/>
            <a:ext cx="1677960" cy="538200"/>
          </a:xfrm>
          <a:prstGeom prst="rect">
            <a:avLst/>
          </a:prstGeom>
          <a:ln w="0">
            <a:noFill/>
          </a:ln>
        </p:spPr>
      </p:pic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0010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143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00143f"/>
              </a:solidFill>
              <a:latin typeface="Arial Black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 type="body"/>
          </p:nvPr>
        </p:nvSpPr>
        <p:spPr>
          <a:xfrm>
            <a:off x="228240" y="1100160"/>
            <a:ext cx="8001000" cy="537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Aft>
                <a:spcPts val="624"/>
              </a:spcAft>
              <a:buClr>
                <a:srgbClr val="f5821f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143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143f"/>
              </a:solidFill>
              <a:latin typeface="Arial"/>
            </a:endParaRPr>
          </a:p>
          <a:p>
            <a:pPr lvl="1" marL="571680" indent="-228600">
              <a:spcAft>
                <a:spcPts val="624"/>
              </a:spcAft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143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143f"/>
              </a:solidFill>
              <a:latin typeface="Arial"/>
            </a:endParaRPr>
          </a:p>
          <a:p>
            <a:pPr lvl="2" marL="863640" indent="-177840">
              <a:spcAft>
                <a:spcPts val="624"/>
              </a:spcAft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143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143f"/>
              </a:solidFill>
              <a:latin typeface="Arial"/>
            </a:endParaRPr>
          </a:p>
          <a:p>
            <a:pPr lvl="3" marL="1028880" indent="-51120">
              <a:spcAft>
                <a:spcPts val="624"/>
              </a:spcAft>
              <a:buClr>
                <a:srgbClr val="80808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143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143f"/>
              </a:solidFill>
              <a:latin typeface="Arial"/>
            </a:endParaRPr>
          </a:p>
          <a:p>
            <a:pPr lvl="4" marL="1206360" indent="165240">
              <a:spcAft>
                <a:spcPts val="624"/>
              </a:spcAft>
              <a:buClr>
                <a:srgbClr val="f5821f"/>
              </a:buClr>
              <a:buSzPct val="8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143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143f"/>
              </a:solidFill>
              <a:latin typeface="Arial"/>
            </a:endParaRPr>
          </a:p>
          <a:p>
            <a:pPr lvl="5" marL="1206360" indent="165240">
              <a:spcAft>
                <a:spcPts val="624"/>
              </a:spcAft>
              <a:buClr>
                <a:srgbClr val="000000"/>
              </a:buClr>
              <a:buSzPct val="8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143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143f"/>
              </a:solidFill>
              <a:latin typeface="Arial"/>
            </a:endParaRPr>
          </a:p>
          <a:p>
            <a:pPr lvl="6" marL="1206360" indent="165240">
              <a:spcAft>
                <a:spcPts val="624"/>
              </a:spcAft>
              <a:buClr>
                <a:srgbClr val="000000"/>
              </a:buClr>
              <a:buSzPct val="8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143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 type="sldNum" idx="11"/>
          </p:nvPr>
        </p:nvSpPr>
        <p:spPr>
          <a:xfrm>
            <a:off x="7009920" y="661320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5022B-7CCF-464C-83B9-63853DDF650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Rectangle 33"/>
          <p:cNvSpPr/>
          <p:nvPr/>
        </p:nvSpPr>
        <p:spPr>
          <a:xfrm>
            <a:off x="0" y="6613560"/>
            <a:ext cx="9144000" cy="244440"/>
          </a:xfrm>
          <a:prstGeom prst="rect">
            <a:avLst/>
          </a:prstGeom>
          <a:solidFill>
            <a:srgbClr val="0014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Text Box 31"/>
          <p:cNvSpPr/>
          <p:nvPr/>
        </p:nvSpPr>
        <p:spPr>
          <a:xfrm>
            <a:off x="0" y="661356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ocal knowledge   </a:t>
            </a:r>
            <a:r>
              <a:rPr b="0" lang="en-US" sz="1000" spc="-1" strike="noStrike">
                <a:solidFill>
                  <a:srgbClr val="ffffff"/>
                </a:solidFill>
                <a:latin typeface="Wingdings"/>
                <a:ea typeface="Wingdings"/>
              </a:rPr>
              <a:t>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  International experience   </a:t>
            </a:r>
            <a:r>
              <a:rPr b="0" lang="en-US" sz="1000" spc="-1" strike="noStrike">
                <a:solidFill>
                  <a:srgbClr val="ffffff"/>
                </a:solidFill>
                <a:latin typeface="Wingdings"/>
                <a:ea typeface="Wingdings"/>
              </a:rPr>
              <a:t>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  Focused on 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Rectangle 38"/>
          <p:cNvSpPr/>
          <p:nvPr/>
        </p:nvSpPr>
        <p:spPr>
          <a:xfrm>
            <a:off x="0" y="0"/>
            <a:ext cx="9144000" cy="24444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6" name="Picture 41" descr=""/>
          <p:cNvPicPr/>
          <p:nvPr/>
        </p:nvPicPr>
        <p:blipFill>
          <a:blip r:embed="rId2"/>
          <a:srcRect l="17606" t="28212" r="13319" b="35989"/>
          <a:stretch/>
        </p:blipFill>
        <p:spPr>
          <a:xfrm>
            <a:off x="7389720" y="299880"/>
            <a:ext cx="1677960" cy="538200"/>
          </a:xfrm>
          <a:prstGeom prst="rect">
            <a:avLst/>
          </a:prstGeom>
          <a:ln w="0">
            <a:noFill/>
          </a:ln>
        </p:spPr>
      </p:pic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0010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143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00143f"/>
              </a:solidFill>
              <a:latin typeface="Arial Black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 type="body"/>
          </p:nvPr>
        </p:nvSpPr>
        <p:spPr>
          <a:xfrm>
            <a:off x="228240" y="1100160"/>
            <a:ext cx="8001000" cy="537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Aft>
                <a:spcPts val="624"/>
              </a:spcAft>
              <a:buClr>
                <a:srgbClr val="f5821f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143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143f"/>
              </a:solidFill>
              <a:latin typeface="Arial"/>
            </a:endParaRPr>
          </a:p>
          <a:p>
            <a:pPr lvl="1" marL="571680" indent="-228600">
              <a:spcAft>
                <a:spcPts val="624"/>
              </a:spcAft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143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143f"/>
              </a:solidFill>
              <a:latin typeface="Arial"/>
            </a:endParaRPr>
          </a:p>
          <a:p>
            <a:pPr lvl="2" marL="863640" indent="-177840">
              <a:spcAft>
                <a:spcPts val="624"/>
              </a:spcAft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143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143f"/>
              </a:solidFill>
              <a:latin typeface="Arial"/>
            </a:endParaRPr>
          </a:p>
          <a:p>
            <a:pPr lvl="3" marL="1028880" indent="-51120">
              <a:spcAft>
                <a:spcPts val="624"/>
              </a:spcAft>
              <a:buClr>
                <a:srgbClr val="80808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143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143f"/>
              </a:solidFill>
              <a:latin typeface="Arial"/>
            </a:endParaRPr>
          </a:p>
          <a:p>
            <a:pPr lvl="4" marL="1206360" indent="165240">
              <a:spcAft>
                <a:spcPts val="624"/>
              </a:spcAft>
              <a:buClr>
                <a:srgbClr val="f5821f"/>
              </a:buClr>
              <a:buSzPct val="8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143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143f"/>
              </a:solidFill>
              <a:latin typeface="Arial"/>
            </a:endParaRPr>
          </a:p>
          <a:p>
            <a:pPr lvl="5" marL="1206360" indent="165240">
              <a:spcAft>
                <a:spcPts val="624"/>
              </a:spcAft>
              <a:buClr>
                <a:srgbClr val="000000"/>
              </a:buClr>
              <a:buSzPct val="8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143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143f"/>
              </a:solidFill>
              <a:latin typeface="Arial"/>
            </a:endParaRPr>
          </a:p>
          <a:p>
            <a:pPr lvl="6" marL="1206360" indent="165240">
              <a:spcAft>
                <a:spcPts val="624"/>
              </a:spcAft>
              <a:buClr>
                <a:srgbClr val="000000"/>
              </a:buClr>
              <a:buSzPct val="8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143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 type="sldNum" idx="12"/>
          </p:nvPr>
        </p:nvSpPr>
        <p:spPr>
          <a:xfrm>
            <a:off x="7009920" y="661320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8405C-7DA4-49D3-8BBF-AAEBFABF883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Rectangle 33"/>
          <p:cNvSpPr/>
          <p:nvPr/>
        </p:nvSpPr>
        <p:spPr>
          <a:xfrm>
            <a:off x="0" y="6613560"/>
            <a:ext cx="9144000" cy="244440"/>
          </a:xfrm>
          <a:prstGeom prst="rect">
            <a:avLst/>
          </a:prstGeom>
          <a:solidFill>
            <a:srgbClr val="0014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Text Box 31"/>
          <p:cNvSpPr/>
          <p:nvPr/>
        </p:nvSpPr>
        <p:spPr>
          <a:xfrm>
            <a:off x="0" y="661356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ocal knowledge   </a:t>
            </a:r>
            <a:r>
              <a:rPr b="0" lang="en-US" sz="1000" spc="-1" strike="noStrike">
                <a:solidFill>
                  <a:srgbClr val="ffffff"/>
                </a:solidFill>
                <a:latin typeface="Wingdings"/>
                <a:ea typeface="Wingdings"/>
              </a:rPr>
              <a:t>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  International experience   </a:t>
            </a:r>
            <a:r>
              <a:rPr b="0" lang="en-US" sz="1000" spc="-1" strike="noStrike">
                <a:solidFill>
                  <a:srgbClr val="ffffff"/>
                </a:solidFill>
                <a:latin typeface="Wingdings"/>
                <a:ea typeface="Wingdings"/>
              </a:rPr>
              <a:t>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  Focused on 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Rectangle 38"/>
          <p:cNvSpPr/>
          <p:nvPr/>
        </p:nvSpPr>
        <p:spPr>
          <a:xfrm>
            <a:off x="0" y="0"/>
            <a:ext cx="9144000" cy="24444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9" name="Picture 41" descr=""/>
          <p:cNvPicPr/>
          <p:nvPr/>
        </p:nvPicPr>
        <p:blipFill>
          <a:blip r:embed="rId2"/>
          <a:srcRect l="17606" t="28212" r="13319" b="35989"/>
          <a:stretch/>
        </p:blipFill>
        <p:spPr>
          <a:xfrm>
            <a:off x="7389720" y="299880"/>
            <a:ext cx="1677960" cy="538200"/>
          </a:xfrm>
          <a:prstGeom prst="rect">
            <a:avLst/>
          </a:prstGeom>
          <a:ln w="0">
            <a:noFill/>
          </a:ln>
        </p:spPr>
      </p:pic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0010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143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00143f"/>
              </a:solidFill>
              <a:latin typeface="Arial Black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 type="body"/>
          </p:nvPr>
        </p:nvSpPr>
        <p:spPr>
          <a:xfrm>
            <a:off x="228240" y="1100160"/>
            <a:ext cx="8001000" cy="537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Aft>
                <a:spcPts val="624"/>
              </a:spcAft>
              <a:buClr>
                <a:srgbClr val="f5821f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143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143f"/>
              </a:solidFill>
              <a:latin typeface="Arial"/>
            </a:endParaRPr>
          </a:p>
          <a:p>
            <a:pPr lvl="1" marL="571680" indent="-228600">
              <a:spcAft>
                <a:spcPts val="624"/>
              </a:spcAft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143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143f"/>
              </a:solidFill>
              <a:latin typeface="Arial"/>
            </a:endParaRPr>
          </a:p>
          <a:p>
            <a:pPr lvl="2" marL="863640" indent="-177840">
              <a:spcAft>
                <a:spcPts val="624"/>
              </a:spcAft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143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143f"/>
              </a:solidFill>
              <a:latin typeface="Arial"/>
            </a:endParaRPr>
          </a:p>
          <a:p>
            <a:pPr lvl="3" marL="1028880" indent="-51120">
              <a:spcAft>
                <a:spcPts val="624"/>
              </a:spcAft>
              <a:buClr>
                <a:srgbClr val="80808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143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143f"/>
              </a:solidFill>
              <a:latin typeface="Arial"/>
            </a:endParaRPr>
          </a:p>
          <a:p>
            <a:pPr lvl="4" marL="1206360" indent="165240">
              <a:spcAft>
                <a:spcPts val="624"/>
              </a:spcAft>
              <a:buClr>
                <a:srgbClr val="f5821f"/>
              </a:buClr>
              <a:buSzPct val="8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143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143f"/>
              </a:solidFill>
              <a:latin typeface="Arial"/>
            </a:endParaRPr>
          </a:p>
          <a:p>
            <a:pPr lvl="5" marL="1206360" indent="165240">
              <a:spcAft>
                <a:spcPts val="624"/>
              </a:spcAft>
              <a:buClr>
                <a:srgbClr val="000000"/>
              </a:buClr>
              <a:buSzPct val="8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143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143f"/>
              </a:solidFill>
              <a:latin typeface="Arial"/>
            </a:endParaRPr>
          </a:p>
          <a:p>
            <a:pPr lvl="6" marL="1206360" indent="165240">
              <a:spcAft>
                <a:spcPts val="624"/>
              </a:spcAft>
              <a:buClr>
                <a:srgbClr val="000000"/>
              </a:buClr>
              <a:buSzPct val="8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143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 type="sldNum" idx="13"/>
          </p:nvPr>
        </p:nvSpPr>
        <p:spPr>
          <a:xfrm>
            <a:off x="7009920" y="661320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F2F97-472C-4F23-8E02-79D8F1A2136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45"/>
          <p:cNvSpPr/>
          <p:nvPr/>
        </p:nvSpPr>
        <p:spPr>
          <a:xfrm>
            <a:off x="0" y="244440"/>
            <a:ext cx="9144000" cy="1889280"/>
          </a:xfrm>
          <a:prstGeom prst="rect">
            <a:avLst/>
          </a:prstGeom>
          <a:solidFill>
            <a:srgbClr val="00143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37" descr="LA_PRGB"/>
          <p:cNvPicPr/>
          <p:nvPr/>
        </p:nvPicPr>
        <p:blipFill>
          <a:blip r:embed="rId2"/>
          <a:stretch/>
        </p:blipFill>
        <p:spPr>
          <a:xfrm>
            <a:off x="8229600" y="596880"/>
            <a:ext cx="701640" cy="1079640"/>
          </a:xfrm>
          <a:prstGeom prst="rect">
            <a:avLst/>
          </a:prstGeom>
          <a:ln w="3240">
            <a:solidFill>
              <a:srgbClr val="ffffff"/>
            </a:solidFill>
            <a:miter/>
          </a:ln>
        </p:spPr>
      </p:pic>
      <p:sp>
        <p:nvSpPr>
          <p:cNvPr id="45" name="Rectangle 51"/>
          <p:cNvSpPr/>
          <p:nvPr/>
        </p:nvSpPr>
        <p:spPr>
          <a:xfrm>
            <a:off x="0" y="0"/>
            <a:ext cx="9144000" cy="24444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68"/>
          <p:cNvSpPr/>
          <p:nvPr/>
        </p:nvSpPr>
        <p:spPr>
          <a:xfrm>
            <a:off x="0" y="6613560"/>
            <a:ext cx="9144000" cy="244440"/>
          </a:xfrm>
          <a:prstGeom prst="rect">
            <a:avLst/>
          </a:prstGeom>
          <a:solidFill>
            <a:srgbClr val="0014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69"/>
          <p:cNvSpPr/>
          <p:nvPr/>
        </p:nvSpPr>
        <p:spPr>
          <a:xfrm>
            <a:off x="1828800" y="6613560"/>
            <a:ext cx="5486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ocal knowledge   </a:t>
            </a:r>
            <a:r>
              <a:rPr b="0" lang="en-US" sz="1000" spc="-1" strike="noStrike">
                <a:solidFill>
                  <a:srgbClr val="ffffff"/>
                </a:solidFill>
                <a:latin typeface="Wingdings"/>
                <a:ea typeface="Wingdings"/>
              </a:rPr>
              <a:t>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  International experience   </a:t>
            </a:r>
            <a:r>
              <a:rPr b="0" lang="en-US" sz="1000" spc="-1" strike="noStrike">
                <a:solidFill>
                  <a:srgbClr val="ffffff"/>
                </a:solidFill>
                <a:latin typeface="Wingdings"/>
                <a:ea typeface="Wingdings"/>
              </a:rPr>
              <a:t>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  Focused on 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2" descr="C:\DOCUME~1\eugenec\LOCALS~1\Temp\7zE4C.tmp\LA_logo_Chi.jpg"/>
          <p:cNvPicPr/>
          <p:nvPr/>
        </p:nvPicPr>
        <p:blipFill>
          <a:blip r:embed="rId3"/>
          <a:stretch/>
        </p:blipFill>
        <p:spPr>
          <a:xfrm>
            <a:off x="8229600" y="596880"/>
            <a:ext cx="701640" cy="10796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0010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143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00143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28240" y="1100160"/>
            <a:ext cx="8001000" cy="537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Aft>
                <a:spcPts val="1001"/>
              </a:spcAft>
              <a:buClr>
                <a:srgbClr val="f5821f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143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  <a:p>
            <a:pPr lvl="1" marL="571680" indent="-228600">
              <a:spcAft>
                <a:spcPts val="1001"/>
              </a:spcAft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143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  <a:p>
            <a:pPr lvl="2" marL="863640" indent="-177840">
              <a:spcAft>
                <a:spcPts val="1001"/>
              </a:spcAft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143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  <a:p>
            <a:pPr lvl="3" marL="1028880" indent="-51120">
              <a:spcAft>
                <a:spcPts val="1001"/>
              </a:spcAft>
              <a:buClr>
                <a:srgbClr val="80808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143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  <a:p>
            <a:pPr lvl="4" marL="1206360" indent="165240">
              <a:spcAft>
                <a:spcPts val="1001"/>
              </a:spcAft>
              <a:buClr>
                <a:srgbClr val="f5821f"/>
              </a:buClr>
              <a:buSzPct val="8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143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  <a:p>
            <a:pPr lvl="5" marL="1206360" indent="165240">
              <a:spcAft>
                <a:spcPts val="1001"/>
              </a:spcAft>
              <a:buClr>
                <a:srgbClr val="000000"/>
              </a:buClr>
              <a:buSzPct val="8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143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  <a:p>
            <a:pPr lvl="6" marL="1206360" indent="165240">
              <a:spcAft>
                <a:spcPts val="1001"/>
              </a:spcAft>
              <a:buClr>
                <a:srgbClr val="000000"/>
              </a:buClr>
              <a:buSzPct val="8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143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Rectangle 33"/>
          <p:cNvSpPr/>
          <p:nvPr/>
        </p:nvSpPr>
        <p:spPr>
          <a:xfrm>
            <a:off x="0" y="6613560"/>
            <a:ext cx="9144000" cy="244440"/>
          </a:xfrm>
          <a:prstGeom prst="rect">
            <a:avLst/>
          </a:prstGeom>
          <a:solidFill>
            <a:srgbClr val="0014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Text Box 31"/>
          <p:cNvSpPr/>
          <p:nvPr/>
        </p:nvSpPr>
        <p:spPr>
          <a:xfrm>
            <a:off x="0" y="661356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ocal knowledge   </a:t>
            </a:r>
            <a:r>
              <a:rPr b="0" lang="en-US" sz="1000" spc="-1" strike="noStrike">
                <a:solidFill>
                  <a:srgbClr val="ffffff"/>
                </a:solidFill>
                <a:latin typeface="Wingdings"/>
                <a:ea typeface="Wingdings"/>
              </a:rPr>
              <a:t>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  International experience   </a:t>
            </a:r>
            <a:r>
              <a:rPr b="0" lang="en-US" sz="1000" spc="-1" strike="noStrike">
                <a:solidFill>
                  <a:srgbClr val="ffffff"/>
                </a:solidFill>
                <a:latin typeface="Wingdings"/>
                <a:ea typeface="Wingdings"/>
              </a:rPr>
              <a:t>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  Focused on 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0" y="0"/>
            <a:ext cx="9144000" cy="24444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2" name="Picture 41" descr=""/>
          <p:cNvPicPr/>
          <p:nvPr/>
        </p:nvPicPr>
        <p:blipFill>
          <a:blip r:embed="rId2"/>
          <a:srcRect l="17606" t="28212" r="13319" b="35989"/>
          <a:stretch/>
        </p:blipFill>
        <p:spPr>
          <a:xfrm>
            <a:off x="7389720" y="299880"/>
            <a:ext cx="1677960" cy="538200"/>
          </a:xfrm>
          <a:prstGeom prst="rect">
            <a:avLst/>
          </a:prstGeom>
          <a:ln w="0">
            <a:noFill/>
          </a:ln>
        </p:spPr>
      </p:pic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0010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143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00143f"/>
              </a:solidFill>
              <a:latin typeface="Arial Black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 type="body"/>
          </p:nvPr>
        </p:nvSpPr>
        <p:spPr>
          <a:xfrm>
            <a:off x="228240" y="1100160"/>
            <a:ext cx="8001000" cy="537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Aft>
                <a:spcPts val="624"/>
              </a:spcAft>
              <a:buClr>
                <a:srgbClr val="f5821f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143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143f"/>
              </a:solidFill>
              <a:latin typeface="Arial"/>
            </a:endParaRPr>
          </a:p>
          <a:p>
            <a:pPr lvl="1" marL="571680" indent="-228600">
              <a:spcAft>
                <a:spcPts val="624"/>
              </a:spcAft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143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143f"/>
              </a:solidFill>
              <a:latin typeface="Arial"/>
            </a:endParaRPr>
          </a:p>
          <a:p>
            <a:pPr lvl="2" marL="863640" indent="-177840">
              <a:spcAft>
                <a:spcPts val="624"/>
              </a:spcAft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143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143f"/>
              </a:solidFill>
              <a:latin typeface="Arial"/>
            </a:endParaRPr>
          </a:p>
          <a:p>
            <a:pPr lvl="3" marL="1028880" indent="-51120">
              <a:spcAft>
                <a:spcPts val="624"/>
              </a:spcAft>
              <a:buClr>
                <a:srgbClr val="80808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143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143f"/>
              </a:solidFill>
              <a:latin typeface="Arial"/>
            </a:endParaRPr>
          </a:p>
          <a:p>
            <a:pPr lvl="4" marL="1206360" indent="165240">
              <a:spcAft>
                <a:spcPts val="624"/>
              </a:spcAft>
              <a:buClr>
                <a:srgbClr val="f5821f"/>
              </a:buClr>
              <a:buSzPct val="8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143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143f"/>
              </a:solidFill>
              <a:latin typeface="Arial"/>
            </a:endParaRPr>
          </a:p>
          <a:p>
            <a:pPr lvl="5" marL="1206360" indent="165240">
              <a:spcAft>
                <a:spcPts val="624"/>
              </a:spcAft>
              <a:buClr>
                <a:srgbClr val="000000"/>
              </a:buClr>
              <a:buSzPct val="8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143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143f"/>
              </a:solidFill>
              <a:latin typeface="Arial"/>
            </a:endParaRPr>
          </a:p>
          <a:p>
            <a:pPr lvl="6" marL="1206360" indent="165240">
              <a:spcAft>
                <a:spcPts val="624"/>
              </a:spcAft>
              <a:buClr>
                <a:srgbClr val="000000"/>
              </a:buClr>
              <a:buSzPct val="8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143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 type="sldNum" idx="14"/>
          </p:nvPr>
        </p:nvSpPr>
        <p:spPr>
          <a:xfrm>
            <a:off x="7009920" y="661320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0BF3F-B242-45F6-8A8E-93662813096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Rectangle 33"/>
          <p:cNvSpPr/>
          <p:nvPr/>
        </p:nvSpPr>
        <p:spPr>
          <a:xfrm>
            <a:off x="0" y="6613560"/>
            <a:ext cx="9144000" cy="244440"/>
          </a:xfrm>
          <a:prstGeom prst="rect">
            <a:avLst/>
          </a:prstGeom>
          <a:solidFill>
            <a:srgbClr val="0014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Text Box 31"/>
          <p:cNvSpPr/>
          <p:nvPr/>
        </p:nvSpPr>
        <p:spPr>
          <a:xfrm>
            <a:off x="0" y="661356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ocal knowledge   </a:t>
            </a:r>
            <a:r>
              <a:rPr b="0" lang="en-US" sz="1000" spc="-1" strike="noStrike">
                <a:solidFill>
                  <a:srgbClr val="ffffff"/>
                </a:solidFill>
                <a:latin typeface="Wingdings"/>
                <a:ea typeface="Wingdings"/>
              </a:rPr>
              <a:t>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  International experience   </a:t>
            </a:r>
            <a:r>
              <a:rPr b="0" lang="en-US" sz="1000" spc="-1" strike="noStrike">
                <a:solidFill>
                  <a:srgbClr val="ffffff"/>
                </a:solidFill>
                <a:latin typeface="Wingdings"/>
                <a:ea typeface="Wingdings"/>
              </a:rPr>
              <a:t>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  Focused on 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Rectangle 38"/>
          <p:cNvSpPr/>
          <p:nvPr/>
        </p:nvSpPr>
        <p:spPr>
          <a:xfrm>
            <a:off x="0" y="0"/>
            <a:ext cx="9144000" cy="24444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5" name="Picture 41" descr=""/>
          <p:cNvPicPr/>
          <p:nvPr/>
        </p:nvPicPr>
        <p:blipFill>
          <a:blip r:embed="rId2"/>
          <a:srcRect l="17606" t="28212" r="13319" b="35989"/>
          <a:stretch/>
        </p:blipFill>
        <p:spPr>
          <a:xfrm>
            <a:off x="7389720" y="299880"/>
            <a:ext cx="1677960" cy="538200"/>
          </a:xfrm>
          <a:prstGeom prst="rect">
            <a:avLst/>
          </a:prstGeom>
          <a:ln w="0">
            <a:noFill/>
          </a:ln>
        </p:spPr>
      </p:pic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0010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143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00143f"/>
              </a:solidFill>
              <a:latin typeface="Arial Black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body"/>
          </p:nvPr>
        </p:nvSpPr>
        <p:spPr>
          <a:xfrm>
            <a:off x="228240" y="1100160"/>
            <a:ext cx="8001000" cy="537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Aft>
                <a:spcPts val="624"/>
              </a:spcAft>
              <a:buClr>
                <a:srgbClr val="f5821f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143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143f"/>
              </a:solidFill>
              <a:latin typeface="Arial"/>
            </a:endParaRPr>
          </a:p>
          <a:p>
            <a:pPr lvl="1" marL="571680" indent="-228600">
              <a:spcAft>
                <a:spcPts val="624"/>
              </a:spcAft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143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143f"/>
              </a:solidFill>
              <a:latin typeface="Arial"/>
            </a:endParaRPr>
          </a:p>
          <a:p>
            <a:pPr lvl="2" marL="863640" indent="-177840">
              <a:spcAft>
                <a:spcPts val="624"/>
              </a:spcAft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143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143f"/>
              </a:solidFill>
              <a:latin typeface="Arial"/>
            </a:endParaRPr>
          </a:p>
          <a:p>
            <a:pPr lvl="3" marL="1028880" indent="-51120">
              <a:spcAft>
                <a:spcPts val="624"/>
              </a:spcAft>
              <a:buClr>
                <a:srgbClr val="80808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143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143f"/>
              </a:solidFill>
              <a:latin typeface="Arial"/>
            </a:endParaRPr>
          </a:p>
          <a:p>
            <a:pPr lvl="4" marL="1206360" indent="165240">
              <a:spcAft>
                <a:spcPts val="624"/>
              </a:spcAft>
              <a:buClr>
                <a:srgbClr val="f5821f"/>
              </a:buClr>
              <a:buSzPct val="8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143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143f"/>
              </a:solidFill>
              <a:latin typeface="Arial"/>
            </a:endParaRPr>
          </a:p>
          <a:p>
            <a:pPr lvl="5" marL="1206360" indent="165240">
              <a:spcAft>
                <a:spcPts val="624"/>
              </a:spcAft>
              <a:buClr>
                <a:srgbClr val="000000"/>
              </a:buClr>
              <a:buSzPct val="8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143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143f"/>
              </a:solidFill>
              <a:latin typeface="Arial"/>
            </a:endParaRPr>
          </a:p>
          <a:p>
            <a:pPr lvl="6" marL="1206360" indent="165240">
              <a:spcAft>
                <a:spcPts val="624"/>
              </a:spcAft>
              <a:buClr>
                <a:srgbClr val="000000"/>
              </a:buClr>
              <a:buSzPct val="8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143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 type="sldNum" idx="15"/>
          </p:nvPr>
        </p:nvSpPr>
        <p:spPr>
          <a:xfrm>
            <a:off x="7009920" y="661320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D2551-7E20-46F1-9C1B-BBBA344E98F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Rectangle 33"/>
          <p:cNvSpPr/>
          <p:nvPr/>
        </p:nvSpPr>
        <p:spPr>
          <a:xfrm>
            <a:off x="0" y="6613560"/>
            <a:ext cx="9144000" cy="244440"/>
          </a:xfrm>
          <a:prstGeom prst="rect">
            <a:avLst/>
          </a:prstGeom>
          <a:solidFill>
            <a:srgbClr val="0014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Text Box 31"/>
          <p:cNvSpPr/>
          <p:nvPr/>
        </p:nvSpPr>
        <p:spPr>
          <a:xfrm>
            <a:off x="0" y="661356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ocal knowledge   </a:t>
            </a:r>
            <a:r>
              <a:rPr b="0" lang="en-US" sz="1000" spc="-1" strike="noStrike">
                <a:solidFill>
                  <a:srgbClr val="ffffff"/>
                </a:solidFill>
                <a:latin typeface="Wingdings"/>
                <a:ea typeface="Wingdings"/>
              </a:rPr>
              <a:t>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  International experience   </a:t>
            </a:r>
            <a:r>
              <a:rPr b="0" lang="en-US" sz="1000" spc="-1" strike="noStrike">
                <a:solidFill>
                  <a:srgbClr val="ffffff"/>
                </a:solidFill>
                <a:latin typeface="Wingdings"/>
                <a:ea typeface="Wingdings"/>
              </a:rPr>
              <a:t>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  Focused on 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0" y="0"/>
            <a:ext cx="9144000" cy="24444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8" name="Picture 41" descr=""/>
          <p:cNvPicPr/>
          <p:nvPr/>
        </p:nvPicPr>
        <p:blipFill>
          <a:blip r:embed="rId2"/>
          <a:srcRect l="17606" t="28212" r="13319" b="35989"/>
          <a:stretch/>
        </p:blipFill>
        <p:spPr>
          <a:xfrm>
            <a:off x="7389720" y="299880"/>
            <a:ext cx="1677960" cy="538200"/>
          </a:xfrm>
          <a:prstGeom prst="rect">
            <a:avLst/>
          </a:prstGeom>
          <a:ln w="0">
            <a:noFill/>
          </a:ln>
        </p:spPr>
      </p:pic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0010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143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00143f"/>
              </a:solidFill>
              <a:latin typeface="Arial Black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 type="body"/>
          </p:nvPr>
        </p:nvSpPr>
        <p:spPr>
          <a:xfrm>
            <a:off x="228240" y="1100160"/>
            <a:ext cx="8001000" cy="537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Aft>
                <a:spcPts val="624"/>
              </a:spcAft>
              <a:buClr>
                <a:srgbClr val="f5821f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143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143f"/>
              </a:solidFill>
              <a:latin typeface="Arial"/>
            </a:endParaRPr>
          </a:p>
          <a:p>
            <a:pPr lvl="1" marL="571680" indent="-228600">
              <a:spcAft>
                <a:spcPts val="624"/>
              </a:spcAft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143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143f"/>
              </a:solidFill>
              <a:latin typeface="Arial"/>
            </a:endParaRPr>
          </a:p>
          <a:p>
            <a:pPr lvl="2" marL="863640" indent="-177840">
              <a:spcAft>
                <a:spcPts val="624"/>
              </a:spcAft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143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143f"/>
              </a:solidFill>
              <a:latin typeface="Arial"/>
            </a:endParaRPr>
          </a:p>
          <a:p>
            <a:pPr lvl="3" marL="1028880" indent="-51120">
              <a:spcAft>
                <a:spcPts val="624"/>
              </a:spcAft>
              <a:buClr>
                <a:srgbClr val="80808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143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143f"/>
              </a:solidFill>
              <a:latin typeface="Arial"/>
            </a:endParaRPr>
          </a:p>
          <a:p>
            <a:pPr lvl="4" marL="1206360" indent="165240">
              <a:spcAft>
                <a:spcPts val="624"/>
              </a:spcAft>
              <a:buClr>
                <a:srgbClr val="f5821f"/>
              </a:buClr>
              <a:buSzPct val="8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143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143f"/>
              </a:solidFill>
              <a:latin typeface="Arial"/>
            </a:endParaRPr>
          </a:p>
          <a:p>
            <a:pPr lvl="5" marL="1206360" indent="165240">
              <a:spcAft>
                <a:spcPts val="624"/>
              </a:spcAft>
              <a:buClr>
                <a:srgbClr val="000000"/>
              </a:buClr>
              <a:buSzPct val="8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143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143f"/>
              </a:solidFill>
              <a:latin typeface="Arial"/>
            </a:endParaRPr>
          </a:p>
          <a:p>
            <a:pPr lvl="6" marL="1206360" indent="165240">
              <a:spcAft>
                <a:spcPts val="624"/>
              </a:spcAft>
              <a:buClr>
                <a:srgbClr val="000000"/>
              </a:buClr>
              <a:buSzPct val="8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143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 type="sldNum" idx="16"/>
          </p:nvPr>
        </p:nvSpPr>
        <p:spPr>
          <a:xfrm>
            <a:off x="7009920" y="661320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07846-FC29-47AA-9F0A-16AD7D65362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 type="dt" idx="1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 type="ftr" idx="1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PlaceHolder 5"/>
          <p:cNvSpPr>
            <a:spLocks noGrp="1"/>
          </p:cNvSpPr>
          <p:nvPr>
            <p:ph type="sldNum" idx="1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15EE3-B89B-4D3B-A492-37D45231676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 type="dt" idx="2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PlaceHolder 4"/>
          <p:cNvSpPr>
            <a:spLocks noGrp="1"/>
          </p:cNvSpPr>
          <p:nvPr>
            <p:ph type="ftr" idx="2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PlaceHolder 5"/>
          <p:cNvSpPr>
            <a:spLocks noGrp="1"/>
          </p:cNvSpPr>
          <p:nvPr>
            <p:ph type="sldNum" idx="2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A3A6B-E346-471E-AFD4-9442613A1ED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2" name="PlaceHolder 3"/>
          <p:cNvSpPr>
            <a:spLocks noGrp="1"/>
          </p:cNvSpPr>
          <p:nvPr>
            <p:ph type="dt" idx="2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PlaceHolder 4"/>
          <p:cNvSpPr>
            <a:spLocks noGrp="1"/>
          </p:cNvSpPr>
          <p:nvPr>
            <p:ph type="ftr" idx="2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PlaceHolder 5"/>
          <p:cNvSpPr>
            <a:spLocks noGrp="1"/>
          </p:cNvSpPr>
          <p:nvPr>
            <p:ph type="sldNum" idx="2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C9D43-8AE7-4357-8380-2A323A45493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3" name="PlaceHolder 3"/>
          <p:cNvSpPr>
            <a:spLocks noGrp="1"/>
          </p:cNvSpPr>
          <p:nvPr>
            <p:ph type="dt" idx="2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PlaceHolder 4"/>
          <p:cNvSpPr>
            <a:spLocks noGrp="1"/>
          </p:cNvSpPr>
          <p:nvPr>
            <p:ph type="ftr" idx="2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PlaceHolder 5"/>
          <p:cNvSpPr>
            <a:spLocks noGrp="1"/>
          </p:cNvSpPr>
          <p:nvPr>
            <p:ph type="sldNum" idx="2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4E4E0-50A9-4268-853B-B1B8A56AB4D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4" name="PlaceHolder 3"/>
          <p:cNvSpPr>
            <a:spLocks noGrp="1"/>
          </p:cNvSpPr>
          <p:nvPr>
            <p:ph type="dt" idx="2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PlaceHolder 4"/>
          <p:cNvSpPr>
            <a:spLocks noGrp="1"/>
          </p:cNvSpPr>
          <p:nvPr>
            <p:ph type="ftr" idx="3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PlaceHolder 5"/>
          <p:cNvSpPr>
            <a:spLocks noGrp="1"/>
          </p:cNvSpPr>
          <p:nvPr>
            <p:ph type="sldNum" idx="3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A2FBF-A021-44BD-9055-7BB7D86C108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 type="dt" idx="3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 type="ftr" idx="3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PlaceHolder 5"/>
          <p:cNvSpPr>
            <a:spLocks noGrp="1"/>
          </p:cNvSpPr>
          <p:nvPr>
            <p:ph type="sldNum" idx="3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C7F17-CDD0-4ABB-AB88-6E12931B902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6" name="PlaceHolder 3"/>
          <p:cNvSpPr>
            <a:spLocks noGrp="1"/>
          </p:cNvSpPr>
          <p:nvPr>
            <p:ph type="dt" idx="3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PlaceHolder 4"/>
          <p:cNvSpPr>
            <a:spLocks noGrp="1"/>
          </p:cNvSpPr>
          <p:nvPr>
            <p:ph type="ftr" idx="3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PlaceHolder 5"/>
          <p:cNvSpPr>
            <a:spLocks noGrp="1"/>
          </p:cNvSpPr>
          <p:nvPr>
            <p:ph type="sldNum" idx="3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48684-C734-4750-9F4D-031DF670E32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10"/>
          <p:cNvSpPr/>
          <p:nvPr/>
        </p:nvSpPr>
        <p:spPr>
          <a:xfrm>
            <a:off x="0" y="244440"/>
            <a:ext cx="9144000" cy="1889280"/>
          </a:xfrm>
          <a:prstGeom prst="rect">
            <a:avLst/>
          </a:prstGeom>
          <a:solidFill>
            <a:srgbClr val="00143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2"/>
          <p:cNvSpPr/>
          <p:nvPr/>
        </p:nvSpPr>
        <p:spPr>
          <a:xfrm>
            <a:off x="0" y="244440"/>
            <a:ext cx="9144000" cy="1889280"/>
          </a:xfrm>
          <a:prstGeom prst="rect">
            <a:avLst/>
          </a:prstGeom>
          <a:solidFill>
            <a:srgbClr val="00143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4"/>
          <p:cNvSpPr/>
          <p:nvPr/>
        </p:nvSpPr>
        <p:spPr>
          <a:xfrm>
            <a:off x="0" y="0"/>
            <a:ext cx="9144000" cy="24444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0" y="6613560"/>
            <a:ext cx="9144000" cy="244440"/>
          </a:xfrm>
          <a:prstGeom prst="rect">
            <a:avLst/>
          </a:prstGeom>
          <a:solidFill>
            <a:srgbClr val="0014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8"/>
          <p:cNvSpPr/>
          <p:nvPr/>
        </p:nvSpPr>
        <p:spPr>
          <a:xfrm>
            <a:off x="1828800" y="6613560"/>
            <a:ext cx="5486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ocal knowledge   </a:t>
            </a:r>
            <a:r>
              <a:rPr b="0" lang="en-US" sz="1000" spc="-1" strike="noStrike">
                <a:solidFill>
                  <a:srgbClr val="ffffff"/>
                </a:solidFill>
                <a:latin typeface="Wingdings"/>
                <a:ea typeface="Wingdings"/>
              </a:rPr>
              <a:t>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  International experience   </a:t>
            </a:r>
            <a:r>
              <a:rPr b="0" lang="en-US" sz="1000" spc="-1" strike="noStrike">
                <a:solidFill>
                  <a:srgbClr val="ffffff"/>
                </a:solidFill>
                <a:latin typeface="Wingdings"/>
                <a:ea typeface="Wingdings"/>
              </a:rPr>
              <a:t>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  Focused on 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2"/>
          <p:cNvSpPr/>
          <p:nvPr/>
        </p:nvSpPr>
        <p:spPr>
          <a:xfrm>
            <a:off x="0" y="0"/>
            <a:ext cx="9144000" cy="24444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3"/>
          <p:cNvSpPr/>
          <p:nvPr/>
        </p:nvSpPr>
        <p:spPr>
          <a:xfrm>
            <a:off x="0" y="6613560"/>
            <a:ext cx="9144000" cy="244440"/>
          </a:xfrm>
          <a:prstGeom prst="rect">
            <a:avLst/>
          </a:prstGeom>
          <a:solidFill>
            <a:srgbClr val="0014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4"/>
          <p:cNvSpPr/>
          <p:nvPr/>
        </p:nvSpPr>
        <p:spPr>
          <a:xfrm>
            <a:off x="1828800" y="6613560"/>
            <a:ext cx="5486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ocal knowledge   </a:t>
            </a:r>
            <a:r>
              <a:rPr b="0" lang="en-US" sz="1000" spc="-1" strike="noStrike">
                <a:solidFill>
                  <a:srgbClr val="ffffff"/>
                </a:solidFill>
                <a:latin typeface="Wingdings"/>
                <a:ea typeface="Wingdings"/>
              </a:rPr>
              <a:t>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  International experience   </a:t>
            </a:r>
            <a:r>
              <a:rPr b="0" lang="en-US" sz="1000" spc="-1" strike="noStrike">
                <a:solidFill>
                  <a:srgbClr val="ffffff"/>
                </a:solidFill>
                <a:latin typeface="Wingdings"/>
                <a:ea typeface="Wingdings"/>
              </a:rPr>
              <a:t>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  Focused on 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0010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143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00143f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228240" y="1100160"/>
            <a:ext cx="8001000" cy="537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Aft>
                <a:spcPts val="1001"/>
              </a:spcAft>
              <a:buClr>
                <a:srgbClr val="f5821f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143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  <a:p>
            <a:pPr lvl="1" marL="571680" indent="-228600">
              <a:spcAft>
                <a:spcPts val="1001"/>
              </a:spcAft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143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  <a:p>
            <a:pPr lvl="2" marL="863640" indent="-177840">
              <a:spcAft>
                <a:spcPts val="1001"/>
              </a:spcAft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143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  <a:p>
            <a:pPr lvl="3" marL="1028880" indent="-51120">
              <a:spcAft>
                <a:spcPts val="1001"/>
              </a:spcAft>
              <a:buClr>
                <a:srgbClr val="80808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143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  <a:p>
            <a:pPr lvl="4" marL="1206360" indent="165240">
              <a:spcAft>
                <a:spcPts val="1001"/>
              </a:spcAft>
              <a:buClr>
                <a:srgbClr val="f5821f"/>
              </a:buClr>
              <a:buSzPct val="8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143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  <a:p>
            <a:pPr lvl="5" marL="1206360" indent="165240">
              <a:spcAft>
                <a:spcPts val="1001"/>
              </a:spcAft>
              <a:buClr>
                <a:srgbClr val="000000"/>
              </a:buClr>
              <a:buSzPct val="8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143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  <a:p>
            <a:pPr lvl="6" marL="1206360" indent="165240">
              <a:spcAft>
                <a:spcPts val="1001"/>
              </a:spcAft>
              <a:buClr>
                <a:srgbClr val="000000"/>
              </a:buClr>
              <a:buSzPct val="8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143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pic>
        <p:nvPicPr>
          <p:cNvPr id="97" name="Picture 14" descr="Leighton-John Holland logo portrait"/>
          <p:cNvPicPr/>
          <p:nvPr/>
        </p:nvPicPr>
        <p:blipFill>
          <a:blip r:embed="rId2"/>
          <a:stretch/>
        </p:blipFill>
        <p:spPr>
          <a:xfrm>
            <a:off x="7147080" y="560520"/>
            <a:ext cx="1996920" cy="107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7" name="PlaceHolder 3"/>
          <p:cNvSpPr>
            <a:spLocks noGrp="1"/>
          </p:cNvSpPr>
          <p:nvPr>
            <p:ph type="dt" idx="3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PlaceHolder 4"/>
          <p:cNvSpPr>
            <a:spLocks noGrp="1"/>
          </p:cNvSpPr>
          <p:nvPr>
            <p:ph type="ftr" idx="3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PlaceHolder 5"/>
          <p:cNvSpPr>
            <a:spLocks noGrp="1"/>
          </p:cNvSpPr>
          <p:nvPr>
            <p:ph type="sldNum" idx="4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420B7-F475-47D3-8E66-38FB7785C7A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8" name="PlaceHolder 3"/>
          <p:cNvSpPr>
            <a:spLocks noGrp="1"/>
          </p:cNvSpPr>
          <p:nvPr>
            <p:ph type="dt" idx="4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PlaceHolder 4"/>
          <p:cNvSpPr>
            <a:spLocks noGrp="1"/>
          </p:cNvSpPr>
          <p:nvPr>
            <p:ph type="ftr" idx="4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PlaceHolder 5"/>
          <p:cNvSpPr>
            <a:spLocks noGrp="1"/>
          </p:cNvSpPr>
          <p:nvPr>
            <p:ph type="sldNum" idx="4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F45CF-A1D8-4A26-8E2B-92A55716613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Rectangle 33"/>
          <p:cNvSpPr/>
          <p:nvPr/>
        </p:nvSpPr>
        <p:spPr>
          <a:xfrm>
            <a:off x="0" y="6613560"/>
            <a:ext cx="9144000" cy="244440"/>
          </a:xfrm>
          <a:prstGeom prst="rect">
            <a:avLst/>
          </a:prstGeom>
          <a:solidFill>
            <a:srgbClr val="0014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Text Box 31"/>
          <p:cNvSpPr/>
          <p:nvPr/>
        </p:nvSpPr>
        <p:spPr>
          <a:xfrm>
            <a:off x="0" y="661356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ocal knowledge   </a:t>
            </a:r>
            <a:r>
              <a:rPr b="0" lang="en-US" sz="1000" spc="-1" strike="noStrike">
                <a:solidFill>
                  <a:srgbClr val="ffffff"/>
                </a:solidFill>
                <a:latin typeface="Wingdings"/>
                <a:ea typeface="Wingdings"/>
              </a:rPr>
              <a:t>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  International experience   </a:t>
            </a:r>
            <a:r>
              <a:rPr b="0" lang="en-US" sz="1000" spc="-1" strike="noStrike">
                <a:solidFill>
                  <a:srgbClr val="ffffff"/>
                </a:solidFill>
                <a:latin typeface="Wingdings"/>
                <a:ea typeface="Wingdings"/>
              </a:rPr>
              <a:t>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  Focused on 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Rectangle 38"/>
          <p:cNvSpPr/>
          <p:nvPr/>
        </p:nvSpPr>
        <p:spPr>
          <a:xfrm>
            <a:off x="0" y="0"/>
            <a:ext cx="9144000" cy="24444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Rectangle 3"/>
          <p:cNvSpPr/>
          <p:nvPr/>
        </p:nvSpPr>
        <p:spPr>
          <a:xfrm>
            <a:off x="0" y="6672240"/>
            <a:ext cx="9151920" cy="1857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Rectangle 4"/>
          <p:cNvSpPr/>
          <p:nvPr/>
        </p:nvSpPr>
        <p:spPr>
          <a:xfrm>
            <a:off x="0" y="6627960"/>
            <a:ext cx="9144000" cy="457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Rectangle 5"/>
          <p:cNvSpPr/>
          <p:nvPr/>
        </p:nvSpPr>
        <p:spPr>
          <a:xfrm>
            <a:off x="260280" y="0"/>
            <a:ext cx="8344080" cy="838080"/>
          </a:xfrm>
          <a:prstGeom prst="rect">
            <a:avLst/>
          </a:prstGeom>
          <a:solidFill>
            <a:srgbClr val="f682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Rectangle 6"/>
          <p:cNvSpPr/>
          <p:nvPr/>
        </p:nvSpPr>
        <p:spPr>
          <a:xfrm>
            <a:off x="0" y="0"/>
            <a:ext cx="184320" cy="8380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4" name="Picture 11" descr="LA_PRGB"/>
          <p:cNvPicPr/>
          <p:nvPr/>
        </p:nvPicPr>
        <p:blipFill>
          <a:blip r:embed="rId2"/>
          <a:stretch/>
        </p:blipFill>
        <p:spPr>
          <a:xfrm>
            <a:off x="8680320" y="122400"/>
            <a:ext cx="390600" cy="601560"/>
          </a:xfrm>
          <a:prstGeom prst="rect">
            <a:avLst/>
          </a:prstGeom>
          <a:ln w="3240">
            <a:solidFill>
              <a:srgbClr val="ffffff"/>
            </a:solidFill>
            <a:miter/>
          </a:ln>
        </p:spPr>
      </p:pic>
      <p:sp>
        <p:nvSpPr>
          <p:cNvPr id="1325" name="Rectangle 6"/>
          <p:cNvSpPr/>
          <p:nvPr/>
        </p:nvSpPr>
        <p:spPr>
          <a:xfrm>
            <a:off x="8754840" y="6645240"/>
            <a:ext cx="529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32DC6-1B4D-42AC-A058-A23FD53661F7}" type="slidenum">
              <a:rPr b="0" lang="en-AU" sz="600" spc="-1" strike="noStrike">
                <a:solidFill>
                  <a:srgbClr val="ffffff"/>
                </a:solidFill>
                <a:latin typeface="Arial"/>
                <a:ea typeface="Microsoft JhengHei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0010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143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228240" y="1100160"/>
            <a:ext cx="8001000" cy="537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Aft>
                <a:spcPts val="561"/>
              </a:spcAft>
              <a:buClr>
                <a:srgbClr val="f5821f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43f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143f"/>
              </a:solidFill>
              <a:latin typeface="Arial"/>
            </a:endParaRPr>
          </a:p>
          <a:p>
            <a:pPr lvl="1" marL="571680" indent="-228600">
              <a:spcAft>
                <a:spcPts val="561"/>
              </a:spcAft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43f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143f"/>
              </a:solidFill>
              <a:latin typeface="Arial"/>
            </a:endParaRPr>
          </a:p>
          <a:p>
            <a:pPr lvl="2" marL="863640" indent="-177840">
              <a:spcAft>
                <a:spcPts val="561"/>
              </a:spcAft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43f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143f"/>
              </a:solidFill>
              <a:latin typeface="Arial"/>
            </a:endParaRPr>
          </a:p>
          <a:p>
            <a:pPr lvl="3" marL="1028880" indent="-51120">
              <a:spcAft>
                <a:spcPts val="561"/>
              </a:spcAft>
              <a:buClr>
                <a:srgbClr val="80808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43f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143f"/>
              </a:solidFill>
              <a:latin typeface="Arial"/>
            </a:endParaRPr>
          </a:p>
          <a:p>
            <a:pPr lvl="4" marL="1206360" indent="165240">
              <a:spcAft>
                <a:spcPts val="561"/>
              </a:spcAft>
              <a:buClr>
                <a:srgbClr val="f5821f"/>
              </a:buClr>
              <a:buSzPct val="8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43f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143f"/>
              </a:solidFill>
              <a:latin typeface="Arial"/>
            </a:endParaRPr>
          </a:p>
          <a:p>
            <a:pPr lvl="5" marL="1206360" indent="165240">
              <a:spcAft>
                <a:spcPts val="561"/>
              </a:spcAft>
              <a:buClr>
                <a:srgbClr val="000000"/>
              </a:buClr>
              <a:buSzPct val="8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43f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143f"/>
              </a:solidFill>
              <a:latin typeface="Arial"/>
            </a:endParaRPr>
          </a:p>
          <a:p>
            <a:pPr lvl="6" marL="1206360" indent="165240">
              <a:spcAft>
                <a:spcPts val="561"/>
              </a:spcAft>
              <a:buClr>
                <a:srgbClr val="000000"/>
              </a:buClr>
              <a:buSzPct val="8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43f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143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3"/>
    <p:sldLayoutId id="2147484053" r:id="rId4"/>
    <p:sldLayoutId id="2147484054" r:id="rId5"/>
    <p:sldLayoutId id="2147484055" r:id="rId6"/>
    <p:sldLayoutId id="2147484056" r:id="rId7"/>
    <p:sldLayoutId id="2147484057" r:id="rId8"/>
    <p:sldLayoutId id="2147484058" r:id="rId9"/>
    <p:sldLayoutId id="2147484059" r:id="rId10"/>
    <p:sldLayoutId id="2147484060" r:id="rId11"/>
    <p:sldLayoutId id="2147484061" r:id="rId12"/>
    <p:sldLayoutId id="2147484062" r:id="rId13"/>
    <p:sldLayoutId id="2147484063" r:id="rId14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Rectangle 33"/>
          <p:cNvSpPr/>
          <p:nvPr/>
        </p:nvSpPr>
        <p:spPr>
          <a:xfrm>
            <a:off x="0" y="6613560"/>
            <a:ext cx="9144000" cy="244440"/>
          </a:xfrm>
          <a:prstGeom prst="rect">
            <a:avLst/>
          </a:prstGeom>
          <a:solidFill>
            <a:srgbClr val="0014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Text Box 31"/>
          <p:cNvSpPr/>
          <p:nvPr/>
        </p:nvSpPr>
        <p:spPr>
          <a:xfrm>
            <a:off x="0" y="661356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ocal knowledge   </a:t>
            </a:r>
            <a:r>
              <a:rPr b="0" lang="en-US" sz="1000" spc="-1" strike="noStrike">
                <a:solidFill>
                  <a:srgbClr val="ffffff"/>
                </a:solidFill>
                <a:latin typeface="Wingdings"/>
                <a:ea typeface="Wingdings"/>
              </a:rPr>
              <a:t>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  International experience   </a:t>
            </a:r>
            <a:r>
              <a:rPr b="0" lang="en-US" sz="1000" spc="-1" strike="noStrike">
                <a:solidFill>
                  <a:srgbClr val="ffffff"/>
                </a:solidFill>
                <a:latin typeface="Wingdings"/>
                <a:ea typeface="Wingdings"/>
              </a:rPr>
              <a:t>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  Focused on 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Rectangle 38"/>
          <p:cNvSpPr/>
          <p:nvPr/>
        </p:nvSpPr>
        <p:spPr>
          <a:xfrm>
            <a:off x="0" y="0"/>
            <a:ext cx="9144000" cy="24444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Rectangle 1"/>
          <p:cNvSpPr/>
          <p:nvPr/>
        </p:nvSpPr>
        <p:spPr>
          <a:xfrm>
            <a:off x="260280" y="0"/>
            <a:ext cx="8344080" cy="838080"/>
          </a:xfrm>
          <a:prstGeom prst="rect">
            <a:avLst/>
          </a:prstGeom>
          <a:solidFill>
            <a:srgbClr val="f682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Rectangle 2"/>
          <p:cNvSpPr/>
          <p:nvPr/>
        </p:nvSpPr>
        <p:spPr>
          <a:xfrm>
            <a:off x="0" y="0"/>
            <a:ext cx="184320" cy="8380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9" name="Picture 5" descr="LA_PRGB"/>
          <p:cNvPicPr/>
          <p:nvPr/>
        </p:nvPicPr>
        <p:blipFill>
          <a:blip r:embed="rId2"/>
          <a:stretch/>
        </p:blipFill>
        <p:spPr>
          <a:xfrm>
            <a:off x="8680320" y="122400"/>
            <a:ext cx="390600" cy="601560"/>
          </a:xfrm>
          <a:prstGeom prst="rect">
            <a:avLst/>
          </a:prstGeom>
          <a:ln w="3240">
            <a:solidFill>
              <a:srgbClr val="ffffff"/>
            </a:solidFill>
            <a:miter/>
          </a:ln>
        </p:spPr>
      </p:pic>
      <p:sp>
        <p:nvSpPr>
          <p:cNvPr id="1370" name="Straight Connector 4"/>
          <p:cNvSpPr/>
          <p:nvPr/>
        </p:nvSpPr>
        <p:spPr>
          <a:xfrm flipV="1">
            <a:off x="1795320" y="6619680"/>
            <a:ext cx="0" cy="24732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Rectangle 5"/>
          <p:cNvSpPr/>
          <p:nvPr/>
        </p:nvSpPr>
        <p:spPr>
          <a:xfrm>
            <a:off x="0" y="6672240"/>
            <a:ext cx="9151920" cy="1857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Rectangle 6"/>
          <p:cNvSpPr/>
          <p:nvPr/>
        </p:nvSpPr>
        <p:spPr>
          <a:xfrm>
            <a:off x="0" y="6627960"/>
            <a:ext cx="9144000" cy="457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Rectangle 6"/>
          <p:cNvSpPr/>
          <p:nvPr/>
        </p:nvSpPr>
        <p:spPr>
          <a:xfrm>
            <a:off x="8754840" y="6645240"/>
            <a:ext cx="529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2B451-C236-49AC-A4FB-2D00EDF84FD8}" type="slidenum">
              <a:rPr b="0" lang="en-AU" sz="600" spc="-1" strike="noStrike">
                <a:solidFill>
                  <a:srgbClr val="ffffff"/>
                </a:solidFill>
                <a:latin typeface="Arial"/>
                <a:ea typeface="Microsoft JhengHei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0010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143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1375" name="PlaceHolder 2"/>
          <p:cNvSpPr>
            <a:spLocks noGrp="1"/>
          </p:cNvSpPr>
          <p:nvPr>
            <p:ph type="body"/>
          </p:nvPr>
        </p:nvSpPr>
        <p:spPr>
          <a:xfrm>
            <a:off x="228240" y="1100160"/>
            <a:ext cx="8001000" cy="537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Aft>
                <a:spcPts val="561"/>
              </a:spcAft>
              <a:buClr>
                <a:srgbClr val="f5821f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43f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143f"/>
              </a:solidFill>
              <a:latin typeface="Arial"/>
            </a:endParaRPr>
          </a:p>
          <a:p>
            <a:pPr lvl="1" marL="571680" indent="-228600">
              <a:spcAft>
                <a:spcPts val="561"/>
              </a:spcAft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43f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143f"/>
              </a:solidFill>
              <a:latin typeface="Arial"/>
            </a:endParaRPr>
          </a:p>
          <a:p>
            <a:pPr lvl="2" marL="863640" indent="-177840">
              <a:spcAft>
                <a:spcPts val="561"/>
              </a:spcAft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43f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143f"/>
              </a:solidFill>
              <a:latin typeface="Arial"/>
            </a:endParaRPr>
          </a:p>
          <a:p>
            <a:pPr lvl="3" marL="1028880" indent="-51120">
              <a:spcAft>
                <a:spcPts val="561"/>
              </a:spcAft>
              <a:buClr>
                <a:srgbClr val="80808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43f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143f"/>
              </a:solidFill>
              <a:latin typeface="Arial"/>
            </a:endParaRPr>
          </a:p>
          <a:p>
            <a:pPr lvl="4" marL="1206360" indent="165240">
              <a:spcAft>
                <a:spcPts val="561"/>
              </a:spcAft>
              <a:buClr>
                <a:srgbClr val="f5821f"/>
              </a:buClr>
              <a:buSzPct val="8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43f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143f"/>
              </a:solidFill>
              <a:latin typeface="Arial"/>
            </a:endParaRPr>
          </a:p>
          <a:p>
            <a:pPr lvl="5" marL="1206360" indent="165240">
              <a:spcAft>
                <a:spcPts val="561"/>
              </a:spcAft>
              <a:buClr>
                <a:srgbClr val="000000"/>
              </a:buClr>
              <a:buSzPct val="8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43f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143f"/>
              </a:solidFill>
              <a:latin typeface="Arial"/>
            </a:endParaRPr>
          </a:p>
          <a:p>
            <a:pPr lvl="6" marL="1206360" indent="165240">
              <a:spcAft>
                <a:spcPts val="561"/>
              </a:spcAft>
              <a:buClr>
                <a:srgbClr val="000000"/>
              </a:buClr>
              <a:buSzPct val="8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43f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143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3"/>
    <p:sldLayoutId id="2147484066" r:id="rId4"/>
    <p:sldLayoutId id="2147484067" r:id="rId5"/>
    <p:sldLayoutId id="2147484068" r:id="rId6"/>
    <p:sldLayoutId id="2147484069" r:id="rId7"/>
    <p:sldLayoutId id="2147484070" r:id="rId8"/>
    <p:sldLayoutId id="2147484071" r:id="rId9"/>
    <p:sldLayoutId id="2147484072" r:id="rId10"/>
    <p:sldLayoutId id="2147484073" r:id="rId11"/>
    <p:sldLayoutId id="2147484074" r:id="rId12"/>
    <p:sldLayoutId id="2147484075" r:id="rId13"/>
    <p:sldLayoutId id="214748407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2"/>
          <p:cNvSpPr/>
          <p:nvPr/>
        </p:nvSpPr>
        <p:spPr>
          <a:xfrm>
            <a:off x="0" y="6613560"/>
            <a:ext cx="9144000" cy="244440"/>
          </a:xfrm>
          <a:prstGeom prst="rect">
            <a:avLst/>
          </a:prstGeom>
          <a:solidFill>
            <a:srgbClr val="0014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0010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143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00143f"/>
              </a:solidFill>
              <a:latin typeface="Arial Black"/>
            </a:endParaRPr>
          </a:p>
        </p:txBody>
      </p:sp>
      <p:sp>
        <p:nvSpPr>
          <p:cNvPr id="136" name="Text Box 4"/>
          <p:cNvSpPr/>
          <p:nvPr/>
        </p:nvSpPr>
        <p:spPr>
          <a:xfrm>
            <a:off x="0" y="661356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ocal knowledge   </a:t>
            </a:r>
            <a:r>
              <a:rPr b="0" lang="en-US" sz="1000" spc="-1" strike="noStrike">
                <a:solidFill>
                  <a:srgbClr val="ffffff"/>
                </a:solidFill>
                <a:latin typeface="Wingdings"/>
                <a:ea typeface="Wingdings"/>
              </a:rPr>
              <a:t>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  International experience   </a:t>
            </a:r>
            <a:r>
              <a:rPr b="0" lang="en-US" sz="1000" spc="-1" strike="noStrike">
                <a:solidFill>
                  <a:srgbClr val="ffffff"/>
                </a:solidFill>
                <a:latin typeface="Wingdings"/>
                <a:ea typeface="Wingdings"/>
              </a:rPr>
              <a:t>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  Focused on 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5"/>
          <p:cNvSpPr/>
          <p:nvPr/>
        </p:nvSpPr>
        <p:spPr>
          <a:xfrm>
            <a:off x="0" y="0"/>
            <a:ext cx="9144000" cy="24444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228240" y="1100160"/>
            <a:ext cx="8001000" cy="537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Aft>
                <a:spcPts val="561"/>
              </a:spcAft>
              <a:buClr>
                <a:srgbClr val="f5821f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43f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143f"/>
              </a:solidFill>
              <a:latin typeface="Arial"/>
            </a:endParaRPr>
          </a:p>
          <a:p>
            <a:pPr lvl="1" marL="571680" indent="-228600">
              <a:spcAft>
                <a:spcPts val="561"/>
              </a:spcAft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43f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143f"/>
              </a:solidFill>
              <a:latin typeface="Arial"/>
            </a:endParaRPr>
          </a:p>
          <a:p>
            <a:pPr lvl="2" marL="863640" indent="-177840">
              <a:spcAft>
                <a:spcPts val="561"/>
              </a:spcAft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43f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143f"/>
              </a:solidFill>
              <a:latin typeface="Arial"/>
            </a:endParaRPr>
          </a:p>
          <a:p>
            <a:pPr lvl="3" marL="1028880" indent="-51120">
              <a:spcAft>
                <a:spcPts val="561"/>
              </a:spcAft>
              <a:buClr>
                <a:srgbClr val="80808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43f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143f"/>
              </a:solidFill>
              <a:latin typeface="Arial"/>
            </a:endParaRPr>
          </a:p>
          <a:p>
            <a:pPr lvl="4" marL="1206360" indent="165240">
              <a:spcAft>
                <a:spcPts val="561"/>
              </a:spcAft>
              <a:buClr>
                <a:srgbClr val="f5821f"/>
              </a:buClr>
              <a:buSzPct val="8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43f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143f"/>
              </a:solidFill>
              <a:latin typeface="Arial"/>
            </a:endParaRPr>
          </a:p>
          <a:p>
            <a:pPr lvl="5" marL="1206360" indent="165240">
              <a:spcAft>
                <a:spcPts val="561"/>
              </a:spcAft>
              <a:buClr>
                <a:srgbClr val="000000"/>
              </a:buClr>
              <a:buSzPct val="8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43f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143f"/>
              </a:solidFill>
              <a:latin typeface="Arial"/>
            </a:endParaRPr>
          </a:p>
          <a:p>
            <a:pPr lvl="6" marL="1206360" indent="165240">
              <a:spcAft>
                <a:spcPts val="561"/>
              </a:spcAft>
              <a:buClr>
                <a:srgbClr val="000000"/>
              </a:buClr>
              <a:buSzPct val="8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43f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143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33"/>
          <p:cNvSpPr/>
          <p:nvPr/>
        </p:nvSpPr>
        <p:spPr>
          <a:xfrm>
            <a:off x="0" y="6613560"/>
            <a:ext cx="9144000" cy="244440"/>
          </a:xfrm>
          <a:prstGeom prst="rect">
            <a:avLst/>
          </a:prstGeom>
          <a:solidFill>
            <a:srgbClr val="0014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0010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143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00143f"/>
              </a:solidFill>
              <a:latin typeface="Arial Black"/>
            </a:endParaRPr>
          </a:p>
        </p:txBody>
      </p:sp>
      <p:sp>
        <p:nvSpPr>
          <p:cNvPr id="177" name="Text Box 31"/>
          <p:cNvSpPr/>
          <p:nvPr/>
        </p:nvSpPr>
        <p:spPr>
          <a:xfrm>
            <a:off x="0" y="661356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ocal knowledge   </a:t>
            </a:r>
            <a:r>
              <a:rPr b="0" lang="en-US" sz="1000" spc="-1" strike="noStrike">
                <a:solidFill>
                  <a:srgbClr val="ffffff"/>
                </a:solidFill>
                <a:latin typeface="Wingdings"/>
                <a:ea typeface="Wingdings"/>
              </a:rPr>
              <a:t>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  International experience   </a:t>
            </a:r>
            <a:r>
              <a:rPr b="0" lang="en-US" sz="1000" spc="-1" strike="noStrike">
                <a:solidFill>
                  <a:srgbClr val="ffffff"/>
                </a:solidFill>
                <a:latin typeface="Wingdings"/>
                <a:ea typeface="Wingdings"/>
              </a:rPr>
              <a:t>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  Focused on 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38"/>
          <p:cNvSpPr/>
          <p:nvPr/>
        </p:nvSpPr>
        <p:spPr>
          <a:xfrm>
            <a:off x="0" y="0"/>
            <a:ext cx="9144000" cy="24444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228240" y="1100160"/>
            <a:ext cx="8001000" cy="537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Aft>
                <a:spcPts val="561"/>
              </a:spcAft>
              <a:buClr>
                <a:srgbClr val="f5821f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43f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143f"/>
              </a:solidFill>
              <a:latin typeface="Arial"/>
            </a:endParaRPr>
          </a:p>
          <a:p>
            <a:pPr lvl="1" marL="571680" indent="-228600">
              <a:spcAft>
                <a:spcPts val="561"/>
              </a:spcAft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43f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143f"/>
              </a:solidFill>
              <a:latin typeface="Arial"/>
            </a:endParaRPr>
          </a:p>
          <a:p>
            <a:pPr lvl="2" marL="863640" indent="-177840">
              <a:spcAft>
                <a:spcPts val="561"/>
              </a:spcAft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43f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143f"/>
              </a:solidFill>
              <a:latin typeface="Arial"/>
            </a:endParaRPr>
          </a:p>
          <a:p>
            <a:pPr lvl="3" marL="1028880" indent="-51120">
              <a:spcAft>
                <a:spcPts val="561"/>
              </a:spcAft>
              <a:buClr>
                <a:srgbClr val="80808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43f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143f"/>
              </a:solidFill>
              <a:latin typeface="Arial"/>
            </a:endParaRPr>
          </a:p>
          <a:p>
            <a:pPr lvl="4" marL="1206360" indent="165240">
              <a:spcAft>
                <a:spcPts val="561"/>
              </a:spcAft>
              <a:buClr>
                <a:srgbClr val="f5821f"/>
              </a:buClr>
              <a:buSzPct val="8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43f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143f"/>
              </a:solidFill>
              <a:latin typeface="Arial"/>
            </a:endParaRPr>
          </a:p>
          <a:p>
            <a:pPr lvl="5" marL="1206360" indent="165240">
              <a:spcAft>
                <a:spcPts val="561"/>
              </a:spcAft>
              <a:buClr>
                <a:srgbClr val="000000"/>
              </a:buClr>
              <a:buSzPct val="8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43f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143f"/>
              </a:solidFill>
              <a:latin typeface="Arial"/>
            </a:endParaRPr>
          </a:p>
          <a:p>
            <a:pPr lvl="6" marL="1206360" indent="165240">
              <a:spcAft>
                <a:spcPts val="561"/>
              </a:spcAft>
              <a:buClr>
                <a:srgbClr val="000000"/>
              </a:buClr>
              <a:buSzPct val="8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43f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143f"/>
              </a:solidFill>
              <a:latin typeface="Arial"/>
            </a:endParaRPr>
          </a:p>
        </p:txBody>
      </p:sp>
      <p:pic>
        <p:nvPicPr>
          <p:cNvPr id="180" name="Picture 41" descr=""/>
          <p:cNvPicPr/>
          <p:nvPr/>
        </p:nvPicPr>
        <p:blipFill>
          <a:blip r:embed="rId2"/>
          <a:stretch/>
        </p:blipFill>
        <p:spPr>
          <a:xfrm>
            <a:off x="7086600" y="299880"/>
            <a:ext cx="1677960" cy="538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33"/>
          <p:cNvSpPr/>
          <p:nvPr/>
        </p:nvSpPr>
        <p:spPr>
          <a:xfrm>
            <a:off x="0" y="6613560"/>
            <a:ext cx="9144000" cy="244440"/>
          </a:xfrm>
          <a:prstGeom prst="rect">
            <a:avLst/>
          </a:prstGeom>
          <a:solidFill>
            <a:srgbClr val="0014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0010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143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00143f"/>
              </a:solidFill>
              <a:latin typeface="Arial Black"/>
            </a:endParaRPr>
          </a:p>
        </p:txBody>
      </p:sp>
      <p:sp>
        <p:nvSpPr>
          <p:cNvPr id="219" name="Text Box 31"/>
          <p:cNvSpPr/>
          <p:nvPr/>
        </p:nvSpPr>
        <p:spPr>
          <a:xfrm>
            <a:off x="0" y="661356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ocal knowledge   </a:t>
            </a:r>
            <a:r>
              <a:rPr b="0" lang="en-US" sz="1000" spc="-1" strike="noStrike">
                <a:solidFill>
                  <a:srgbClr val="ffffff"/>
                </a:solidFill>
                <a:latin typeface="Wingdings"/>
                <a:ea typeface="Wingdings"/>
              </a:rPr>
              <a:t>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  International experience   </a:t>
            </a:r>
            <a:r>
              <a:rPr b="0" lang="en-US" sz="1000" spc="-1" strike="noStrike">
                <a:solidFill>
                  <a:srgbClr val="ffffff"/>
                </a:solidFill>
                <a:latin typeface="Wingdings"/>
                <a:ea typeface="Wingdings"/>
              </a:rPr>
              <a:t>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  Focused on 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38"/>
          <p:cNvSpPr/>
          <p:nvPr/>
        </p:nvSpPr>
        <p:spPr>
          <a:xfrm>
            <a:off x="0" y="0"/>
            <a:ext cx="9144000" cy="24444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228240" y="1100160"/>
            <a:ext cx="8001000" cy="537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Aft>
                <a:spcPts val="1001"/>
              </a:spcAft>
              <a:buClr>
                <a:srgbClr val="f5821f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143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  <a:p>
            <a:pPr lvl="1" marL="571680" indent="-228600">
              <a:spcAft>
                <a:spcPts val="1001"/>
              </a:spcAft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143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  <a:p>
            <a:pPr lvl="2" marL="863640" indent="-177840">
              <a:spcAft>
                <a:spcPts val="1001"/>
              </a:spcAft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143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  <a:p>
            <a:pPr lvl="3" marL="1028880" indent="-51120">
              <a:spcAft>
                <a:spcPts val="1001"/>
              </a:spcAft>
              <a:buClr>
                <a:srgbClr val="80808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143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  <a:p>
            <a:pPr lvl="4" marL="1206360" indent="165240">
              <a:spcAft>
                <a:spcPts val="1001"/>
              </a:spcAft>
              <a:buClr>
                <a:srgbClr val="f5821f"/>
              </a:buClr>
              <a:buSzPct val="8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143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  <a:p>
            <a:pPr lvl="5" marL="1206360" indent="165240">
              <a:spcAft>
                <a:spcPts val="1001"/>
              </a:spcAft>
              <a:buClr>
                <a:srgbClr val="000000"/>
              </a:buClr>
              <a:buSzPct val="8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143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  <a:p>
            <a:pPr lvl="6" marL="1206360" indent="165240">
              <a:spcAft>
                <a:spcPts val="1001"/>
              </a:spcAft>
              <a:buClr>
                <a:srgbClr val="000000"/>
              </a:buClr>
              <a:buSzPct val="8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143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143f"/>
              </a:solidFill>
              <a:latin typeface="Arial"/>
            </a:endParaRPr>
          </a:p>
        </p:txBody>
      </p:sp>
      <p:pic>
        <p:nvPicPr>
          <p:cNvPr id="222" name="Picture 40" descr="LA_PRGB"/>
          <p:cNvPicPr/>
          <p:nvPr/>
        </p:nvPicPr>
        <p:blipFill>
          <a:blip r:embed="rId2"/>
          <a:stretch/>
        </p:blipFill>
        <p:spPr>
          <a:xfrm>
            <a:off x="8381880" y="5605560"/>
            <a:ext cx="567000" cy="871560"/>
          </a:xfrm>
          <a:prstGeom prst="rect">
            <a:avLst/>
          </a:prstGeom>
          <a:ln w="3240">
            <a:solidFill>
              <a:srgbClr val="ffffff"/>
            </a:solidFill>
            <a:miter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33"/>
          <p:cNvSpPr/>
          <p:nvPr/>
        </p:nvSpPr>
        <p:spPr>
          <a:xfrm>
            <a:off x="0" y="6613560"/>
            <a:ext cx="9144000" cy="244440"/>
          </a:xfrm>
          <a:prstGeom prst="rect">
            <a:avLst/>
          </a:prstGeom>
          <a:solidFill>
            <a:srgbClr val="0014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0010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143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00143f"/>
              </a:solidFill>
              <a:latin typeface="Arial Black"/>
            </a:endParaRPr>
          </a:p>
        </p:txBody>
      </p:sp>
      <p:sp>
        <p:nvSpPr>
          <p:cNvPr id="261" name="Text Box 31"/>
          <p:cNvSpPr/>
          <p:nvPr/>
        </p:nvSpPr>
        <p:spPr>
          <a:xfrm>
            <a:off x="0" y="661356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ocal knowledge   </a:t>
            </a:r>
            <a:r>
              <a:rPr b="0" lang="en-US" sz="1000" spc="-1" strike="noStrike">
                <a:solidFill>
                  <a:srgbClr val="ffffff"/>
                </a:solidFill>
                <a:latin typeface="Wingdings"/>
                <a:ea typeface="Wingdings"/>
              </a:rPr>
              <a:t>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  International experience   </a:t>
            </a:r>
            <a:r>
              <a:rPr b="0" lang="en-US" sz="1000" spc="-1" strike="noStrike">
                <a:solidFill>
                  <a:srgbClr val="ffffff"/>
                </a:solidFill>
                <a:latin typeface="Wingdings"/>
                <a:ea typeface="Wingdings"/>
              </a:rPr>
              <a:t>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  Focused on 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38"/>
          <p:cNvSpPr/>
          <p:nvPr/>
        </p:nvSpPr>
        <p:spPr>
          <a:xfrm>
            <a:off x="0" y="0"/>
            <a:ext cx="9144000" cy="24444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228240" y="1100160"/>
            <a:ext cx="8001000" cy="537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Aft>
                <a:spcPts val="624"/>
              </a:spcAft>
              <a:buClr>
                <a:srgbClr val="f5821f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143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143f"/>
              </a:solidFill>
              <a:latin typeface="Arial"/>
            </a:endParaRPr>
          </a:p>
          <a:p>
            <a:pPr lvl="1" marL="571680" indent="-228600">
              <a:spcAft>
                <a:spcPts val="624"/>
              </a:spcAft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143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143f"/>
              </a:solidFill>
              <a:latin typeface="Arial"/>
            </a:endParaRPr>
          </a:p>
          <a:p>
            <a:pPr lvl="2" marL="863640" indent="-177840">
              <a:spcAft>
                <a:spcPts val="624"/>
              </a:spcAft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143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143f"/>
              </a:solidFill>
              <a:latin typeface="Arial"/>
            </a:endParaRPr>
          </a:p>
          <a:p>
            <a:pPr lvl="3" marL="1028880" indent="-51120">
              <a:spcAft>
                <a:spcPts val="624"/>
              </a:spcAft>
              <a:buClr>
                <a:srgbClr val="80808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143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143f"/>
              </a:solidFill>
              <a:latin typeface="Arial"/>
            </a:endParaRPr>
          </a:p>
          <a:p>
            <a:pPr lvl="4" marL="1206360" indent="165240">
              <a:spcAft>
                <a:spcPts val="624"/>
              </a:spcAft>
              <a:buClr>
                <a:srgbClr val="f5821f"/>
              </a:buClr>
              <a:buSzPct val="8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143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143f"/>
              </a:solidFill>
              <a:latin typeface="Arial"/>
            </a:endParaRPr>
          </a:p>
          <a:p>
            <a:pPr lvl="5" marL="1206360" indent="165240">
              <a:spcAft>
                <a:spcPts val="624"/>
              </a:spcAft>
              <a:buClr>
                <a:srgbClr val="000000"/>
              </a:buClr>
              <a:buSzPct val="8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143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143f"/>
              </a:solidFill>
              <a:latin typeface="Arial"/>
            </a:endParaRPr>
          </a:p>
          <a:p>
            <a:pPr lvl="6" marL="1206360" indent="165240">
              <a:spcAft>
                <a:spcPts val="624"/>
              </a:spcAft>
              <a:buClr>
                <a:srgbClr val="000000"/>
              </a:buClr>
              <a:buSzPct val="8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143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143f"/>
              </a:solidFill>
              <a:latin typeface="Arial"/>
            </a:endParaRPr>
          </a:p>
        </p:txBody>
      </p:sp>
      <p:pic>
        <p:nvPicPr>
          <p:cNvPr id="264" name="Picture 41" descr=""/>
          <p:cNvPicPr/>
          <p:nvPr/>
        </p:nvPicPr>
        <p:blipFill>
          <a:blip r:embed="rId2"/>
          <a:srcRect l="17606" t="28212" r="13319" b="35989"/>
          <a:stretch/>
        </p:blipFill>
        <p:spPr>
          <a:xfrm>
            <a:off x="7389720" y="299880"/>
            <a:ext cx="1677960" cy="538200"/>
          </a:xfrm>
          <a:prstGeom prst="rect">
            <a:avLst/>
          </a:prstGeom>
          <a:ln w="0">
            <a:noFill/>
          </a:ln>
        </p:spPr>
      </p:pic>
      <p:sp>
        <p:nvSpPr>
          <p:cNvPr id="265" name="PlaceHolder 3"/>
          <p:cNvSpPr>
            <a:spLocks noGrp="1"/>
          </p:cNvSpPr>
          <p:nvPr>
            <p:ph type="sldNum" idx="2"/>
          </p:nvPr>
        </p:nvSpPr>
        <p:spPr>
          <a:xfrm>
            <a:off x="7009920" y="661320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B4F9B-7020-47AF-A077-44B4487B58D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dt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ftr" idx="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sldNum" idx="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7E6BD-AF92-494F-BE16-152165B1481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0010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143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00143f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228240" y="1100160"/>
            <a:ext cx="8001000" cy="537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Aft>
                <a:spcPts val="561"/>
              </a:spcAft>
              <a:buClr>
                <a:srgbClr val="f5821f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43f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143f"/>
              </a:solidFill>
              <a:latin typeface="Arial"/>
            </a:endParaRPr>
          </a:p>
          <a:p>
            <a:pPr lvl="1" marL="571680" indent="-228600">
              <a:spcAft>
                <a:spcPts val="561"/>
              </a:spcAft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43f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143f"/>
              </a:solidFill>
              <a:latin typeface="Arial"/>
            </a:endParaRPr>
          </a:p>
          <a:p>
            <a:pPr lvl="2" marL="863640" indent="-177840">
              <a:spcAft>
                <a:spcPts val="561"/>
              </a:spcAft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43f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143f"/>
              </a:solidFill>
              <a:latin typeface="Arial"/>
            </a:endParaRPr>
          </a:p>
          <a:p>
            <a:pPr lvl="3" marL="1028880" indent="-51120">
              <a:spcAft>
                <a:spcPts val="561"/>
              </a:spcAft>
              <a:buClr>
                <a:srgbClr val="80808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43f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143f"/>
              </a:solidFill>
              <a:latin typeface="Arial"/>
            </a:endParaRPr>
          </a:p>
          <a:p>
            <a:pPr lvl="4" marL="1206360" indent="165240">
              <a:spcAft>
                <a:spcPts val="561"/>
              </a:spcAft>
              <a:buClr>
                <a:srgbClr val="f5821f"/>
              </a:buClr>
              <a:buSzPct val="8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43f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143f"/>
              </a:solidFill>
              <a:latin typeface="Arial"/>
            </a:endParaRPr>
          </a:p>
          <a:p>
            <a:pPr lvl="5" marL="1206360" indent="165240">
              <a:spcAft>
                <a:spcPts val="561"/>
              </a:spcAft>
              <a:buClr>
                <a:srgbClr val="000000"/>
              </a:buClr>
              <a:buSzPct val="8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43f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143f"/>
              </a:solidFill>
              <a:latin typeface="Arial"/>
            </a:endParaRPr>
          </a:p>
          <a:p>
            <a:pPr lvl="6" marL="1206360" indent="165240">
              <a:spcAft>
                <a:spcPts val="561"/>
              </a:spcAft>
              <a:buClr>
                <a:srgbClr val="000000"/>
              </a:buClr>
              <a:buSzPct val="8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43f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143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Rectangle 2"/>
          <p:cNvSpPr/>
          <p:nvPr/>
        </p:nvSpPr>
        <p:spPr>
          <a:xfrm>
            <a:off x="304920" y="495360"/>
            <a:ext cx="6705360" cy="8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 Black"/>
              </a:rPr>
              <a:t>SIL(E) Contract No. 9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 Black"/>
              </a:rPr>
              <a:t>Lei Tung Station, South Horizons Station &amp; Tun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Rectangle 3"/>
          <p:cNvSpPr/>
          <p:nvPr/>
        </p:nvSpPr>
        <p:spPr>
          <a:xfrm>
            <a:off x="304920" y="1417680"/>
            <a:ext cx="685800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liding Lifting Collar for Percussive Pil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1" name="Carlos-cut2.wmv" descr=""/>
          <p:cNvPicPr/>
          <p:nvPr/>
        </p:nvPicPr>
        <p:blipFill>
          <a:blip r:embed="rId1"/>
          <a:stretch/>
        </p:blipFill>
        <p:spPr>
          <a:xfrm>
            <a:off x="0" y="1968480"/>
            <a:ext cx="9166320" cy="464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44426" fill="hold"/>
                                        <p:tgtEl>
                                          <p:spTgt spid="14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1421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1421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14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8T04:32:38Z</dcterms:created>
  <dc:creator>kreade</dc:creator>
  <dc:description/>
  <dc:language>en-US</dc:language>
  <cp:lastModifiedBy>Pak, N. H. William</cp:lastModifiedBy>
  <cp:lastPrinted>2013-01-21T10:10:12Z</cp:lastPrinted>
  <dcterms:modified xsi:type="dcterms:W3CDTF">2013-04-13T00:57:30Z</dcterms:modified>
  <cp:revision>1518</cp:revision>
  <dc:subject/>
  <dc:title>Slide 1</dc:title>
</cp:coreProperties>
</file>