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B97-73BB-4723-B1FC-F01F2269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F76-44ED-4C25-B749-B1FE297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F3C-B078-40BF-8B63-2CB3CEF6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D2F-41FB-40B2-8F09-39623269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A22-B7AC-42EB-BACD-4F9F4ED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4A7-DC9B-49A3-BF47-72B2E17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BEF-C169-4E92-99A1-9985760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9E5-20EC-4463-8ABA-4B4CE08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F92-CAFC-4D1D-96BA-62E8662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742-E3D4-440E-BC82-2A92BDD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19-524F-49C5-88C5-9818F308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6A3-F09B-4547-986C-3F2F14B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E07-B503-4F95-A96E-1694A0FFE9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6F6C-1DFE-4BA8-AFA1-9D917606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134136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Arial"/>
              </a:rPr>
              <a:t>參賽合約：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中華電力變小型土木工程定期合約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Agre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Design and Construction of Minor Building/Civil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ing Works at CLP Power’s Premises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11280" y="2854440"/>
            <a:ext cx="835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Arial"/>
              </a:rPr>
              <a:t>參賽項目：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拆門易裝置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Door Dismantl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5651640" y="2417760"/>
            <a:ext cx="3168360" cy="4224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633240" y="4221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Arial"/>
              </a:rPr>
              <a:t>參賽機構：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金城營造有限公司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m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ng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.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6" name="001.mp3" descr=""/>
          <p:cNvPicPr/>
          <p:nvPr/>
        </p:nvPicPr>
        <p:blipFill>
          <a:blip r:embed="rId2"/>
          <a:stretch/>
        </p:blipFill>
        <p:spPr>
          <a:xfrm>
            <a:off x="468360" y="5778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更改耐火鐵門設計，加入可供裝設吊環設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5148360" y="3141720"/>
            <a:ext cx="431640" cy="1512720"/>
          </a:xfrm>
          <a:prstGeom prst="rightArrow">
            <a:avLst>
              <a:gd name="adj1" fmla="val 51074"/>
              <a:gd name="adj2" fmla="val 613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41" name="群組 3"/>
          <p:cNvGrpSpPr/>
          <p:nvPr/>
        </p:nvGrpSpPr>
        <p:grpSpPr>
          <a:xfrm>
            <a:off x="468360" y="4437000"/>
            <a:ext cx="2951280" cy="2889360"/>
            <a:chOff x="468360" y="4437000"/>
            <a:chExt cx="2951280" cy="2889360"/>
          </a:xfrm>
        </p:grpSpPr>
        <p:sp>
          <p:nvSpPr>
            <p:cNvPr id="142" name="Text Box 9"/>
            <p:cNvSpPr/>
            <p:nvPr/>
          </p:nvSpPr>
          <p:spPr>
            <a:xfrm>
              <a:off x="826920" y="6389640"/>
              <a:ext cx="2592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裝上吊眼螺栓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43" name="Picture 13" descr="IMG_4690"/>
            <p:cNvPicPr/>
            <p:nvPr/>
          </p:nvPicPr>
          <p:blipFill>
            <a:blip r:embed="rId1"/>
            <a:stretch/>
          </p:blipFill>
          <p:spPr>
            <a:xfrm>
              <a:off x="468360" y="4437000"/>
              <a:ext cx="259092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群組 2"/>
          <p:cNvGrpSpPr/>
          <p:nvPr/>
        </p:nvGrpSpPr>
        <p:grpSpPr>
          <a:xfrm>
            <a:off x="2700360" y="1628640"/>
            <a:ext cx="2592360" cy="3095640"/>
            <a:chOff x="2700360" y="1628640"/>
            <a:chExt cx="2592360" cy="3095640"/>
          </a:xfrm>
        </p:grpSpPr>
        <p:sp>
          <p:nvSpPr>
            <p:cNvPr id="145" name="Text Box 8"/>
            <p:cNvSpPr/>
            <p:nvPr/>
          </p:nvSpPr>
          <p:spPr>
            <a:xfrm>
              <a:off x="2700360" y="3787560"/>
              <a:ext cx="2592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拆走用以密封吼洞之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螺絲及於吊運後裝回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46" name="Picture 14" descr="IMG_4691"/>
            <p:cNvPicPr/>
            <p:nvPr/>
          </p:nvPicPr>
          <p:blipFill>
            <a:blip r:embed="rId2"/>
            <a:stretch/>
          </p:blipFill>
          <p:spPr>
            <a:xfrm>
              <a:off x="3132000" y="1628640"/>
              <a:ext cx="180036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群組 1"/>
          <p:cNvGrpSpPr/>
          <p:nvPr/>
        </p:nvGrpSpPr>
        <p:grpSpPr>
          <a:xfrm>
            <a:off x="0" y="1628640"/>
            <a:ext cx="2592360" cy="3097440"/>
            <a:chOff x="0" y="1628640"/>
            <a:chExt cx="2592360" cy="3097440"/>
          </a:xfrm>
        </p:grpSpPr>
        <p:sp>
          <p:nvSpPr>
            <p:cNvPr id="148" name="Text Box 7"/>
            <p:cNvSpPr/>
            <p:nvPr/>
          </p:nvSpPr>
          <p:spPr>
            <a:xfrm>
              <a:off x="0" y="3789360"/>
              <a:ext cx="2592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耐火鐵門預留吊眼螺栓吼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49" name="Picture 15" descr="IMG_4693_5628765"/>
            <p:cNvPicPr/>
            <p:nvPr/>
          </p:nvPicPr>
          <p:blipFill>
            <a:blip r:embed="rId3"/>
            <a:stretch/>
          </p:blipFill>
          <p:spPr>
            <a:xfrm>
              <a:off x="610920" y="1628640"/>
              <a:ext cx="1800360" cy="21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6" descr="IMG_4816"/>
          <p:cNvPicPr/>
          <p:nvPr/>
        </p:nvPicPr>
        <p:blipFill>
          <a:blip r:embed="rId4"/>
          <a:stretch/>
        </p:blipFill>
        <p:spPr>
          <a:xfrm>
            <a:off x="5796000" y="1628640"/>
            <a:ext cx="3133800" cy="4176720"/>
          </a:xfrm>
          <a:prstGeom prst="rect">
            <a:avLst/>
          </a:prstGeom>
          <a:ln w="0">
            <a:noFill/>
          </a:ln>
        </p:spPr>
      </p:pic>
      <p:pic>
        <p:nvPicPr>
          <p:cNvPr id="151" name="010.mp3" descr=""/>
          <p:cNvPicPr/>
          <p:nvPr/>
        </p:nvPicPr>
        <p:blipFill>
          <a:blip r:embed="rId5"/>
          <a:stretch/>
        </p:blipFill>
        <p:spPr>
          <a:xfrm>
            <a:off x="8172360" y="5950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8"/>
          <p:cNvSpPr/>
          <p:nvPr/>
        </p:nvSpPr>
        <p:spPr>
          <a:xfrm>
            <a:off x="539640" y="1268280"/>
            <a:ext cx="82803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06600"/>
                </a:solidFill>
                <a:uFillTx/>
                <a:latin typeface="Arial"/>
              </a:rPr>
              <a:t>拆門易裝置成效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大量減少裝拆過程中之體力處理操作；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能於裝拆過程中穩固承托鐵門，防止不必耍擺動或翻塌；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減少裝拆人手及減少裝拆時間 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人手可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~8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人減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人，能減少準備工作，如：安裝手動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吊鏈以協助穩固鐵門或裝設其他固定鐵門措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設備設有可調較配件，以適合不同大小之鐵門裝拆。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可於裝拆過程輕易以裝置作出調較，使裝拆過程更順利。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84360" y="5950080"/>
            <a:ext cx="8065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~End~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55" name="011.mp3" descr=""/>
          <p:cNvPicPr/>
          <p:nvPr/>
        </p:nvPicPr>
        <p:blipFill>
          <a:blip r:embed="rId1"/>
          <a:stretch/>
        </p:blipFill>
        <p:spPr>
          <a:xfrm>
            <a:off x="684360" y="5886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704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480" y="907920"/>
            <a:ext cx="1114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539640" y="1528920"/>
            <a:ext cx="43196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近年來，於物業管理行業屢有發生與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破舊大型鐵門有關之嚴重意外事故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，鑒於本工程合約亦需經常為中電變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電站更換或翻修重型鐵門；有見及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此，本公司聯同有關專業分判商，共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同研發一款專為裝拆重型鐵門而設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之裝拆工具，藉以減少以往裝拆鐵門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過程中出現之體力處理工作風險及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裝拆過程中鐵門不穩塌下之風險，令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工人於更換鐵門時能更輕鬆及安全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地進行工作。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0" name="Picture 3" descr="C:\Users\georgelau\Documents\06la3p3newa.jpg"/>
          <p:cNvPicPr/>
          <p:nvPr/>
        </p:nvPicPr>
        <p:blipFill>
          <a:blip r:embed="rId1"/>
          <a:stretch/>
        </p:blipFill>
        <p:spPr>
          <a:xfrm>
            <a:off x="5510160" y="3790800"/>
            <a:ext cx="334800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41964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002.mp3" descr=""/>
          <p:cNvPicPr/>
          <p:nvPr/>
        </p:nvPicPr>
        <p:blipFill>
          <a:blip r:embed="rId3"/>
          <a:stretch/>
        </p:blipFill>
        <p:spPr>
          <a:xfrm>
            <a:off x="581040" y="5843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31000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-6480" y="1444680"/>
            <a:ext cx="3975120" cy="543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31640" y="693720"/>
            <a:ext cx="11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06600"/>
                </a:solidFill>
                <a:uFillTx/>
                <a:latin typeface="Arial"/>
              </a:rPr>
              <a:t>設計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62520" y="693720"/>
            <a:ext cx="31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06600"/>
                </a:solidFill>
                <a:uFillTx/>
                <a:latin typeface="Arial"/>
              </a:rPr>
              <a:t>開發概念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7" name="Picture 19" descr=""/>
          <p:cNvPicPr/>
          <p:nvPr/>
        </p:nvPicPr>
        <p:blipFill>
          <a:blip r:embed="rId2"/>
          <a:stretch/>
        </p:blipFill>
        <p:spPr>
          <a:xfrm>
            <a:off x="3670200" y="957240"/>
            <a:ext cx="1955880" cy="310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3"/>
          <a:stretch/>
        </p:blipFill>
        <p:spPr>
          <a:xfrm>
            <a:off x="2152800" y="1316160"/>
            <a:ext cx="1919160" cy="131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IMG_0138"/>
          <p:cNvPicPr/>
          <p:nvPr/>
        </p:nvPicPr>
        <p:blipFill>
          <a:blip r:embed="rId4"/>
          <a:stretch/>
        </p:blipFill>
        <p:spPr>
          <a:xfrm>
            <a:off x="3591000" y="4017960"/>
            <a:ext cx="2359080" cy="2571840"/>
          </a:xfrm>
          <a:prstGeom prst="rect">
            <a:avLst/>
          </a:prstGeom>
          <a:ln w="0">
            <a:noFill/>
          </a:ln>
        </p:spPr>
      </p:pic>
      <p:sp>
        <p:nvSpPr>
          <p:cNvPr id="60" name="直線接點 3"/>
          <p:cNvSpPr/>
          <p:nvPr/>
        </p:nvSpPr>
        <p:spPr>
          <a:xfrm flipV="1">
            <a:off x="3851280" y="1267920"/>
            <a:ext cx="828720" cy="36036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6084720" y="1484280"/>
            <a:ext cx="27734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減少安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拆除過程中之體力處理操作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能於裝拆過程中穩固鐵門，防止翻塌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設備需能處理大部份需更換之鐵門尺寸及重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0KG~200KG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62" name="003.mp3" descr=""/>
          <p:cNvPicPr/>
          <p:nvPr/>
        </p:nvPicPr>
        <p:blipFill>
          <a:blip r:embed="rId5"/>
          <a:stretch/>
        </p:blipFill>
        <p:spPr>
          <a:xfrm>
            <a:off x="8248680" y="5843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拆門易裝置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65" name="群組 2"/>
          <p:cNvGrpSpPr/>
          <p:nvPr/>
        </p:nvGrpSpPr>
        <p:grpSpPr>
          <a:xfrm>
            <a:off x="0" y="2133720"/>
            <a:ext cx="9144000" cy="4032000"/>
            <a:chOff x="0" y="2133720"/>
            <a:chExt cx="9144000" cy="4032000"/>
          </a:xfrm>
        </p:grpSpPr>
        <p:sp>
          <p:nvSpPr>
            <p:cNvPr id="66" name="AutoShape 13"/>
            <p:cNvSpPr/>
            <p:nvPr/>
          </p:nvSpPr>
          <p:spPr>
            <a:xfrm>
              <a:off x="594036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84328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68" name="Picture 27" descr="\\Websr4\Group_home\Civil\BMD Safety\SHE Promotion Activities\WB_Innovative Safety Innitiative Award 2013\removal seuence\Removal (6).JPG"/>
            <p:cNvPicPr/>
            <p:nvPr/>
          </p:nvPicPr>
          <p:blipFill>
            <a:blip r:embed="rId1"/>
            <a:stretch/>
          </p:blipFill>
          <p:spPr>
            <a:xfrm>
              <a:off x="6588360" y="2133720"/>
              <a:ext cx="21603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5" descr=""/>
            <p:cNvPicPr/>
            <p:nvPr/>
          </p:nvPicPr>
          <p:blipFill>
            <a:blip r:embed="rId2"/>
            <a:stretch/>
          </p:blipFill>
          <p:spPr>
            <a:xfrm>
              <a:off x="3492360" y="2133720"/>
              <a:ext cx="2158920" cy="28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31"/>
            <p:cNvGrpSpPr/>
            <p:nvPr/>
          </p:nvGrpSpPr>
          <p:grpSpPr>
            <a:xfrm>
              <a:off x="0" y="2133720"/>
              <a:ext cx="2987640" cy="4032000"/>
              <a:chOff x="0" y="2133720"/>
              <a:chExt cx="2987640" cy="4032000"/>
            </a:xfrm>
          </p:grpSpPr>
          <p:pic>
            <p:nvPicPr>
              <p:cNvPr id="71" name="Picture 24" descr="\\Websr4\Group_home\Civil\BMD Safety\SHE Promotion Activities\WB_Innovative Safety Innitiative Award 2013\removal seuence\Removal (2).JPG"/>
              <p:cNvPicPr/>
              <p:nvPr/>
            </p:nvPicPr>
            <p:blipFill>
              <a:blip r:embed="rId3"/>
              <a:stretch/>
            </p:blipFill>
            <p:spPr>
              <a:xfrm>
                <a:off x="504720" y="2133720"/>
                <a:ext cx="2160720" cy="28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24"/>
              <p:cNvSpPr/>
              <p:nvPr/>
            </p:nvSpPr>
            <p:spPr>
              <a:xfrm>
                <a:off x="0" y="5229360"/>
                <a:ext cx="298764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80880" indent="-38088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</a:rPr>
                  <a:t>準備拆門易裝置到工作位置</a:t>
                </a:r>
                <a:endParaRPr b="0" lang="en-US" sz="14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  <p:sp>
          <p:nvSpPr>
            <p:cNvPr id="73" name="Text Box 25"/>
            <p:cNvSpPr/>
            <p:nvPr/>
          </p:nvSpPr>
          <p:spPr>
            <a:xfrm>
              <a:off x="313200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拆門易裝置裝到需拆除之鐵門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Text Box 32"/>
            <p:cNvSpPr/>
            <p:nvPr/>
          </p:nvSpPr>
          <p:spPr>
            <a:xfrm>
              <a:off x="6156360" y="5229360"/>
              <a:ext cx="29876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鐵門鎖緊於拆門易裝置上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pic>
        <p:nvPicPr>
          <p:cNvPr id="75" name="004.mp3" descr=""/>
          <p:cNvPicPr/>
          <p:nvPr/>
        </p:nvPicPr>
        <p:blipFill>
          <a:blip r:embed="rId4"/>
          <a:stretch/>
        </p:blipFill>
        <p:spPr>
          <a:xfrm>
            <a:off x="504720" y="5697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15000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拆門易裝置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78" name="群組 1"/>
          <p:cNvGrpSpPr/>
          <p:nvPr/>
        </p:nvGrpSpPr>
        <p:grpSpPr>
          <a:xfrm>
            <a:off x="0" y="2205000"/>
            <a:ext cx="8748720" cy="3960720"/>
            <a:chOff x="0" y="2205000"/>
            <a:chExt cx="8748720" cy="3960720"/>
          </a:xfrm>
        </p:grpSpPr>
        <p:sp>
          <p:nvSpPr>
            <p:cNvPr id="79" name="AutoShape 13"/>
            <p:cNvSpPr/>
            <p:nvPr/>
          </p:nvSpPr>
          <p:spPr>
            <a:xfrm>
              <a:off x="284328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594036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81" name="Picture 26" descr=""/>
            <p:cNvPicPr/>
            <p:nvPr/>
          </p:nvPicPr>
          <p:blipFill>
            <a:blip r:embed="rId1"/>
            <a:stretch/>
          </p:blipFill>
          <p:spPr>
            <a:xfrm>
              <a:off x="395280" y="2205000"/>
              <a:ext cx="21603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3492360" y="2205000"/>
              <a:ext cx="21589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" descr="\\Websr4\Group_home\Civil\BMD Safety\SHE Promotion Activities\WB_Innovative Safety Innitiative Award 2013\removal seuence\Removal (13).JPG"/>
            <p:cNvPicPr/>
            <p:nvPr/>
          </p:nvPicPr>
          <p:blipFill>
            <a:blip r:embed="rId3"/>
            <a:stretch/>
          </p:blipFill>
          <p:spPr>
            <a:xfrm>
              <a:off x="6588360" y="2205000"/>
              <a:ext cx="21603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1"/>
            <p:cNvSpPr/>
            <p:nvPr/>
          </p:nvSpPr>
          <p:spPr>
            <a:xfrm>
              <a:off x="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拆除門較、氣鼓及其他相連設備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Text Box 12"/>
            <p:cNvSpPr/>
            <p:nvPr/>
          </p:nvSpPr>
          <p:spPr>
            <a:xfrm>
              <a:off x="313200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鐵門從門框甩開拆走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615636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鐵門運送到上落貨區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pic>
        <p:nvPicPr>
          <p:cNvPr id="87" name="005.mp3" descr=""/>
          <p:cNvPicPr/>
          <p:nvPr/>
        </p:nvPicPr>
        <p:blipFill>
          <a:blip r:embed="rId4"/>
          <a:stretch/>
        </p:blipFill>
        <p:spPr>
          <a:xfrm>
            <a:off x="39528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拆門易裝置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90" name="群組 2"/>
          <p:cNvGrpSpPr/>
          <p:nvPr/>
        </p:nvGrpSpPr>
        <p:grpSpPr>
          <a:xfrm>
            <a:off x="0" y="2205000"/>
            <a:ext cx="8748720" cy="3960720"/>
            <a:chOff x="0" y="2205000"/>
            <a:chExt cx="8748720" cy="3960720"/>
          </a:xfrm>
        </p:grpSpPr>
        <p:sp>
          <p:nvSpPr>
            <p:cNvPr id="91" name="AutoShape 13"/>
            <p:cNvSpPr/>
            <p:nvPr/>
          </p:nvSpPr>
          <p:spPr>
            <a:xfrm>
              <a:off x="2843280" y="288900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>
              <a:off x="5940360" y="288900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93" name="Picture 3" descr="\\Websr4\Group_home\Civil\BMD Safety\SHE Promotion Activities\WB_Innovative Safety Innitiative Award 2013\removal seuence\Removal (16).JPG"/>
            <p:cNvPicPr/>
            <p:nvPr/>
          </p:nvPicPr>
          <p:blipFill>
            <a:blip r:embed="rId1"/>
            <a:stretch/>
          </p:blipFill>
          <p:spPr>
            <a:xfrm>
              <a:off x="3492360" y="2205000"/>
              <a:ext cx="21589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\\Websr4\Group_home\Civil\BMD Safety\SHE Promotion Activities\WB_Innovative Safety Innitiative Award 2013\removal seuence\Removal (17).JPG"/>
            <p:cNvPicPr/>
            <p:nvPr/>
          </p:nvPicPr>
          <p:blipFill>
            <a:blip r:embed="rId2"/>
            <a:stretch/>
          </p:blipFill>
          <p:spPr>
            <a:xfrm>
              <a:off x="6588360" y="2239920"/>
              <a:ext cx="21603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1"/>
            <p:cNvSpPr/>
            <p:nvPr/>
          </p:nvSpPr>
          <p:spPr>
            <a:xfrm>
              <a:off x="755640" y="5445000"/>
              <a:ext cx="1728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於鐵門套上吊具埋碼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305892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待吊機吊穩鐵門後，鬆開鎖緊鐵門之裝置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615636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鐵門吊上貨車運走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99" name="Picture 15" descr="Removal (14)2"/>
            <p:cNvPicPr/>
            <p:nvPr/>
          </p:nvPicPr>
          <p:blipFill>
            <a:blip r:embed="rId3"/>
            <a:stretch/>
          </p:blipFill>
          <p:spPr>
            <a:xfrm>
              <a:off x="468000" y="2205000"/>
              <a:ext cx="2087640" cy="288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006.mp3" descr=""/>
          <p:cNvPicPr/>
          <p:nvPr/>
        </p:nvPicPr>
        <p:blipFill>
          <a:blip r:embed="rId4"/>
          <a:stretch/>
        </p:blipFill>
        <p:spPr>
          <a:xfrm>
            <a:off x="450720" y="5861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用於安裝鐵門時之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03" name="群組 1"/>
          <p:cNvGrpSpPr/>
          <p:nvPr/>
        </p:nvGrpSpPr>
        <p:grpSpPr>
          <a:xfrm>
            <a:off x="0" y="2276640"/>
            <a:ext cx="8748720" cy="3889080"/>
            <a:chOff x="0" y="2276640"/>
            <a:chExt cx="8748720" cy="3889080"/>
          </a:xfrm>
        </p:grpSpPr>
        <p:sp>
          <p:nvSpPr>
            <p:cNvPr id="104" name="AutoShape 13"/>
            <p:cNvSpPr/>
            <p:nvPr/>
          </p:nvSpPr>
          <p:spPr>
            <a:xfrm>
              <a:off x="277164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AutoShape 13"/>
            <p:cNvSpPr/>
            <p:nvPr/>
          </p:nvSpPr>
          <p:spPr>
            <a:xfrm>
              <a:off x="579600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755640" y="5445000"/>
              <a:ext cx="172872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於鐵門由貨車吊運到拆門易裝置上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327672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鎖緊鐵門於裝置上及拆走吊具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15636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將鐵門搬運到安裝地點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10" name="Picture 13" descr="IMG_4760"/>
            <p:cNvPicPr/>
            <p:nvPr/>
          </p:nvPicPr>
          <p:blipFill>
            <a:blip r:embed="rId1"/>
            <a:stretch/>
          </p:blipFill>
          <p:spPr>
            <a:xfrm>
              <a:off x="395280" y="2276640"/>
              <a:ext cx="2158920" cy="28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5" descr="IMG_4853"/>
            <p:cNvPicPr/>
            <p:nvPr/>
          </p:nvPicPr>
          <p:blipFill>
            <a:blip r:embed="rId2"/>
            <a:stretch/>
          </p:blipFill>
          <p:spPr>
            <a:xfrm>
              <a:off x="6443640" y="2279520"/>
              <a:ext cx="2158920" cy="28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6" descr="IMG_0099"/>
            <p:cNvPicPr/>
            <p:nvPr/>
          </p:nvPicPr>
          <p:blipFill>
            <a:blip r:embed="rId3"/>
            <a:stretch/>
          </p:blipFill>
          <p:spPr>
            <a:xfrm>
              <a:off x="3419280" y="2276640"/>
              <a:ext cx="2212920" cy="288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007.mp3" descr=""/>
          <p:cNvPicPr/>
          <p:nvPr/>
        </p:nvPicPr>
        <p:blipFill>
          <a:blip r:embed="rId4"/>
          <a:stretch/>
        </p:blipFill>
        <p:spPr>
          <a:xfrm>
            <a:off x="450720" y="5861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用於安裝鐵門時之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16" name="群組 1"/>
          <p:cNvGrpSpPr/>
          <p:nvPr/>
        </p:nvGrpSpPr>
        <p:grpSpPr>
          <a:xfrm>
            <a:off x="0" y="2133720"/>
            <a:ext cx="8748720" cy="4032000"/>
            <a:chOff x="0" y="2133720"/>
            <a:chExt cx="8748720" cy="4032000"/>
          </a:xfrm>
        </p:grpSpPr>
        <p:sp>
          <p:nvSpPr>
            <p:cNvPr id="117" name="AutoShape 13"/>
            <p:cNvSpPr/>
            <p:nvPr/>
          </p:nvSpPr>
          <p:spPr>
            <a:xfrm>
              <a:off x="277164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AutoShape 13"/>
            <p:cNvSpPr/>
            <p:nvPr/>
          </p:nvSpPr>
          <p:spPr>
            <a:xfrm>
              <a:off x="579600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755640" y="5445000"/>
              <a:ext cx="1728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調較致合適安裝位置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305892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安裝門較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615636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檢查安裝是否妥善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23" name="Picture 13" descr="IMG_4859"/>
            <p:cNvPicPr/>
            <p:nvPr/>
          </p:nvPicPr>
          <p:blipFill>
            <a:blip r:embed="rId1"/>
            <a:stretch/>
          </p:blipFill>
          <p:spPr>
            <a:xfrm>
              <a:off x="323640" y="2133720"/>
              <a:ext cx="215892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4" descr="IMG_4867"/>
            <p:cNvPicPr/>
            <p:nvPr/>
          </p:nvPicPr>
          <p:blipFill>
            <a:blip r:embed="rId2"/>
            <a:stretch/>
          </p:blipFill>
          <p:spPr>
            <a:xfrm>
              <a:off x="3348000" y="2133720"/>
              <a:ext cx="215892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IMG_4870"/>
            <p:cNvPicPr/>
            <p:nvPr/>
          </p:nvPicPr>
          <p:blipFill>
            <a:blip r:embed="rId3"/>
            <a:stretch/>
          </p:blipFill>
          <p:spPr>
            <a:xfrm>
              <a:off x="6443640" y="2133720"/>
              <a:ext cx="2158920" cy="2878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351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00"/>
                </a:solidFill>
                <a:uFillTx/>
                <a:latin typeface="Arial"/>
              </a:rPr>
              <a:t>用於安裝鐵門時之操作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79640" y="73080"/>
            <a:ext cx="5400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Safety Initiative Award 2013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No: OA: 4610000268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mission Title: Easy Door Dismantle 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IA 046 &gt;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28" name="群組 1"/>
          <p:cNvGrpSpPr/>
          <p:nvPr/>
        </p:nvGrpSpPr>
        <p:grpSpPr>
          <a:xfrm>
            <a:off x="0" y="2133720"/>
            <a:ext cx="8748720" cy="4032000"/>
            <a:chOff x="0" y="2133720"/>
            <a:chExt cx="8748720" cy="4032000"/>
          </a:xfrm>
        </p:grpSpPr>
        <p:sp>
          <p:nvSpPr>
            <p:cNvPr id="129" name="AutoShape 13"/>
            <p:cNvSpPr/>
            <p:nvPr/>
          </p:nvSpPr>
          <p:spPr>
            <a:xfrm>
              <a:off x="277164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>
              <a:off x="5796000" y="2852640"/>
              <a:ext cx="431640" cy="1512720"/>
            </a:xfrm>
            <a:prstGeom prst="rightArrow">
              <a:avLst>
                <a:gd name="adj1" fmla="val 51074"/>
                <a:gd name="adj2" fmla="val 613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755640" y="5445000"/>
              <a:ext cx="1728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拆走拆門易裝置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298764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安裝氣鼓及其他相連設備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>
              <a:off x="6156360" y="5229360"/>
              <a:ext cx="2592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0880" indent="-3808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Arial"/>
                </a:rPr>
                <a:t>安裝完成</a:t>
              </a:r>
              <a:endParaRPr b="0" lang="en-US" sz="14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35" name="Picture 13" descr="IMG_4876"/>
            <p:cNvPicPr/>
            <p:nvPr/>
          </p:nvPicPr>
          <p:blipFill>
            <a:blip r:embed="rId1"/>
            <a:stretch/>
          </p:blipFill>
          <p:spPr>
            <a:xfrm>
              <a:off x="323640" y="2133720"/>
              <a:ext cx="215892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IMG_4882"/>
            <p:cNvPicPr/>
            <p:nvPr/>
          </p:nvPicPr>
          <p:blipFill>
            <a:blip r:embed="rId2"/>
            <a:stretch/>
          </p:blipFill>
          <p:spPr>
            <a:xfrm>
              <a:off x="3349440" y="2135160"/>
              <a:ext cx="215892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5" descr="IMG_4887"/>
            <p:cNvPicPr/>
            <p:nvPr/>
          </p:nvPicPr>
          <p:blipFill>
            <a:blip r:embed="rId3"/>
            <a:stretch/>
          </p:blipFill>
          <p:spPr>
            <a:xfrm>
              <a:off x="6443640" y="2133720"/>
              <a:ext cx="2087640" cy="288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0:25:23Z</dcterms:created>
  <dc:creator>alexchow</dc:creator>
  <dc:description/>
  <dc:language>en-US</dc:language>
  <cp:lastModifiedBy>CHAN, Michael Ka Chung</cp:lastModifiedBy>
  <cp:lastPrinted>2013-03-06T07:01:43Z</cp:lastPrinted>
  <dcterms:modified xsi:type="dcterms:W3CDTF">2013-04-26T07:09:54Z</dcterms:modified>
  <cp:revision>241</cp:revision>
  <dc:subject/>
  <dc:title>投影片 1</dc:title>
</cp:coreProperties>
</file>