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media/image12.png" ContentType="image/png"/>
  <Override PartName="/ppt/media/image14.png" ContentType="image/png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797C-0A9F-4B96-865C-F536C5345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8475-F2B3-43D8-B18D-CFE29ACAC4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5030-5DA9-4127-BD7B-39DBFAA46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745F-E787-4781-9C07-5E661F21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07FC-6F22-4041-8FC0-9204B1AAF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371A-86D1-4BC9-945D-E4BC85A4B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CA7F-13B0-4331-B28F-8F880550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8F72-0260-4DD8-B4E1-C92F8513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7432-797B-43CF-B208-23A61D9C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3196-B2C8-4B71-8E20-F238F774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4CA3-E6BD-4E72-A920-F9E5208F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78C6-C6BB-40DA-85BB-1187AA50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26E8-E073-4011-B75F-670B5658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3FA0-44E8-4DE9-B31D-E0EDB5D2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5EA9-51D6-4F05-997D-FB9306DE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95A6-F895-4626-8BDA-E5ED4407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6A2B-674F-45CA-A2D9-954A9AAB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A4F9-833F-4C56-A6DE-DA257CD66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1D23-50BF-4EFD-9E68-BDC16535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7E96BB-BA83-4FC2-A32C-8097452B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458C37-08E5-4FBA-A138-B9A98081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8CFE47-99F7-49D6-B504-7BA45F15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816101-374D-47FB-A4BA-191E1706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706616-4679-48E0-9783-EB1D0351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989D-E65A-4CBA-9377-974A3D74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6493DC-6311-4AFF-94DC-B45236DD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6186EB-C2A3-45DD-9C4D-6EACADD2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DDA8BC-D1EE-4879-9ED5-D319C8CD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08FE7D-07F9-49D2-BD56-BB7177C8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11CE73-3AFB-42A3-AAF7-AC0FE82C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0BC445-36F6-4055-A077-05300DA22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593287-40F5-41D1-B03C-8E092B0A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FFCCA-52AE-4D4D-BA60-8D83E325B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4B533-034E-4B72-BAD0-34E8E224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AA47E-88E2-490C-91AB-52A2C5ED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863B-DC6D-4EB9-A534-6CAF87D0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0EBBC-83A0-486E-B59C-D6B8A048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71C65-41E6-4588-9CDA-8040A183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A395B-DE3A-4D70-A8DE-9167360D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DF4A4-3193-4F6E-9969-74C5117F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53163-5305-4CCC-AE46-B83136BD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B2446-13F7-4E13-8369-27B52978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3ADEF-9BB9-4E4D-8F4E-14FA8C0F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3D084-4216-48C9-8673-0786FE959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0A9C2-D0DC-46DC-A03B-6D600B6A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52E88A-8C99-407B-9F5F-36752E0DB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8293-4E3F-47EA-A2C9-FE3E43E5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C6E509-80AD-411E-A6FC-950BB387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BFCDCB-EA23-4513-8FDA-CAEC75D6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57D0CB-14BA-47A7-BF05-163DDBE1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B9B744-A4D2-4A16-87C6-4BF86346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272701-06B3-4659-B20B-0467C7BB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87FF51-8EEB-4EF4-9A05-BB07B1C5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D87AB3-04B5-43B9-92E2-E345D5BB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0EE5A4-A078-4517-98D0-9E525AE7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A414E0-0442-4A8D-AD14-072FDDEC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33F688-CD48-40CE-AD4E-7ECC2DE80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6DA0-9F42-47D4-9713-D75F8F3D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976AB9-805B-452E-8079-0034DBFDF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AF1679-D1B2-4857-B446-F8E0DB8F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73B75D-B984-4AAE-963B-352E9365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69F3C4-2123-4290-B133-50F8B19C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BCD70B-636D-4232-879B-E71F9E2A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450EF0-DF10-4580-8F46-A9DC6C24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24F5E9-B2A1-4EAB-A819-47EE9C03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76A0DB-1B6A-4489-B93E-77026720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160707-762B-47D6-907D-AE61EB4F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991CAE-0CCC-4C4A-AB36-903560DF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038C-7C65-4724-A9B2-363082D0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03FB7E-5229-411F-B833-C2DD18D5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16AAB7-19A9-4697-9EE3-2BD19D44A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B97599-A533-40DB-83E3-0E833A22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D7C9C9-4435-46AC-A94F-FF44FFAA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70B616-273D-4781-81E6-2A3FCE19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8FF27A-F766-4501-AD49-1909219B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9C54B9-4614-4A3B-BA2E-6CB62598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137123-0382-497F-B322-808ACE96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653BA1-FE6D-48EB-B601-2D2E11BB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8DC487-F37A-4B50-BAE6-8E750CF0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9F9D-FC35-4148-988A-44D6A58F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F0832F-51B9-4B10-9102-EF88F9CE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9198D9-EFEB-4FE6-8DB2-E6EA1998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C928E1-6716-4B79-993A-1FAD78BB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BBFC9B-DFC0-45E6-9035-F21A6B31E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BDF2B4-75F3-4530-A336-4CE80E8A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15CE-46FF-4411-8720-027AEEB1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13CC-130A-4B44-BDAF-569622856378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E1A2-208A-4E55-A219-E29A54955D9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E725-1752-4664-8D32-DC613A74D773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BAA2-0A9A-4943-A4A4-99A5439F52C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6600-1DC6-4EDD-98C7-8B04866AB010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6E44-5E9D-46D2-ADE3-9FD2EAAB423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5F57-6A53-4055-A2AE-44D68F69AD1E}" type="datetime"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5E86-3C7D-43F0-9214-8C9048CB9E6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F72C-9FE5-429D-8F4E-D6EB038638B5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D380-4C20-43B5-8132-9C096E651AB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CAE3-B13D-41CA-A58C-DD2E6A0417ED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FD7E-BCB5-4AE6-AB27-4DA77F8906D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DB84-9484-4148-945C-4FA1BA49C76A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7764-6350-4A9C-811B-F03B620EA29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4674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HK" sz="38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全面改良</a:t>
            </a:r>
            <a:br>
              <a:rPr sz="3800"/>
            </a:br>
            <a:r>
              <a:rPr b="1" lang="zh-HK" sz="4200" spc="-1" strike="noStrike" u="sng">
                <a:solidFill>
                  <a:srgbClr val="575f6d"/>
                </a:solidFill>
                <a:uFillTx/>
                <a:latin typeface="Century Schoolbook"/>
                <a:ea typeface="新細明體"/>
              </a:rPr>
              <a:t>大口徑鑽孔樁混凝土灌注</a:t>
            </a:r>
            <a:br>
              <a:rPr sz="3800"/>
            </a:br>
            <a:r>
              <a:rPr b="1" lang="zh-HK" sz="3800" spc="-1" strike="noStrike">
                <a:solidFill>
                  <a:srgbClr val="575f6d"/>
                </a:solidFill>
                <a:latin typeface="Century Schoolbook"/>
                <a:ea typeface="新細明體"/>
              </a:rPr>
              <a:t>之配套設備</a:t>
            </a:r>
            <a:endParaRPr b="0" lang="en-US" sz="3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59" name="Object 6"/>
          <p:cNvGraphicFramePr/>
          <p:nvPr/>
        </p:nvGraphicFramePr>
        <p:xfrm>
          <a:off x="7981920" y="0"/>
          <a:ext cx="116208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1920" y="0"/>
                    <a:ext cx="11620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Slide Number Placeholder 4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3CF0-0778-4BBB-8E9B-D97E77C9E4A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6" descr="DSCN5761.JPG"/>
          <p:cNvPicPr/>
          <p:nvPr/>
        </p:nvPicPr>
        <p:blipFill>
          <a:blip r:embed="rId3"/>
          <a:stretch/>
        </p:blipFill>
        <p:spPr>
          <a:xfrm>
            <a:off x="2133720" y="1941480"/>
            <a:ext cx="6553080" cy="4764240"/>
          </a:xfrm>
          <a:prstGeom prst="rect">
            <a:avLst/>
          </a:prstGeom>
          <a:ln w="0">
            <a:noFill/>
          </a:ln>
        </p:spPr>
      </p:pic>
      <p:sp>
        <p:nvSpPr>
          <p:cNvPr id="363" name="Oval 4"/>
          <p:cNvSpPr/>
          <p:nvPr/>
        </p:nvSpPr>
        <p:spPr>
          <a:xfrm rot="20910000">
            <a:off x="2408040" y="3045960"/>
            <a:ext cx="5649840" cy="30704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01.wav" descr=""/>
          <p:cNvPicPr/>
          <p:nvPr/>
        </p:nvPicPr>
        <p:blipFill>
          <a:blip r:embed="rId4"/>
          <a:stretch/>
        </p:blipFill>
        <p:spPr>
          <a:xfrm>
            <a:off x="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464" fill="hold"/>
                                        <p:tgtEl>
                                          <p:spTgt spid="3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Object 6"/>
          <p:cNvGraphicFramePr/>
          <p:nvPr/>
        </p:nvGraphicFramePr>
        <p:xfrm>
          <a:off x="8305920" y="0"/>
          <a:ext cx="83808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5920" y="0"/>
                    <a:ext cx="83808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7" name="Rectangle 4" descr=""/>
          <p:cNvPicPr/>
          <p:nvPr/>
        </p:nvPicPr>
        <p:blipFill>
          <a:blip r:embed="rId3"/>
          <a:stretch/>
        </p:blipFill>
        <p:spPr>
          <a:xfrm>
            <a:off x="878040" y="6480"/>
            <a:ext cx="6937200" cy="9079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C:\Documents and Settings\USER\My Documents\_TYSAN\J1110F9 K21 K22 Un Chau Street\Site Photo\2012 03\2012 03 10\DSCN7845.JPG"/>
          <p:cNvPicPr/>
          <p:nvPr/>
        </p:nvPicPr>
        <p:blipFill>
          <a:blip r:embed="rId4"/>
          <a:stretch/>
        </p:blipFill>
        <p:spPr>
          <a:xfrm>
            <a:off x="380880" y="1066680"/>
            <a:ext cx="4496040" cy="3360960"/>
          </a:xfrm>
          <a:prstGeom prst="rect">
            <a:avLst/>
          </a:prstGeom>
          <a:ln w="0">
            <a:noFill/>
          </a:ln>
        </p:spPr>
      </p:pic>
      <p:sp>
        <p:nvSpPr>
          <p:cNvPr id="369" name="Oval 7"/>
          <p:cNvSpPr/>
          <p:nvPr/>
        </p:nvSpPr>
        <p:spPr>
          <a:xfrm rot="20910000">
            <a:off x="1077480" y="1172880"/>
            <a:ext cx="1774800" cy="18144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0" name="Picture 3" descr="C:\Documents and Settings\USER\My Documents\Dropbox\Safety - William Yoki\William\19.1.JPG"/>
          <p:cNvPicPr/>
          <p:nvPr/>
        </p:nvPicPr>
        <p:blipFill>
          <a:blip r:embed="rId5"/>
          <a:stretch/>
        </p:blipFill>
        <p:spPr>
          <a:xfrm>
            <a:off x="4267080" y="2438280"/>
            <a:ext cx="4392720" cy="3291120"/>
          </a:xfrm>
          <a:prstGeom prst="rect">
            <a:avLst/>
          </a:prstGeom>
          <a:ln w="0">
            <a:noFill/>
          </a:ln>
        </p:spPr>
      </p:pic>
      <p:sp>
        <p:nvSpPr>
          <p:cNvPr id="371" name="Oval 9"/>
          <p:cNvSpPr/>
          <p:nvPr/>
        </p:nvSpPr>
        <p:spPr>
          <a:xfrm rot="20910000">
            <a:off x="5678640" y="3238560"/>
            <a:ext cx="2130120" cy="21477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Curved Down Arrow 12"/>
          <p:cNvSpPr/>
          <p:nvPr/>
        </p:nvSpPr>
        <p:spPr>
          <a:xfrm rot="2026800">
            <a:off x="4460400" y="1387080"/>
            <a:ext cx="3000600" cy="986040"/>
          </a:xfrm>
          <a:custGeom>
            <a:avLst/>
            <a:gdLst>
              <a:gd name="textAreaLeft" fmla="*/ 657720 w 3000600"/>
              <a:gd name="textAreaRight" fmla="*/ 2219760 w 3000600"/>
              <a:gd name="textAreaTop" fmla="*/ 132120 h 986040"/>
              <a:gd name="textAreaBottom" fmla="*/ 853920 h 986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70" hR="21600" stAng="10800000" swAng="5400000"/>
                <a:lnTo>
                  <a:pt x="11243" y="0"/>
                </a:lnTo>
                <a:arcTo wR="9470" hR="21600" stAng="-5400000" swAng="3005321"/>
                <a:lnTo>
                  <a:pt x="21021" y="14163"/>
                </a:lnTo>
                <a:lnTo>
                  <a:pt x="19827" y="21600"/>
                </a:lnTo>
                <a:lnTo>
                  <a:pt x="17474" y="14163"/>
                </a:lnTo>
                <a:lnTo>
                  <a:pt x="18361" y="14163"/>
                </a:lnTo>
                <a:arcTo wR="9470" hR="21600" stAng="-2394679" swAng="-2863688"/>
                <a:lnTo>
                  <a:pt x="10357" y="95"/>
                </a:lnTo>
                <a:arcTo wR="9470" hR="21600" stAng="-5541633" swAng="-5258367"/>
                <a:close/>
              </a:path>
              <a:path fill="darkenLess" w="21600" h="21600">
                <a:moveTo>
                  <a:pt x="0" y="21600"/>
                </a:moveTo>
                <a:arcTo wR="9470" hR="21600" stAng="10800000" swAng="5400000"/>
                <a:lnTo>
                  <a:pt x="9470" y="0"/>
                </a:lnTo>
                <a:arcTo wR="9470" hR="21600" stAng="-5400000" swAng="141633"/>
                <a:lnTo>
                  <a:pt x="10357" y="95"/>
                </a:lnTo>
                <a:arcTo wR="9470" hR="21600" stAng="-5541633" swAng="-5258367"/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Rectangle 14" descr=""/>
          <p:cNvPicPr/>
          <p:nvPr/>
        </p:nvPicPr>
        <p:blipFill>
          <a:blip r:embed="rId6"/>
          <a:stretch/>
        </p:blipFill>
        <p:spPr>
          <a:xfrm>
            <a:off x="115920" y="5772240"/>
            <a:ext cx="8150040" cy="1171440"/>
          </a:xfrm>
          <a:prstGeom prst="rect">
            <a:avLst/>
          </a:prstGeom>
          <a:ln w="0">
            <a:noFill/>
          </a:ln>
        </p:spPr>
      </p:pic>
      <p:sp>
        <p:nvSpPr>
          <p:cNvPr id="374" name="Slide Number Placeholder 9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5970-C050-4D7E-9361-F031AD57C11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02.wav" descr=""/>
          <p:cNvPicPr/>
          <p:nvPr/>
        </p:nvPicPr>
        <p:blipFill>
          <a:blip r:embed="rId7"/>
          <a:stretch/>
        </p:blipFill>
        <p:spPr>
          <a:xfrm>
            <a:off x="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4008" fill="hold"/>
                                        <p:tgtEl>
                                          <p:spTgt spid="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Object 6"/>
          <p:cNvGraphicFramePr/>
          <p:nvPr/>
        </p:nvGraphicFramePr>
        <p:xfrm>
          <a:off x="8305920" y="0"/>
          <a:ext cx="83808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5920" y="0"/>
                    <a:ext cx="83808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8" name="Rectangle 2" descr=""/>
          <p:cNvPicPr/>
          <p:nvPr/>
        </p:nvPicPr>
        <p:blipFill>
          <a:blip r:embed="rId3"/>
          <a:stretch/>
        </p:blipFill>
        <p:spPr>
          <a:xfrm>
            <a:off x="1152360" y="6480"/>
            <a:ext cx="6424920" cy="907920"/>
          </a:xfrm>
          <a:prstGeom prst="rect">
            <a:avLst/>
          </a:prstGeom>
          <a:ln w="0">
            <a:noFill/>
          </a:ln>
        </p:spPr>
      </p:pic>
      <p:sp>
        <p:nvSpPr>
          <p:cNvPr id="379" name="Slide Number Placeholder 1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79B4-492A-4857-8A27-93032637206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Picture 8" descr="DSCN5774.JPG"/>
          <p:cNvPicPr/>
          <p:nvPr/>
        </p:nvPicPr>
        <p:blipFill>
          <a:blip r:embed="rId4"/>
          <a:stretch/>
        </p:blipFill>
        <p:spPr>
          <a:xfrm>
            <a:off x="838080" y="1143000"/>
            <a:ext cx="7305840" cy="5486400"/>
          </a:xfrm>
          <a:prstGeom prst="rect">
            <a:avLst/>
          </a:prstGeom>
          <a:ln w="0">
            <a:noFill/>
          </a:ln>
        </p:spPr>
      </p:pic>
      <p:sp>
        <p:nvSpPr>
          <p:cNvPr id="381" name="Oval 5"/>
          <p:cNvSpPr/>
          <p:nvPr/>
        </p:nvSpPr>
        <p:spPr>
          <a:xfrm>
            <a:off x="4038480" y="3962520"/>
            <a:ext cx="685800" cy="609480"/>
          </a:xfrm>
          <a:prstGeom prst="ellipse">
            <a:avLst/>
          </a:prstGeom>
          <a:noFill/>
          <a:ln w="38160">
            <a:solidFill>
              <a:srgbClr val="ffe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Oval 5"/>
          <p:cNvSpPr/>
          <p:nvPr/>
        </p:nvSpPr>
        <p:spPr>
          <a:xfrm>
            <a:off x="5105520" y="3200400"/>
            <a:ext cx="685800" cy="609480"/>
          </a:xfrm>
          <a:prstGeom prst="ellipse">
            <a:avLst/>
          </a:prstGeom>
          <a:noFill/>
          <a:ln w="38160">
            <a:solidFill>
              <a:srgbClr val="ffe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Oval 5"/>
          <p:cNvSpPr/>
          <p:nvPr/>
        </p:nvSpPr>
        <p:spPr>
          <a:xfrm>
            <a:off x="6172200" y="3809880"/>
            <a:ext cx="685800" cy="609840"/>
          </a:xfrm>
          <a:prstGeom prst="ellipse">
            <a:avLst/>
          </a:prstGeom>
          <a:noFill/>
          <a:ln w="38160">
            <a:solidFill>
              <a:srgbClr val="ffe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Oval 5"/>
          <p:cNvSpPr/>
          <p:nvPr/>
        </p:nvSpPr>
        <p:spPr>
          <a:xfrm>
            <a:off x="3048120" y="3581280"/>
            <a:ext cx="685800" cy="609840"/>
          </a:xfrm>
          <a:prstGeom prst="ellipse">
            <a:avLst/>
          </a:prstGeom>
          <a:noFill/>
          <a:ln w="38160">
            <a:solidFill>
              <a:srgbClr val="ffe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Oval 4"/>
          <p:cNvSpPr/>
          <p:nvPr/>
        </p:nvSpPr>
        <p:spPr>
          <a:xfrm rot="20910000">
            <a:off x="1569960" y="2918880"/>
            <a:ext cx="6410520" cy="34880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6" name="03.wav" descr=""/>
          <p:cNvPicPr/>
          <p:nvPr/>
        </p:nvPicPr>
        <p:blipFill>
          <a:blip r:embed="rId5"/>
          <a:stretch/>
        </p:blipFill>
        <p:spPr>
          <a:xfrm>
            <a:off x="-15228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33451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Object 6"/>
          <p:cNvGraphicFramePr/>
          <p:nvPr/>
        </p:nvGraphicFramePr>
        <p:xfrm>
          <a:off x="8305920" y="0"/>
          <a:ext cx="83808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5920" y="0"/>
                    <a:ext cx="83808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9" name="Rectangle 2" descr=""/>
          <p:cNvPicPr/>
          <p:nvPr/>
        </p:nvPicPr>
        <p:blipFill>
          <a:blip r:embed="rId3"/>
          <a:stretch/>
        </p:blipFill>
        <p:spPr>
          <a:xfrm>
            <a:off x="1152360" y="6480"/>
            <a:ext cx="6424920" cy="9079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DSCN5765.JPG"/>
          <p:cNvPicPr/>
          <p:nvPr/>
        </p:nvPicPr>
        <p:blipFill>
          <a:blip r:embed="rId4"/>
          <a:stretch/>
        </p:blipFill>
        <p:spPr>
          <a:xfrm>
            <a:off x="457200" y="990720"/>
            <a:ext cx="4067280" cy="30477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0" descr="DSCN5788.JPG"/>
          <p:cNvPicPr/>
          <p:nvPr/>
        </p:nvPicPr>
        <p:blipFill>
          <a:blip r:embed="rId5"/>
          <a:stretch/>
        </p:blipFill>
        <p:spPr>
          <a:xfrm>
            <a:off x="4572000" y="1447920"/>
            <a:ext cx="3581280" cy="4792680"/>
          </a:xfrm>
          <a:prstGeom prst="rect">
            <a:avLst/>
          </a:prstGeom>
          <a:ln w="0">
            <a:noFill/>
          </a:ln>
        </p:spPr>
      </p:pic>
      <p:pic>
        <p:nvPicPr>
          <p:cNvPr id="392" name="Rectangle 5" descr=""/>
          <p:cNvPicPr/>
          <p:nvPr/>
        </p:nvPicPr>
        <p:blipFill>
          <a:blip r:embed="rId6"/>
          <a:stretch/>
        </p:blipFill>
        <p:spPr>
          <a:xfrm>
            <a:off x="36360" y="4059360"/>
            <a:ext cx="4578480" cy="1884240"/>
          </a:xfrm>
          <a:prstGeom prst="rect">
            <a:avLst/>
          </a:prstGeom>
          <a:ln w="0">
            <a:noFill/>
          </a:ln>
        </p:spPr>
      </p:pic>
      <p:sp>
        <p:nvSpPr>
          <p:cNvPr id="393" name="Oval 7"/>
          <p:cNvSpPr/>
          <p:nvPr/>
        </p:nvSpPr>
        <p:spPr>
          <a:xfrm rot="20910000">
            <a:off x="2855520" y="2115720"/>
            <a:ext cx="1214640" cy="12477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Oval 7"/>
          <p:cNvSpPr/>
          <p:nvPr/>
        </p:nvSpPr>
        <p:spPr>
          <a:xfrm rot="20910000">
            <a:off x="4989240" y="2241360"/>
            <a:ext cx="1214280" cy="12477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Slide Number Placehold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ED56-E2A1-4840-A640-1812667662B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6" name="04.wav" descr=""/>
          <p:cNvPicPr/>
          <p:nvPr/>
        </p:nvPicPr>
        <p:blipFill>
          <a:blip r:embed="rId7"/>
          <a:stretch/>
        </p:blipFill>
        <p:spPr>
          <a:xfrm>
            <a:off x="-15228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7754" fill="hold"/>
                                        <p:tgtEl>
                                          <p:spTgt spid="3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Rectangle 3" descr=""/>
          <p:cNvPicPr/>
          <p:nvPr/>
        </p:nvPicPr>
        <p:blipFill>
          <a:blip r:embed="rId1"/>
          <a:stretch/>
        </p:blipFill>
        <p:spPr>
          <a:xfrm>
            <a:off x="311040" y="4419720"/>
            <a:ext cx="8150400" cy="92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8" name="Object 6"/>
          <p:cNvGraphicFramePr/>
          <p:nvPr/>
        </p:nvGraphicFramePr>
        <p:xfrm>
          <a:off x="2590920" y="152280"/>
          <a:ext cx="3776400" cy="396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52280"/>
                    <a:ext cx="37764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2A55-DDC4-4494-8DE0-6210DB0838F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05.wav" descr=""/>
          <p:cNvPicPr/>
          <p:nvPr/>
        </p:nvPicPr>
        <p:blipFill>
          <a:blip r:embed="rId4"/>
          <a:stretch/>
        </p:blipFill>
        <p:spPr>
          <a:xfrm>
            <a:off x="-15228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02" name="Rectangle 3" descr=""/>
          <p:cNvPicPr/>
          <p:nvPr/>
        </p:nvPicPr>
        <p:blipFill>
          <a:blip r:embed="rId5"/>
          <a:stretch/>
        </p:blipFill>
        <p:spPr>
          <a:xfrm>
            <a:off x="530280" y="5029200"/>
            <a:ext cx="7705800" cy="92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7084" fill="hold"/>
                                        <p:tgtEl>
                                          <p:spTgt spid="4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0:58:15Z</dcterms:created>
  <dc:creator> </dc:creator>
  <dc:description/>
  <dc:language>en-US</dc:language>
  <cp:lastModifiedBy>Edit01</cp:lastModifiedBy>
  <dcterms:modified xsi:type="dcterms:W3CDTF">2013-04-23T15:32:22Z</dcterms:modified>
  <cp:revision>22</cp:revision>
  <dc:subject/>
  <dc:title>全面改良大口徑鑽孔樁混凝土灌注之配套設備</dc:title>
</cp:coreProperties>
</file>